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305F5D-BB5D-448B-B6FA-4BA46B3FE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s must be Release’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it, Revert, and Release all work in low memory without consuming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are used internally by 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Contain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embedding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 within a single stream (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Embedding Serv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oad all its data on ac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write all its data on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the above Common operations work in low memory without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exist because the implementation provided by OLE is not the only possible imple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tat to determin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’s take a look at some exampl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ows represent interface instances held by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iner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bedding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context switch during strea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the storage is trans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example shows that releasing a stream doesn’t cause its changes to be lost, nor does it commit them to the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Revert discards the changes AND disconnects the child from the parent (as shown by no connection between the tw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ually all children will be closed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preload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mental update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 Tilles(3) 93006 OLE 2.0 PDC 5/93 </a:t>
            </a:r>
            <a:fld id="{6615463B-A805-415A-8BB5-6D363ACF3DA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4080" y="955800"/>
            <a:ext cx="8836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 And Compound File Implement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ex Tille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Team Lead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Root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080" y="1736640"/>
            <a:ext cx="757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mo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n ILockBytes instance instead of 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2880" y="493560"/>
            <a:ext cx="859788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reateDoc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e Op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5600" y="1736640"/>
            <a:ext cx="629460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FAILIF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s if file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creates (even if file exi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s file into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GM_CONV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720" y="198108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9000" y="27795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8620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46560" y="46846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81760" y="1066680"/>
            <a:ext cx="2914560" cy="167652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58080" y="2666880"/>
            <a:ext cx="68580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39084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61280" y="3313080"/>
            <a:ext cx="2394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08920" y="1579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2280" y="2084400"/>
            <a:ext cx="384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75200" y="2065320"/>
            <a:ext cx="35989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tate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47840" y="528480"/>
            <a:ext cx="825012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06640" y="147492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47840" y="561960"/>
            <a:ext cx="825012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3480" y="1733400"/>
            <a:ext cx="7277040" cy="40575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362320"/>
            <a:ext cx="2590920" cy="28576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2705040" cy="2876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3640" y="3733920"/>
            <a:ext cx="182880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74880" y="16938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41600" y="234144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80120" y="2303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41920" y="3693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733920"/>
            <a:ext cx="2610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41600" y="384660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55800" y="2008080"/>
            <a:ext cx="1647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75200" y="2065320"/>
            <a:ext cx="35989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5240" y="93348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l in abData (not sh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Writte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Written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1720" y="1143000"/>
            <a:ext cx="80820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Rea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Read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22440" y="228600"/>
            <a:ext cx="78994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m is a valid IStream in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to beginning of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, STREAM_SEEK_SET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22, STREAM_SEEK_CU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007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-7, STREAM_SEEK_E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uncate the stream to 0 b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vanced Stream O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7480" y="1736640"/>
            <a:ext cx="771048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stance with a new seek pointer (same 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data between streams (can be   same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gether, these methods can create and remove space within a 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9400" y="1054080"/>
            <a:ext cx="8847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ream *pstmClo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ARGE_INTEGER ulicb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0xffffffff, 0xffffffff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lone(&amp;pstmClon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Clone-&gt;Seek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000, STREAM_SEEK_CUR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opyTo(pstmClone, ulicb, NULL,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’ve now created a 1000 byte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Clone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71760" y="11239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101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34000" y="47815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17524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15296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48040" y="4114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8672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10000" y="169560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4560" y="1943280"/>
            <a:ext cx="121932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15080" y="1943280"/>
            <a:ext cx="876240" cy="10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19280" y="3790800"/>
            <a:ext cx="476280" cy="3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181480" y="3772080"/>
            <a:ext cx="64800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8040" y="3790800"/>
            <a:ext cx="106668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95880" y="5543640"/>
            <a:ext cx="104796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4960" y="1179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2720" y="1808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74760" y="3103560"/>
            <a:ext cx="48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6880" y="418932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870520" y="3046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84480" y="41133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13480" y="48751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8968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08644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41600" y="512280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809880"/>
            <a:ext cx="152280" cy="127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8280" y="6094440"/>
            <a:ext cx="366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ound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65240" y="7632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 | STGM_CRE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5240" y="19368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1720" y="669960"/>
            <a:ext cx="80820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estroying a child storage causes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f its child streams and substor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o also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the same method to destroy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Just a data stream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ac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55600" y="1736640"/>
            <a:ext cx="683244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Storages buff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l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ges until client Com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on Direct objects is 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ffered changes can be discarded by calling 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380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248440" y="577224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4600" y="16938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4600" y="5865840"/>
            <a:ext cx="1784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95520" y="148608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57360" y="3333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9552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57400" y="1736640"/>
            <a:ext cx="68310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embeddings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old and new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user overwrite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91120" y="10288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14479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77120" y="1084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660840" y="1484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2760" y="14652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5520" y="285588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1840" y="4075200"/>
            <a:ext cx="1657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2280" y="95256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76400" y="1123920"/>
            <a:ext cx="64800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648400" y="1562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48360" y="24955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2200" y="29145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534000" y="2550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8080" y="2951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29160" y="241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33640" y="2590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05640" y="3029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40384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00360" y="44578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72160" y="4094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660840" y="449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67320" y="39625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743440" y="45720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4680" y="552456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8520" y="59436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610320" y="55800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794040" y="59799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81600" y="605808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9080" y="556092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00640" y="97164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4480" y="1390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86280" y="1027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70360" y="1427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957920" y="150480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57880" y="24382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71720" y="2857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843520" y="2494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27240" y="2894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14800" y="29718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040" y="398160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0988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881680" y="40370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65400" y="44370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052960" y="451476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3840" y="54673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48040" y="588636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919840" y="55227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03560" y="5923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091120" y="60008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11472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1840" y="540864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920" y="184644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57360" y="1447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57360" y="335268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5736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/Canc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0960" y="974880"/>
            <a:ext cx="87217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Save == 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 visible to container (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e system if this is the roo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Commit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iscards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.  Also invalidates all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Stream and IStorage in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ver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mis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93680" y="1736640"/>
            <a:ext cx="6956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direct storages must be at least as restri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transacted storages can have any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read-only storages are modifiable but not Comm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 returns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Restri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28920" y="1143000"/>
            <a:ext cx="608796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I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able, direct root storage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root open modes require copying the underly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 Parame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73664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bitwise or’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EFAULT (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TGC_ONLYIF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OVER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ANGEROUSLYCOMMIT-      MERELYTODISK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41360" y="77616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“sample.dfl”, 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DENY_NON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 NULL, 0, 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chang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Commit(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_ONLYIFCURR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TG_E_NOTCURR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omeone else saved after we o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 can now prompt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if we car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Commit(0);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mbedding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6640"/>
            <a:ext cx="71629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ata streams per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 on open/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during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Set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text switching in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IStorage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349280" y="1736640"/>
            <a:ext cx="644508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contents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Copy, Sav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child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90560" y="1736640"/>
            <a:ext cx="75643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numerate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reate/modif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et name, mode,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 It A Compound F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4080" y="1736640"/>
            <a:ext cx="75754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applications which support a variety of fil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bove, except takes an ILockBytes instance instead of a fi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69960" y="272880"/>
            <a:ext cx="78040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IsStorage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“sample.dfl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_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 if (GetScode(sc) == S_FAL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not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able to determine what it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e.g. doesn’t exist, couldn’t op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ority And Exclu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0720" y="173664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PRIORITY to open a Compound File brie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Direct, Read-Only, Deny-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s from modifyin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quent reopen with exclusions prevents some cop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55600" y="444600"/>
            <a:ext cx="863280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ansacted, Read-Write, Deny-Write f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PRIORITY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| STGM_DIRECT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  | STGM_SHARE_DENY_N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..., &amp;pStgPriority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Read in primar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Priorit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| STGM_TRANSACTED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SHARE_DENY_N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psnbExclud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  //  children to ex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gRoo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mporary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3880" y="1736640"/>
            <a:ext cx="7356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ELETEON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 underlying file after root storage is completely Release’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when creating or opening 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pathname for Compoun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NULL fo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in temporary file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41360" y="64152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CreateDocfil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DELETEONRELEAS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derlying file will be de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ing Read-On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720" y="173664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, Read-Only, Deny-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 writers from op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derlying file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, Read-Only, Deny-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other writers to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lying file is cop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schemes allow other r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6720" y="584280"/>
            <a:ext cx="83502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ODE s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| STGM_SHARE_DENY_WRIT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 And 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809720"/>
            <a:ext cx="71629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treams and sub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transacted chang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19880" y="1600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362720" y="16747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7216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89880" y="4456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736640"/>
            <a:ext cx="7162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new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Copy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RootStorage::SwitchT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if trans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ly s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5240" y="54144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Root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g-&gt;QueryInterface(IID_IRootStorag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witchTo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pszSaveAsFile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g now refers to pszSaveAsFil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ommi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STGC_DEFAUL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LockBy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73280" y="1736640"/>
            <a:ext cx="7597800" cy="36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of a resizable byte ar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placed anywhere such a byte array can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ek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used for serializing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- if not available, OLE 2.0 assumes implementor controls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773440" y="833400"/>
            <a:ext cx="359892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Fl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90720" y="173664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file format specification included in your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mplementation source code available after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read and written on other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n ILockBytes instance (sample provid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ximiz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97000" y="1736640"/>
            <a:ext cx="67500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backwards i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ded for debugging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very expensive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names of children in you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s large numbers of children effici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5640" y="12668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90720" y="1343160"/>
            <a:ext cx="71629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 pro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for embed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/Revert - aid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open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update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eloading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 and overwrite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Provid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4280" y="1736640"/>
            <a:ext cx="67150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pathna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ILockBytes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, database binary reco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 on global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59092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41320" y="29703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10120" y="262908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51480" y="30081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7800" y="146520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56120" y="152244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71880" y="2095560"/>
            <a:ext cx="0" cy="51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62600" y="2095560"/>
            <a:ext cx="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22840" y="4836960"/>
            <a:ext cx="241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0760" y="422928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51120" y="4799160"/>
            <a:ext cx="79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0600" y="417204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38920" y="535320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0120" y="5619600"/>
            <a:ext cx="3657600" cy="743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51720" y="5656320"/>
            <a:ext cx="412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Requi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62040" y="1736640"/>
            <a:ext cx="6019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 (or OleInitial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file-based compound fi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hare.exe in autoexec.b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per compound file, plu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