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314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 93006 OLE 2.0 PDC 5/93 </a:t>
            </a:r>
            <a:fld id="{FDB676D6-71DA-4E61-A9C4-6A50779EBF4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952560"/>
            <a:ext cx="8172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8440"/>
            <a:ext cx="71629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keep the existing changes made to a storage.  File saves perform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the root level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_l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turns a count of zero then the IStorag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8440"/>
            <a:ext cx="7162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lse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hanges to disk, but won’t be physically there until parents comm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oking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Interface Group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Contai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8440"/>
            <a:ext cx="716292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save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container call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a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is call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pical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65320" y="1738440"/>
            <a:ext cx="50148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280" y="1738440"/>
            <a:ext cx="824724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display the object.  The container typically gets the IViewObject from the IOleObject and performs a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that the object has just been opened.  Good time to set the hatch border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733400"/>
            <a:ext cx="71629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dviseSink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ate client are where the object is visible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dvise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hos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application name and o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OLEIVERB_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IOleClientSite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IViewObject interface by calling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he IViewObject by calling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41280" y="1738440"/>
            <a:ext cx="66610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container implements the absolute minimum number of interfaces required for an open mod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OLE 1.0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ing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76240" y="14320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360" y="304308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5908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CreateDoc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(OF_CRE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the root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OpenStor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; similar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open and crea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ot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TRANSACTED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85800" y="1738440"/>
            <a:ext cx="597384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 existing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173844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