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91240" y="0"/>
            <a:ext cx="34401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Xhibition ‘93 (3rd talk) 6/93 </a:t>
            </a:r>
            <a:fld id="{7F2A9465-3ECC-4B14-BEBB-6203E6E61A83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457280" y="1112760"/>
            <a:ext cx="622944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king Advantage of the Win32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I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390680" y="228600"/>
            <a:ext cx="6362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1200" y="1467000"/>
            <a:ext cx="7581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 in paging file reserved for each potentially writable page (commit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cation APIs will fail if space cannot be committed in paging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expected failures, for example, won’t fail when touching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pped files don’t need paging fil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019240" y="228600"/>
            <a:ext cx="5105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81160" y="1371600"/>
            <a:ext cx="67816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- fast mutual exclusion for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- signals the occurrence of an event; sharable between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 - sharable critical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 - traditional counting semaphore; sha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wait on single/mult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33400" y="228600"/>
            <a:ext cx="567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52520" y="1428840"/>
            <a:ext cx="6438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and ANSI entry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(on appropriate 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support via ReadFile, ReadFileEx, WriteFile, and WriteFile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backs and waitable objects, not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71640" y="228600"/>
            <a:ext cx="3600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ol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9068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driven debug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tt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/Write/Query/Set memory of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to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19520" y="228600"/>
            <a:ext cx="3505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85960" y="1428840"/>
            <a:ext cx="737244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ized, structured repository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s the need for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as a multiway tree of nodes called k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key has an access control list (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key is time-stamped (last writ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contain child keys and multiple values per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343240" y="228600"/>
            <a:ext cx="4457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44792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OpenKeyEx - Opens key relative to a predefined handle (for example, HKEY_CURRENT_USER) or previously opened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reateKeyEx - Opens or creates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SetValueEx - Writes values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09680" y="22860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62080" y="1409760"/>
            <a:ext cx="68198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ValueEx - Reads values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InfoKey - Returns information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FlushKey - Commits changes to backing s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loseKey - Closes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57440" y="1676520"/>
            <a:ext cx="58294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- Berkeley flav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, mails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419120" y="228600"/>
            <a:ext cx="630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’s Interes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162160" y="1352520"/>
            <a:ext cx="48196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cellane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91040" y="228600"/>
            <a:ext cx="2762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390680"/>
            <a:ext cx="6858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hreads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re 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may make graphics and window management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l thread local storag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ynchronize thread access to memory (multiprocessor sa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46700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prior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have per-process initialization and termination rou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thread err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33600" y="1371600"/>
            <a:ext cx="6076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/WaitFor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hreadExit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/Exit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/Resume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95440" y="228600"/>
            <a:ext cx="6153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25640" y="1542960"/>
            <a:ext cx="70945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{                                                   tr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ry body                                         // finally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( expression() ) {                   finall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eption handler                         // finally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90600" y="228600"/>
            <a:ext cx="4762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09600" y="1981080"/>
            <a:ext cx="672480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, growable h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, low overhead, thread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n use these for per-proces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85760" y="1409760"/>
            <a:ext cx="69724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support sparse allocation of address space and provide control of page protection and at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stack expansion (can fail due to commit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ppe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43040" y="1428840"/>
            <a:ext cx="765828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Mapping - returns handle to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used to create named shared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ViewOfFile - maps virtual memory to specified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ViewOfFile - unmaps specified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 - close handle to file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