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661080" y="0"/>
            <a:ext cx="247032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93101 Xhibition ‘93 6/93 </a:t>
            </a:r>
            <a:fld id="{D2040844-88DF-40F6-AC42-0FA3BC3193FB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512720" y="498600"/>
            <a:ext cx="612144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381480" y="1762200"/>
            <a:ext cx="23716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0" y="698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4019400" y="1676520"/>
            <a:ext cx="4863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d diagnostics show real-time memory map, and can test if workstation is responding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remote control - central helpdesk can take over screen, keyboard and mouse of users over the LAN or W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668160" y="2666880"/>
            <a:ext cx="1095480" cy="946080"/>
            <a:chOff x="668160" y="2666880"/>
            <a:chExt cx="1095480" cy="946080"/>
          </a:xfrm>
        </p:grpSpPr>
        <p:pic>
          <p:nvPicPr>
            <p:cNvPr id="1437" name="" descr=""/>
            <p:cNvPicPr/>
            <p:nvPr/>
          </p:nvPicPr>
          <p:blipFill>
            <a:blip r:embed="rId1"/>
            <a:stretch/>
          </p:blipFill>
          <p:spPr>
            <a:xfrm>
              <a:off x="668160" y="266688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8" name="" descr=""/>
            <p:cNvPicPr/>
            <p:nvPr/>
          </p:nvPicPr>
          <p:blipFill>
            <a:blip r:embed="rId2"/>
            <a:stretch/>
          </p:blipFill>
          <p:spPr>
            <a:xfrm>
              <a:off x="1182600" y="286236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"/>
          <p:cNvGrpSpPr/>
          <p:nvPr/>
        </p:nvGrpSpPr>
        <p:grpSpPr>
          <a:xfrm>
            <a:off x="698400" y="3424320"/>
            <a:ext cx="270000" cy="269640"/>
            <a:chOff x="698400" y="3424320"/>
            <a:chExt cx="270000" cy="269640"/>
          </a:xfrm>
        </p:grpSpPr>
        <p:sp>
          <p:nvSpPr>
            <p:cNvPr id="1440" name=""/>
            <p:cNvSpPr/>
            <p:nvPr/>
          </p:nvSpPr>
          <p:spPr>
            <a:xfrm>
              <a:off x="698400" y="358452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8400" y="347832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8400" y="342432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3043080" y="2832120"/>
            <a:ext cx="704880" cy="900000"/>
            <a:chOff x="3043080" y="2832120"/>
            <a:chExt cx="704880" cy="900000"/>
          </a:xfrm>
        </p:grpSpPr>
        <p:grpSp>
          <p:nvGrpSpPr>
            <p:cNvPr id="1444" name=""/>
            <p:cNvGrpSpPr/>
            <p:nvPr/>
          </p:nvGrpSpPr>
          <p:grpSpPr>
            <a:xfrm>
              <a:off x="3043080" y="2832120"/>
              <a:ext cx="420840" cy="522360"/>
              <a:chOff x="3043080" y="2832120"/>
              <a:chExt cx="420840" cy="522360"/>
            </a:xfrm>
          </p:grpSpPr>
          <p:pic>
            <p:nvPicPr>
              <p:cNvPr id="14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283212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290664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47" name=""/>
            <p:cNvGrpSpPr/>
            <p:nvPr/>
          </p:nvGrpSpPr>
          <p:grpSpPr>
            <a:xfrm>
              <a:off x="3184560" y="3021120"/>
              <a:ext cx="422280" cy="522360"/>
              <a:chOff x="3184560" y="3021120"/>
              <a:chExt cx="422280" cy="522360"/>
            </a:xfrm>
          </p:grpSpPr>
          <p:pic>
            <p:nvPicPr>
              <p:cNvPr id="14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302112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309564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50" name=""/>
            <p:cNvGrpSpPr/>
            <p:nvPr/>
          </p:nvGrpSpPr>
          <p:grpSpPr>
            <a:xfrm>
              <a:off x="3316320" y="3232080"/>
              <a:ext cx="431640" cy="500040"/>
              <a:chOff x="3316320" y="3232080"/>
              <a:chExt cx="431640" cy="500040"/>
            </a:xfrm>
          </p:grpSpPr>
          <p:pic>
            <p:nvPicPr>
              <p:cNvPr id="14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323208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330372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53" name=""/>
          <p:cNvGrpSpPr/>
          <p:nvPr/>
        </p:nvGrpSpPr>
        <p:grpSpPr>
          <a:xfrm>
            <a:off x="1716120" y="3139920"/>
            <a:ext cx="1418040" cy="619920"/>
            <a:chOff x="1716120" y="3139920"/>
            <a:chExt cx="1418040" cy="619920"/>
          </a:xfrm>
        </p:grpSpPr>
        <p:sp>
          <p:nvSpPr>
            <p:cNvPr id="1454" name=""/>
            <p:cNvSpPr/>
            <p:nvPr/>
          </p:nvSpPr>
          <p:spPr>
            <a:xfrm>
              <a:off x="1720800" y="313992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70320" y="3575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722680" y="335124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716120" y="313992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1620720" y="2709720"/>
            <a:ext cx="1276920" cy="430560"/>
            <a:chOff x="1620720" y="2709720"/>
            <a:chExt cx="1276920" cy="430560"/>
          </a:xfrm>
        </p:grpSpPr>
        <p:sp>
          <p:nvSpPr>
            <p:cNvPr id="1459" name=""/>
            <p:cNvSpPr/>
            <p:nvPr/>
          </p:nvSpPr>
          <p:spPr>
            <a:xfrm>
              <a:off x="2057400" y="28908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620720" y="270972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23960" y="28400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762200" y="270972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3" name=""/>
          <p:cNvSpPr txBox="1"/>
          <p:nvPr/>
        </p:nvSpPr>
        <p:spPr>
          <a:xfrm>
            <a:off x="1752480" y="213984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1371600" y="3816360"/>
            <a:ext cx="182880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0" y="5076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18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987720" y="1600200"/>
            <a:ext cx="508644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logon, users given a Windows group of the applications they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get familiar desktop, even on different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run applications as if they were on the desktop,  Hermes finds available servers and connects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meters the number of copies of softw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33520" y="3392640"/>
            <a:ext cx="3352680" cy="944640"/>
          </a:xfrm>
          <a:prstGeom prst="ellipse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76320" y="2922480"/>
            <a:ext cx="1152720" cy="1726200"/>
            <a:chOff x="76320" y="2922480"/>
            <a:chExt cx="1152720" cy="1726200"/>
          </a:xfrm>
        </p:grpSpPr>
        <p:sp>
          <p:nvSpPr>
            <p:cNvPr id="1469" name=""/>
            <p:cNvSpPr/>
            <p:nvPr/>
          </p:nvSpPr>
          <p:spPr>
            <a:xfrm>
              <a:off x="561960" y="2928960"/>
              <a:ext cx="663840" cy="1130760"/>
            </a:xfrm>
            <a:custGeom>
              <a:avLst/>
              <a:gdLst/>
              <a:ahLst/>
              <a:rect l="0" t="0" r="r" b="b"/>
              <a:pathLst>
                <a:path w="1844" h="3141">
                  <a:moveTo>
                    <a:pt x="1844" y="0"/>
                  </a:moveTo>
                  <a:lnTo>
                    <a:pt x="1844" y="231"/>
                  </a:lnTo>
                  <a:lnTo>
                    <a:pt x="1710" y="293"/>
                  </a:lnTo>
                  <a:lnTo>
                    <a:pt x="1589" y="371"/>
                  </a:lnTo>
                  <a:lnTo>
                    <a:pt x="1479" y="463"/>
                  </a:lnTo>
                  <a:lnTo>
                    <a:pt x="1363" y="556"/>
                  </a:lnTo>
                  <a:lnTo>
                    <a:pt x="1266" y="649"/>
                  </a:lnTo>
                  <a:lnTo>
                    <a:pt x="1185" y="742"/>
                  </a:lnTo>
                  <a:lnTo>
                    <a:pt x="1110" y="831"/>
                  </a:lnTo>
                  <a:lnTo>
                    <a:pt x="1023" y="939"/>
                  </a:lnTo>
                  <a:lnTo>
                    <a:pt x="947" y="1063"/>
                  </a:lnTo>
                  <a:lnTo>
                    <a:pt x="859" y="1217"/>
                  </a:lnTo>
                  <a:lnTo>
                    <a:pt x="790" y="1356"/>
                  </a:lnTo>
                  <a:lnTo>
                    <a:pt x="720" y="1496"/>
                  </a:lnTo>
                  <a:lnTo>
                    <a:pt x="656" y="1650"/>
                  </a:lnTo>
                  <a:lnTo>
                    <a:pt x="575" y="1836"/>
                  </a:lnTo>
                  <a:lnTo>
                    <a:pt x="488" y="2052"/>
                  </a:lnTo>
                  <a:lnTo>
                    <a:pt x="436" y="2207"/>
                  </a:lnTo>
                  <a:lnTo>
                    <a:pt x="384" y="2378"/>
                  </a:lnTo>
                  <a:lnTo>
                    <a:pt x="332" y="2538"/>
                  </a:lnTo>
                  <a:lnTo>
                    <a:pt x="285" y="2693"/>
                  </a:lnTo>
                  <a:lnTo>
                    <a:pt x="227" y="2940"/>
                  </a:lnTo>
                  <a:lnTo>
                    <a:pt x="193" y="3141"/>
                  </a:lnTo>
                  <a:lnTo>
                    <a:pt x="0" y="3079"/>
                  </a:lnTo>
                  <a:lnTo>
                    <a:pt x="63" y="2739"/>
                  </a:lnTo>
                  <a:lnTo>
                    <a:pt x="158" y="2378"/>
                  </a:lnTo>
                  <a:lnTo>
                    <a:pt x="256" y="2068"/>
                  </a:lnTo>
                  <a:lnTo>
                    <a:pt x="384" y="1743"/>
                  </a:lnTo>
                  <a:lnTo>
                    <a:pt x="558" y="1279"/>
                  </a:lnTo>
                  <a:lnTo>
                    <a:pt x="749" y="892"/>
                  </a:lnTo>
                  <a:lnTo>
                    <a:pt x="953" y="556"/>
                  </a:lnTo>
                  <a:lnTo>
                    <a:pt x="1133" y="355"/>
                  </a:lnTo>
                  <a:lnTo>
                    <a:pt x="1357" y="154"/>
                  </a:lnTo>
                  <a:lnTo>
                    <a:pt x="1542" y="77"/>
                  </a:lnTo>
                  <a:lnTo>
                    <a:pt x="184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6320" y="3840120"/>
              <a:ext cx="344880" cy="808560"/>
            </a:xfrm>
            <a:custGeom>
              <a:avLst/>
              <a:gdLst/>
              <a:ahLst/>
              <a:rect l="0" t="0" r="r" b="b"/>
              <a:pathLst>
                <a:path w="958" h="2246">
                  <a:moveTo>
                    <a:pt x="958" y="1736"/>
                  </a:moveTo>
                  <a:lnTo>
                    <a:pt x="958" y="2246"/>
                  </a:lnTo>
                  <a:lnTo>
                    <a:pt x="920" y="2117"/>
                  </a:lnTo>
                  <a:lnTo>
                    <a:pt x="877" y="1983"/>
                  </a:lnTo>
                  <a:lnTo>
                    <a:pt x="821" y="1845"/>
                  </a:lnTo>
                  <a:lnTo>
                    <a:pt x="752" y="1679"/>
                  </a:lnTo>
                  <a:lnTo>
                    <a:pt x="681" y="1504"/>
                  </a:lnTo>
                  <a:lnTo>
                    <a:pt x="611" y="1339"/>
                  </a:lnTo>
                  <a:lnTo>
                    <a:pt x="548" y="1200"/>
                  </a:lnTo>
                  <a:lnTo>
                    <a:pt x="490" y="1076"/>
                  </a:lnTo>
                  <a:lnTo>
                    <a:pt x="426" y="963"/>
                  </a:lnTo>
                  <a:lnTo>
                    <a:pt x="360" y="850"/>
                  </a:lnTo>
                  <a:lnTo>
                    <a:pt x="283" y="732"/>
                  </a:lnTo>
                  <a:lnTo>
                    <a:pt x="208" y="639"/>
                  </a:lnTo>
                  <a:lnTo>
                    <a:pt x="135" y="550"/>
                  </a:lnTo>
                  <a:lnTo>
                    <a:pt x="57" y="463"/>
                  </a:lnTo>
                  <a:lnTo>
                    <a:pt x="0" y="391"/>
                  </a:lnTo>
                  <a:lnTo>
                    <a:pt x="0" y="0"/>
                  </a:lnTo>
                  <a:lnTo>
                    <a:pt x="104" y="77"/>
                  </a:lnTo>
                  <a:lnTo>
                    <a:pt x="260" y="252"/>
                  </a:lnTo>
                  <a:lnTo>
                    <a:pt x="455" y="473"/>
                  </a:lnTo>
                  <a:lnTo>
                    <a:pt x="598" y="716"/>
                  </a:lnTo>
                  <a:lnTo>
                    <a:pt x="732" y="1056"/>
                  </a:lnTo>
                  <a:lnTo>
                    <a:pt x="862" y="1339"/>
                  </a:lnTo>
                  <a:lnTo>
                    <a:pt x="958" y="1612"/>
                  </a:lnTo>
                  <a:lnTo>
                    <a:pt x="958" y="2241"/>
                  </a:lnTo>
                  <a:lnTo>
                    <a:pt x="958" y="2231"/>
                  </a:lnTo>
                  <a:lnTo>
                    <a:pt x="958" y="173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25520" y="4148280"/>
              <a:ext cx="408240" cy="497160"/>
            </a:xfrm>
            <a:custGeom>
              <a:avLst/>
              <a:gdLst/>
              <a:ahLst/>
              <a:rect l="0" t="0" r="r" b="b"/>
              <a:pathLst>
                <a:path w="1134" h="1381">
                  <a:moveTo>
                    <a:pt x="1134" y="0"/>
                  </a:moveTo>
                  <a:lnTo>
                    <a:pt x="1134" y="426"/>
                  </a:lnTo>
                  <a:lnTo>
                    <a:pt x="1061" y="461"/>
                  </a:lnTo>
                  <a:lnTo>
                    <a:pt x="986" y="497"/>
                  </a:lnTo>
                  <a:lnTo>
                    <a:pt x="915" y="542"/>
                  </a:lnTo>
                  <a:lnTo>
                    <a:pt x="840" y="588"/>
                  </a:lnTo>
                  <a:lnTo>
                    <a:pt x="756" y="644"/>
                  </a:lnTo>
                  <a:lnTo>
                    <a:pt x="664" y="706"/>
                  </a:lnTo>
                  <a:lnTo>
                    <a:pt x="548" y="797"/>
                  </a:lnTo>
                  <a:lnTo>
                    <a:pt x="437" y="878"/>
                  </a:lnTo>
                  <a:lnTo>
                    <a:pt x="364" y="944"/>
                  </a:lnTo>
                  <a:lnTo>
                    <a:pt x="276" y="1036"/>
                  </a:lnTo>
                  <a:lnTo>
                    <a:pt x="182" y="1142"/>
                  </a:lnTo>
                  <a:lnTo>
                    <a:pt x="97" y="1244"/>
                  </a:lnTo>
                  <a:lnTo>
                    <a:pt x="36" y="1325"/>
                  </a:lnTo>
                  <a:lnTo>
                    <a:pt x="0" y="1381"/>
                  </a:lnTo>
                  <a:lnTo>
                    <a:pt x="0" y="853"/>
                  </a:lnTo>
                  <a:lnTo>
                    <a:pt x="70" y="721"/>
                  </a:lnTo>
                  <a:lnTo>
                    <a:pt x="212" y="537"/>
                  </a:lnTo>
                  <a:lnTo>
                    <a:pt x="379" y="355"/>
                  </a:lnTo>
                  <a:lnTo>
                    <a:pt x="527" y="248"/>
                  </a:lnTo>
                  <a:lnTo>
                    <a:pt x="699" y="121"/>
                  </a:lnTo>
                  <a:lnTo>
                    <a:pt x="871" y="35"/>
                  </a:lnTo>
                  <a:lnTo>
                    <a:pt x="992" y="5"/>
                  </a:lnTo>
                  <a:lnTo>
                    <a:pt x="1134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6320" y="2922480"/>
              <a:ext cx="1152720" cy="1533960"/>
            </a:xfrm>
            <a:custGeom>
              <a:avLst/>
              <a:gdLst/>
              <a:ahLst/>
              <a:rect l="0" t="0" r="r" b="b"/>
              <a:pathLst>
                <a:path w="3202" h="4261">
                  <a:moveTo>
                    <a:pt x="3202" y="30"/>
                  </a:moveTo>
                  <a:lnTo>
                    <a:pt x="3027" y="0"/>
                  </a:lnTo>
                  <a:lnTo>
                    <a:pt x="2940" y="0"/>
                  </a:lnTo>
                  <a:lnTo>
                    <a:pt x="2835" y="0"/>
                  </a:lnTo>
                  <a:lnTo>
                    <a:pt x="2735" y="15"/>
                  </a:lnTo>
                  <a:lnTo>
                    <a:pt x="2636" y="30"/>
                  </a:lnTo>
                  <a:lnTo>
                    <a:pt x="2539" y="61"/>
                  </a:lnTo>
                  <a:lnTo>
                    <a:pt x="2452" y="108"/>
                  </a:lnTo>
                  <a:lnTo>
                    <a:pt x="2353" y="154"/>
                  </a:lnTo>
                  <a:lnTo>
                    <a:pt x="2236" y="232"/>
                  </a:lnTo>
                  <a:lnTo>
                    <a:pt x="2131" y="325"/>
                  </a:lnTo>
                  <a:lnTo>
                    <a:pt x="2032" y="402"/>
                  </a:lnTo>
                  <a:lnTo>
                    <a:pt x="1921" y="511"/>
                  </a:lnTo>
                  <a:lnTo>
                    <a:pt x="1816" y="635"/>
                  </a:lnTo>
                  <a:lnTo>
                    <a:pt x="1711" y="759"/>
                  </a:lnTo>
                  <a:lnTo>
                    <a:pt x="1624" y="877"/>
                  </a:lnTo>
                  <a:lnTo>
                    <a:pt x="1523" y="1001"/>
                  </a:lnTo>
                  <a:lnTo>
                    <a:pt x="1440" y="1126"/>
                  </a:lnTo>
                  <a:lnTo>
                    <a:pt x="1347" y="1266"/>
                  </a:lnTo>
                  <a:lnTo>
                    <a:pt x="1253" y="1405"/>
                  </a:lnTo>
                  <a:lnTo>
                    <a:pt x="1160" y="1575"/>
                  </a:lnTo>
                  <a:lnTo>
                    <a:pt x="1078" y="1715"/>
                  </a:lnTo>
                  <a:lnTo>
                    <a:pt x="991" y="1901"/>
                  </a:lnTo>
                  <a:lnTo>
                    <a:pt x="909" y="2071"/>
                  </a:lnTo>
                  <a:lnTo>
                    <a:pt x="833" y="2241"/>
                  </a:lnTo>
                  <a:lnTo>
                    <a:pt x="769" y="2427"/>
                  </a:lnTo>
                  <a:lnTo>
                    <a:pt x="717" y="2587"/>
                  </a:lnTo>
                  <a:lnTo>
                    <a:pt x="676" y="2758"/>
                  </a:lnTo>
                  <a:lnTo>
                    <a:pt x="0" y="2531"/>
                  </a:lnTo>
                  <a:lnTo>
                    <a:pt x="95" y="2649"/>
                  </a:lnTo>
                  <a:lnTo>
                    <a:pt x="206" y="2773"/>
                  </a:lnTo>
                  <a:lnTo>
                    <a:pt x="293" y="2882"/>
                  </a:lnTo>
                  <a:lnTo>
                    <a:pt x="359" y="2964"/>
                  </a:lnTo>
                  <a:lnTo>
                    <a:pt x="431" y="3068"/>
                  </a:lnTo>
                  <a:lnTo>
                    <a:pt x="489" y="3160"/>
                  </a:lnTo>
                  <a:lnTo>
                    <a:pt x="546" y="3265"/>
                  </a:lnTo>
                  <a:lnTo>
                    <a:pt x="602" y="3384"/>
                  </a:lnTo>
                  <a:lnTo>
                    <a:pt x="657" y="3502"/>
                  </a:lnTo>
                  <a:lnTo>
                    <a:pt x="723" y="3652"/>
                  </a:lnTo>
                  <a:lnTo>
                    <a:pt x="787" y="3812"/>
                  </a:lnTo>
                  <a:lnTo>
                    <a:pt x="845" y="3946"/>
                  </a:lnTo>
                  <a:lnTo>
                    <a:pt x="909" y="4122"/>
                  </a:lnTo>
                  <a:lnTo>
                    <a:pt x="962" y="4261"/>
                  </a:lnTo>
                  <a:lnTo>
                    <a:pt x="1014" y="4199"/>
                  </a:lnTo>
                  <a:lnTo>
                    <a:pt x="1067" y="4122"/>
                  </a:lnTo>
                  <a:lnTo>
                    <a:pt x="1123" y="4055"/>
                  </a:lnTo>
                  <a:lnTo>
                    <a:pt x="1189" y="3982"/>
                  </a:lnTo>
                  <a:lnTo>
                    <a:pt x="1257" y="3910"/>
                  </a:lnTo>
                  <a:lnTo>
                    <a:pt x="1319" y="3853"/>
                  </a:lnTo>
                  <a:lnTo>
                    <a:pt x="1380" y="3807"/>
                  </a:lnTo>
                  <a:lnTo>
                    <a:pt x="1448" y="3750"/>
                  </a:lnTo>
                  <a:lnTo>
                    <a:pt x="1520" y="3704"/>
                  </a:lnTo>
                  <a:lnTo>
                    <a:pt x="1593" y="3652"/>
                  </a:lnTo>
                  <a:lnTo>
                    <a:pt x="1662" y="3606"/>
                  </a:lnTo>
                  <a:lnTo>
                    <a:pt x="1729" y="3559"/>
                  </a:lnTo>
                  <a:lnTo>
                    <a:pt x="1800" y="3528"/>
                  </a:lnTo>
                  <a:lnTo>
                    <a:pt x="1869" y="3487"/>
                  </a:lnTo>
                  <a:lnTo>
                    <a:pt x="1933" y="3451"/>
                  </a:lnTo>
                  <a:lnTo>
                    <a:pt x="2008" y="3409"/>
                  </a:lnTo>
                  <a:lnTo>
                    <a:pt x="2111" y="3378"/>
                  </a:lnTo>
                  <a:lnTo>
                    <a:pt x="1411" y="3052"/>
                  </a:lnTo>
                  <a:lnTo>
                    <a:pt x="1457" y="2804"/>
                  </a:lnTo>
                  <a:lnTo>
                    <a:pt x="1512" y="2618"/>
                  </a:lnTo>
                  <a:lnTo>
                    <a:pt x="1612" y="2272"/>
                  </a:lnTo>
                  <a:lnTo>
                    <a:pt x="1670" y="2117"/>
                  </a:lnTo>
                  <a:lnTo>
                    <a:pt x="1729" y="1963"/>
                  </a:lnTo>
                  <a:lnTo>
                    <a:pt x="1834" y="1699"/>
                  </a:lnTo>
                  <a:lnTo>
                    <a:pt x="1898" y="1544"/>
                  </a:lnTo>
                  <a:lnTo>
                    <a:pt x="1973" y="1358"/>
                  </a:lnTo>
                  <a:lnTo>
                    <a:pt x="2043" y="1219"/>
                  </a:lnTo>
                  <a:lnTo>
                    <a:pt x="2102" y="1095"/>
                  </a:lnTo>
                  <a:lnTo>
                    <a:pt x="2160" y="970"/>
                  </a:lnTo>
                  <a:lnTo>
                    <a:pt x="2230" y="846"/>
                  </a:lnTo>
                  <a:lnTo>
                    <a:pt x="2306" y="728"/>
                  </a:lnTo>
                  <a:lnTo>
                    <a:pt x="2382" y="635"/>
                  </a:lnTo>
                  <a:lnTo>
                    <a:pt x="2457" y="526"/>
                  </a:lnTo>
                  <a:lnTo>
                    <a:pt x="2551" y="433"/>
                  </a:lnTo>
                  <a:lnTo>
                    <a:pt x="2636" y="356"/>
                  </a:lnTo>
                  <a:lnTo>
                    <a:pt x="2735" y="294"/>
                  </a:lnTo>
                  <a:lnTo>
                    <a:pt x="2829" y="232"/>
                  </a:lnTo>
                  <a:lnTo>
                    <a:pt x="2928" y="170"/>
                  </a:lnTo>
                  <a:lnTo>
                    <a:pt x="3033" y="123"/>
                  </a:lnTo>
                  <a:lnTo>
                    <a:pt x="3202" y="3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668160" y="2286000"/>
            <a:ext cx="1095480" cy="946080"/>
            <a:chOff x="668160" y="2286000"/>
            <a:chExt cx="1095480" cy="946080"/>
          </a:xfrm>
        </p:grpSpPr>
        <p:pic>
          <p:nvPicPr>
            <p:cNvPr id="1474" name="" descr=""/>
            <p:cNvPicPr/>
            <p:nvPr/>
          </p:nvPicPr>
          <p:blipFill>
            <a:blip r:embed="rId1"/>
            <a:stretch/>
          </p:blipFill>
          <p:spPr>
            <a:xfrm>
              <a:off x="668160" y="2286000"/>
              <a:ext cx="1095480" cy="9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5" name="" descr=""/>
            <p:cNvPicPr/>
            <p:nvPr/>
          </p:nvPicPr>
          <p:blipFill>
            <a:blip r:embed="rId2"/>
            <a:stretch/>
          </p:blipFill>
          <p:spPr>
            <a:xfrm>
              <a:off x="1182600" y="2481120"/>
              <a:ext cx="301680" cy="27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6" name=""/>
          <p:cNvGrpSpPr/>
          <p:nvPr/>
        </p:nvGrpSpPr>
        <p:grpSpPr>
          <a:xfrm>
            <a:off x="698400" y="3043080"/>
            <a:ext cx="270000" cy="270000"/>
            <a:chOff x="698400" y="3043080"/>
            <a:chExt cx="270000" cy="270000"/>
          </a:xfrm>
        </p:grpSpPr>
        <p:sp>
          <p:nvSpPr>
            <p:cNvPr id="1477" name=""/>
            <p:cNvSpPr/>
            <p:nvPr/>
          </p:nvSpPr>
          <p:spPr>
            <a:xfrm>
              <a:off x="698400" y="3203640"/>
              <a:ext cx="270000" cy="10944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8400" y="3097080"/>
              <a:ext cx="270000" cy="160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98400" y="3043080"/>
              <a:ext cx="270000" cy="1080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3043080" y="4626000"/>
            <a:ext cx="704880" cy="900000"/>
            <a:chOff x="3043080" y="4626000"/>
            <a:chExt cx="704880" cy="900000"/>
          </a:xfrm>
        </p:grpSpPr>
        <p:grpSp>
          <p:nvGrpSpPr>
            <p:cNvPr id="1481" name=""/>
            <p:cNvGrpSpPr/>
            <p:nvPr/>
          </p:nvGrpSpPr>
          <p:grpSpPr>
            <a:xfrm>
              <a:off x="3043080" y="4626000"/>
              <a:ext cx="420840" cy="522360"/>
              <a:chOff x="3043080" y="4626000"/>
              <a:chExt cx="420840" cy="522360"/>
            </a:xfrm>
          </p:grpSpPr>
          <p:pic>
            <p:nvPicPr>
              <p:cNvPr id="14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3080" y="462600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152880" y="470052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4" name=""/>
            <p:cNvGrpSpPr/>
            <p:nvPr/>
          </p:nvGrpSpPr>
          <p:grpSpPr>
            <a:xfrm>
              <a:off x="3184560" y="4816440"/>
              <a:ext cx="422280" cy="520560"/>
              <a:chOff x="3184560" y="4816440"/>
              <a:chExt cx="422280" cy="520560"/>
            </a:xfrm>
          </p:grpSpPr>
          <p:pic>
            <p:nvPicPr>
              <p:cNvPr id="14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184560" y="4816440"/>
                <a:ext cx="422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95800" y="488952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7" name=""/>
            <p:cNvGrpSpPr/>
            <p:nvPr/>
          </p:nvGrpSpPr>
          <p:grpSpPr>
            <a:xfrm>
              <a:off x="3316320" y="5025960"/>
              <a:ext cx="431640" cy="500040"/>
              <a:chOff x="3316320" y="5025960"/>
              <a:chExt cx="431640" cy="500040"/>
            </a:xfrm>
          </p:grpSpPr>
          <p:pic>
            <p:nvPicPr>
              <p:cNvPr id="14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316320" y="502596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430440" y="509760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90" name=""/>
          <p:cNvGrpSpPr/>
          <p:nvPr/>
        </p:nvGrpSpPr>
        <p:grpSpPr>
          <a:xfrm>
            <a:off x="3043080" y="2451240"/>
            <a:ext cx="704880" cy="900000"/>
            <a:chOff x="3043080" y="2451240"/>
            <a:chExt cx="704880" cy="900000"/>
          </a:xfrm>
        </p:grpSpPr>
        <p:grpSp>
          <p:nvGrpSpPr>
            <p:cNvPr id="1491" name=""/>
            <p:cNvGrpSpPr/>
            <p:nvPr/>
          </p:nvGrpSpPr>
          <p:grpSpPr>
            <a:xfrm>
              <a:off x="3043080" y="2451240"/>
              <a:ext cx="420840" cy="522360"/>
              <a:chOff x="3043080" y="2451240"/>
              <a:chExt cx="420840" cy="522360"/>
            </a:xfrm>
          </p:grpSpPr>
          <p:pic>
            <p:nvPicPr>
              <p:cNvPr id="14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43080" y="2451240"/>
                <a:ext cx="42084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152880" y="2525760"/>
                <a:ext cx="20304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4" name=""/>
            <p:cNvGrpSpPr/>
            <p:nvPr/>
          </p:nvGrpSpPr>
          <p:grpSpPr>
            <a:xfrm>
              <a:off x="3184560" y="2639880"/>
              <a:ext cx="422280" cy="522360"/>
              <a:chOff x="3184560" y="2639880"/>
              <a:chExt cx="422280" cy="522360"/>
            </a:xfrm>
          </p:grpSpPr>
          <p:pic>
            <p:nvPicPr>
              <p:cNvPr id="149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84560" y="2639880"/>
                <a:ext cx="42228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295800" y="2714760"/>
                <a:ext cx="201600" cy="17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97" name=""/>
            <p:cNvGrpSpPr/>
            <p:nvPr/>
          </p:nvGrpSpPr>
          <p:grpSpPr>
            <a:xfrm>
              <a:off x="3316320" y="2851200"/>
              <a:ext cx="431640" cy="500040"/>
              <a:chOff x="3316320" y="2851200"/>
              <a:chExt cx="431640" cy="500040"/>
            </a:xfrm>
          </p:grpSpPr>
          <p:pic>
            <p:nvPicPr>
              <p:cNvPr id="149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316320" y="2851200"/>
                <a:ext cx="431640" cy="5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430440" y="2922480"/>
                <a:ext cx="206280" cy="16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0" name=""/>
          <p:cNvGrpSpPr/>
          <p:nvPr/>
        </p:nvGrpSpPr>
        <p:grpSpPr>
          <a:xfrm>
            <a:off x="1716120" y="2759040"/>
            <a:ext cx="1418040" cy="619560"/>
            <a:chOff x="1716120" y="2759040"/>
            <a:chExt cx="1418040" cy="619560"/>
          </a:xfrm>
        </p:grpSpPr>
        <p:sp>
          <p:nvSpPr>
            <p:cNvPr id="1501" name=""/>
            <p:cNvSpPr/>
            <p:nvPr/>
          </p:nvSpPr>
          <p:spPr>
            <a:xfrm>
              <a:off x="1720800" y="275904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70320" y="319392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722680" y="2970360"/>
              <a:ext cx="406800" cy="221040"/>
            </a:xfrm>
            <a:custGeom>
              <a:avLst/>
              <a:gdLst/>
              <a:ahLst/>
              <a:rect l="0" t="0" r="r" b="b"/>
              <a:pathLst>
                <a:path w="1130" h="614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8"/>
                  </a:lnTo>
                  <a:lnTo>
                    <a:pt x="482" y="159"/>
                  </a:lnTo>
                  <a:lnTo>
                    <a:pt x="528" y="205"/>
                  </a:lnTo>
                  <a:lnTo>
                    <a:pt x="577" y="255"/>
                  </a:lnTo>
                  <a:lnTo>
                    <a:pt x="652" y="317"/>
                  </a:lnTo>
                  <a:lnTo>
                    <a:pt x="719" y="377"/>
                  </a:lnTo>
                  <a:lnTo>
                    <a:pt x="772" y="416"/>
                  </a:lnTo>
                  <a:lnTo>
                    <a:pt x="848" y="465"/>
                  </a:lnTo>
                  <a:lnTo>
                    <a:pt x="935" y="516"/>
                  </a:lnTo>
                  <a:lnTo>
                    <a:pt x="1018" y="562"/>
                  </a:lnTo>
                  <a:lnTo>
                    <a:pt x="1085" y="595"/>
                  </a:lnTo>
                  <a:lnTo>
                    <a:pt x="1130" y="614"/>
                  </a:lnTo>
                  <a:lnTo>
                    <a:pt x="698" y="614"/>
                  </a:lnTo>
                  <a:lnTo>
                    <a:pt x="590" y="576"/>
                  </a:lnTo>
                  <a:lnTo>
                    <a:pt x="440" y="499"/>
                  </a:lnTo>
                  <a:lnTo>
                    <a:pt x="291" y="408"/>
                  </a:lnTo>
                  <a:lnTo>
                    <a:pt x="203" y="328"/>
                  </a:lnTo>
                  <a:lnTo>
                    <a:pt x="99" y="236"/>
                  </a:lnTo>
                  <a:lnTo>
                    <a:pt x="29" y="142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716120" y="275904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1620720" y="2328840"/>
            <a:ext cx="1276920" cy="430560"/>
            <a:chOff x="1620720" y="2328840"/>
            <a:chExt cx="1276920" cy="430560"/>
          </a:xfrm>
        </p:grpSpPr>
        <p:sp>
          <p:nvSpPr>
            <p:cNvPr id="1506" name=""/>
            <p:cNvSpPr/>
            <p:nvPr/>
          </p:nvSpPr>
          <p:spPr>
            <a:xfrm>
              <a:off x="2057400" y="250992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620720" y="2328840"/>
              <a:ext cx="597240" cy="128880"/>
            </a:xfrm>
            <a:custGeom>
              <a:avLst/>
              <a:gdLst/>
              <a:ahLst/>
              <a:rect l="0" t="0" r="r" b="b"/>
              <a:pathLst>
                <a:path w="1659" h="358">
                  <a:moveTo>
                    <a:pt x="376" y="358"/>
                  </a:moveTo>
                  <a:lnTo>
                    <a:pt x="0" y="358"/>
                  </a:lnTo>
                  <a:lnTo>
                    <a:pt x="95" y="343"/>
                  </a:lnTo>
                  <a:lnTo>
                    <a:pt x="193" y="327"/>
                  </a:lnTo>
                  <a:lnTo>
                    <a:pt x="296" y="306"/>
                  </a:lnTo>
                  <a:lnTo>
                    <a:pt x="418" y="280"/>
                  </a:lnTo>
                  <a:lnTo>
                    <a:pt x="547" y="254"/>
                  </a:lnTo>
                  <a:lnTo>
                    <a:pt x="669" y="229"/>
                  </a:lnTo>
                  <a:lnTo>
                    <a:pt x="771" y="205"/>
                  </a:lnTo>
                  <a:lnTo>
                    <a:pt x="864" y="183"/>
                  </a:lnTo>
                  <a:lnTo>
                    <a:pt x="947" y="158"/>
                  </a:lnTo>
                  <a:lnTo>
                    <a:pt x="1031" y="134"/>
                  </a:lnTo>
                  <a:lnTo>
                    <a:pt x="1119" y="105"/>
                  </a:lnTo>
                  <a:lnTo>
                    <a:pt x="1187" y="77"/>
                  </a:lnTo>
                  <a:lnTo>
                    <a:pt x="1252" y="50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9"/>
                  </a:lnTo>
                  <a:lnTo>
                    <a:pt x="1130" y="223"/>
                  </a:lnTo>
                  <a:lnTo>
                    <a:pt x="879" y="273"/>
                  </a:lnTo>
                  <a:lnTo>
                    <a:pt x="669" y="322"/>
                  </a:lnTo>
                  <a:lnTo>
                    <a:pt x="467" y="358"/>
                  </a:lnTo>
                  <a:lnTo>
                    <a:pt x="3" y="358"/>
                  </a:lnTo>
                  <a:lnTo>
                    <a:pt x="11" y="358"/>
                  </a:lnTo>
                  <a:lnTo>
                    <a:pt x="376" y="35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23960" y="245916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62200" y="2328840"/>
              <a:ext cx="1135440" cy="430560"/>
            </a:xfrm>
            <a:custGeom>
              <a:avLst/>
              <a:gdLst/>
              <a:ahLst/>
              <a:rect l="0" t="0" r="r" b="b"/>
              <a:pathLst>
                <a:path w="3154" h="1196">
                  <a:moveTo>
                    <a:pt x="3132" y="1196"/>
                  </a:moveTo>
                  <a:lnTo>
                    <a:pt x="3154" y="1130"/>
                  </a:lnTo>
                  <a:lnTo>
                    <a:pt x="3154" y="1098"/>
                  </a:lnTo>
                  <a:lnTo>
                    <a:pt x="3154" y="1058"/>
                  </a:lnTo>
                  <a:lnTo>
                    <a:pt x="3143" y="1021"/>
                  </a:lnTo>
                  <a:lnTo>
                    <a:pt x="3132" y="984"/>
                  </a:lnTo>
                  <a:lnTo>
                    <a:pt x="3109" y="948"/>
                  </a:lnTo>
                  <a:lnTo>
                    <a:pt x="3074" y="915"/>
                  </a:lnTo>
                  <a:lnTo>
                    <a:pt x="3040" y="878"/>
                  </a:lnTo>
                  <a:lnTo>
                    <a:pt x="2982" y="835"/>
                  </a:lnTo>
                  <a:lnTo>
                    <a:pt x="2914" y="796"/>
                  </a:lnTo>
                  <a:lnTo>
                    <a:pt x="2856" y="759"/>
                  </a:lnTo>
                  <a:lnTo>
                    <a:pt x="2776" y="717"/>
                  </a:lnTo>
                  <a:lnTo>
                    <a:pt x="2684" y="678"/>
                  </a:lnTo>
                  <a:lnTo>
                    <a:pt x="2593" y="639"/>
                  </a:lnTo>
                  <a:lnTo>
                    <a:pt x="2505" y="606"/>
                  </a:lnTo>
                  <a:lnTo>
                    <a:pt x="2413" y="568"/>
                  </a:lnTo>
                  <a:lnTo>
                    <a:pt x="2320" y="537"/>
                  </a:lnTo>
                  <a:lnTo>
                    <a:pt x="2217" y="502"/>
                  </a:lnTo>
                  <a:lnTo>
                    <a:pt x="2114" y="468"/>
                  </a:lnTo>
                  <a:lnTo>
                    <a:pt x="1988" y="433"/>
                  </a:lnTo>
                  <a:lnTo>
                    <a:pt x="1885" y="402"/>
                  </a:lnTo>
                  <a:lnTo>
                    <a:pt x="1747" y="370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7"/>
                  </a:lnTo>
                  <a:lnTo>
                    <a:pt x="1239" y="267"/>
                  </a:lnTo>
                  <a:lnTo>
                    <a:pt x="1113" y="252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4"/>
                  </a:lnTo>
                  <a:lnTo>
                    <a:pt x="883" y="161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5"/>
                  </a:lnTo>
                  <a:lnTo>
                    <a:pt x="450" y="269"/>
                  </a:lnTo>
                  <a:lnTo>
                    <a:pt x="332" y="293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9"/>
                  </a:lnTo>
                  <a:lnTo>
                    <a:pt x="45" y="378"/>
                  </a:lnTo>
                  <a:lnTo>
                    <a:pt x="103" y="398"/>
                  </a:lnTo>
                  <a:lnTo>
                    <a:pt x="152" y="419"/>
                  </a:lnTo>
                  <a:lnTo>
                    <a:pt x="206" y="444"/>
                  </a:lnTo>
                  <a:lnTo>
                    <a:pt x="259" y="469"/>
                  </a:lnTo>
                  <a:lnTo>
                    <a:pt x="301" y="492"/>
                  </a:lnTo>
                  <a:lnTo>
                    <a:pt x="336" y="515"/>
                  </a:lnTo>
                  <a:lnTo>
                    <a:pt x="378" y="540"/>
                  </a:lnTo>
                  <a:lnTo>
                    <a:pt x="412" y="567"/>
                  </a:lnTo>
                  <a:lnTo>
                    <a:pt x="450" y="594"/>
                  </a:lnTo>
                  <a:lnTo>
                    <a:pt x="485" y="621"/>
                  </a:lnTo>
                  <a:lnTo>
                    <a:pt x="519" y="646"/>
                  </a:lnTo>
                  <a:lnTo>
                    <a:pt x="542" y="672"/>
                  </a:lnTo>
                  <a:lnTo>
                    <a:pt x="573" y="698"/>
                  </a:lnTo>
                  <a:lnTo>
                    <a:pt x="600" y="722"/>
                  </a:lnTo>
                  <a:lnTo>
                    <a:pt x="630" y="750"/>
                  </a:lnTo>
                  <a:lnTo>
                    <a:pt x="653" y="788"/>
                  </a:lnTo>
                  <a:lnTo>
                    <a:pt x="895" y="526"/>
                  </a:lnTo>
                  <a:lnTo>
                    <a:pt x="1078" y="544"/>
                  </a:lnTo>
                  <a:lnTo>
                    <a:pt x="1216" y="564"/>
                  </a:lnTo>
                  <a:lnTo>
                    <a:pt x="1472" y="602"/>
                  </a:lnTo>
                  <a:lnTo>
                    <a:pt x="1587" y="624"/>
                  </a:lnTo>
                  <a:lnTo>
                    <a:pt x="1701" y="646"/>
                  </a:lnTo>
                  <a:lnTo>
                    <a:pt x="1896" y="685"/>
                  </a:lnTo>
                  <a:lnTo>
                    <a:pt x="2011" y="709"/>
                  </a:lnTo>
                  <a:lnTo>
                    <a:pt x="2148" y="737"/>
                  </a:lnTo>
                  <a:lnTo>
                    <a:pt x="2252" y="763"/>
                  </a:lnTo>
                  <a:lnTo>
                    <a:pt x="2343" y="785"/>
                  </a:lnTo>
                  <a:lnTo>
                    <a:pt x="2436" y="807"/>
                  </a:lnTo>
                  <a:lnTo>
                    <a:pt x="2528" y="833"/>
                  </a:lnTo>
                  <a:lnTo>
                    <a:pt x="2616" y="861"/>
                  </a:lnTo>
                  <a:lnTo>
                    <a:pt x="2684" y="889"/>
                  </a:lnTo>
                  <a:lnTo>
                    <a:pt x="2765" y="918"/>
                  </a:lnTo>
                  <a:lnTo>
                    <a:pt x="2833" y="952"/>
                  </a:lnTo>
                  <a:lnTo>
                    <a:pt x="2891" y="984"/>
                  </a:lnTo>
                  <a:lnTo>
                    <a:pt x="2937" y="1021"/>
                  </a:lnTo>
                  <a:lnTo>
                    <a:pt x="2982" y="1056"/>
                  </a:lnTo>
                  <a:lnTo>
                    <a:pt x="3028" y="1093"/>
                  </a:lnTo>
                  <a:lnTo>
                    <a:pt x="3063" y="1132"/>
                  </a:lnTo>
                  <a:lnTo>
                    <a:pt x="3132" y="1196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1716120" y="4886280"/>
            <a:ext cx="1418040" cy="619560"/>
            <a:chOff x="1716120" y="4886280"/>
            <a:chExt cx="1418040" cy="619560"/>
          </a:xfrm>
        </p:grpSpPr>
        <p:sp>
          <p:nvSpPr>
            <p:cNvPr id="1511" name=""/>
            <p:cNvSpPr/>
            <p:nvPr/>
          </p:nvSpPr>
          <p:spPr>
            <a:xfrm>
              <a:off x="1720800" y="4888080"/>
              <a:ext cx="929160" cy="357480"/>
            </a:xfrm>
            <a:custGeom>
              <a:avLst/>
              <a:gdLst/>
              <a:ahLst/>
              <a:rect l="0" t="0" r="r" b="b"/>
              <a:pathLst>
                <a:path w="2581" h="993">
                  <a:moveTo>
                    <a:pt x="0" y="0"/>
                  </a:moveTo>
                  <a:lnTo>
                    <a:pt x="190" y="0"/>
                  </a:lnTo>
                  <a:lnTo>
                    <a:pt x="241" y="71"/>
                  </a:lnTo>
                  <a:lnTo>
                    <a:pt x="304" y="137"/>
                  </a:lnTo>
                  <a:lnTo>
                    <a:pt x="381" y="196"/>
                  </a:lnTo>
                  <a:lnTo>
                    <a:pt x="457" y="258"/>
                  </a:lnTo>
                  <a:lnTo>
                    <a:pt x="533" y="310"/>
                  </a:lnTo>
                  <a:lnTo>
                    <a:pt x="609" y="354"/>
                  </a:lnTo>
                  <a:lnTo>
                    <a:pt x="682" y="395"/>
                  </a:lnTo>
                  <a:lnTo>
                    <a:pt x="771" y="442"/>
                  </a:lnTo>
                  <a:lnTo>
                    <a:pt x="873" y="482"/>
                  </a:lnTo>
                  <a:lnTo>
                    <a:pt x="1000" y="530"/>
                  </a:lnTo>
                  <a:lnTo>
                    <a:pt x="1115" y="567"/>
                  </a:lnTo>
                  <a:lnTo>
                    <a:pt x="1229" y="605"/>
                  </a:lnTo>
                  <a:lnTo>
                    <a:pt x="1356" y="639"/>
                  </a:lnTo>
                  <a:lnTo>
                    <a:pt x="1508" y="683"/>
                  </a:lnTo>
                  <a:lnTo>
                    <a:pt x="1686" y="730"/>
                  </a:lnTo>
                  <a:lnTo>
                    <a:pt x="1813" y="758"/>
                  </a:lnTo>
                  <a:lnTo>
                    <a:pt x="1954" y="786"/>
                  </a:lnTo>
                  <a:lnTo>
                    <a:pt x="2086" y="814"/>
                  </a:lnTo>
                  <a:lnTo>
                    <a:pt x="2213" y="839"/>
                  </a:lnTo>
                  <a:lnTo>
                    <a:pt x="2416" y="870"/>
                  </a:lnTo>
                  <a:lnTo>
                    <a:pt x="2581" y="889"/>
                  </a:lnTo>
                  <a:lnTo>
                    <a:pt x="2530" y="993"/>
                  </a:lnTo>
                  <a:lnTo>
                    <a:pt x="2251" y="958"/>
                  </a:lnTo>
                  <a:lnTo>
                    <a:pt x="1954" y="907"/>
                  </a:lnTo>
                  <a:lnTo>
                    <a:pt x="1699" y="854"/>
                  </a:lnTo>
                  <a:lnTo>
                    <a:pt x="1432" y="786"/>
                  </a:lnTo>
                  <a:lnTo>
                    <a:pt x="1051" y="692"/>
                  </a:lnTo>
                  <a:lnTo>
                    <a:pt x="733" y="589"/>
                  </a:lnTo>
                  <a:lnTo>
                    <a:pt x="457" y="479"/>
                  </a:lnTo>
                  <a:lnTo>
                    <a:pt x="292" y="382"/>
                  </a:lnTo>
                  <a:lnTo>
                    <a:pt x="127" y="262"/>
                  </a:lnTo>
                  <a:lnTo>
                    <a:pt x="63" y="1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70320" y="5321160"/>
              <a:ext cx="663840" cy="184680"/>
            </a:xfrm>
            <a:custGeom>
              <a:avLst/>
              <a:gdLst/>
              <a:ahLst/>
              <a:rect l="0" t="0" r="r" b="b"/>
              <a:pathLst>
                <a:path w="1844" h="513">
                  <a:moveTo>
                    <a:pt x="1425" y="0"/>
                  </a:moveTo>
                  <a:lnTo>
                    <a:pt x="1844" y="0"/>
                  </a:lnTo>
                  <a:lnTo>
                    <a:pt x="1738" y="20"/>
                  </a:lnTo>
                  <a:lnTo>
                    <a:pt x="1628" y="43"/>
                  </a:lnTo>
                  <a:lnTo>
                    <a:pt x="1514" y="73"/>
                  </a:lnTo>
                  <a:lnTo>
                    <a:pt x="1379" y="110"/>
                  </a:lnTo>
                  <a:lnTo>
                    <a:pt x="1235" y="148"/>
                  </a:lnTo>
                  <a:lnTo>
                    <a:pt x="1100" y="185"/>
                  </a:lnTo>
                  <a:lnTo>
                    <a:pt x="986" y="220"/>
                  </a:lnTo>
                  <a:lnTo>
                    <a:pt x="883" y="251"/>
                  </a:lnTo>
                  <a:lnTo>
                    <a:pt x="790" y="285"/>
                  </a:lnTo>
                  <a:lnTo>
                    <a:pt x="697" y="320"/>
                  </a:lnTo>
                  <a:lnTo>
                    <a:pt x="600" y="361"/>
                  </a:lnTo>
                  <a:lnTo>
                    <a:pt x="524" y="401"/>
                  </a:lnTo>
                  <a:lnTo>
                    <a:pt x="452" y="441"/>
                  </a:lnTo>
                  <a:lnTo>
                    <a:pt x="380" y="482"/>
                  </a:lnTo>
                  <a:lnTo>
                    <a:pt x="321" y="513"/>
                  </a:lnTo>
                  <a:lnTo>
                    <a:pt x="0" y="513"/>
                  </a:lnTo>
                  <a:lnTo>
                    <a:pt x="63" y="457"/>
                  </a:lnTo>
                  <a:lnTo>
                    <a:pt x="207" y="374"/>
                  </a:lnTo>
                  <a:lnTo>
                    <a:pt x="388" y="269"/>
                  </a:lnTo>
                  <a:lnTo>
                    <a:pt x="587" y="193"/>
                  </a:lnTo>
                  <a:lnTo>
                    <a:pt x="866" y="120"/>
                  </a:lnTo>
                  <a:lnTo>
                    <a:pt x="1100" y="51"/>
                  </a:lnTo>
                  <a:lnTo>
                    <a:pt x="1324" y="0"/>
                  </a:lnTo>
                  <a:lnTo>
                    <a:pt x="1840" y="0"/>
                  </a:lnTo>
                  <a:lnTo>
                    <a:pt x="1831" y="0"/>
                  </a:lnTo>
                  <a:lnTo>
                    <a:pt x="14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22680" y="5099040"/>
              <a:ext cx="406800" cy="219600"/>
            </a:xfrm>
            <a:custGeom>
              <a:avLst/>
              <a:gdLst/>
              <a:ahLst/>
              <a:rect l="0" t="0" r="r" b="b"/>
              <a:pathLst>
                <a:path w="1130" h="610">
                  <a:moveTo>
                    <a:pt x="0" y="0"/>
                  </a:moveTo>
                  <a:lnTo>
                    <a:pt x="349" y="0"/>
                  </a:lnTo>
                  <a:lnTo>
                    <a:pt x="378" y="39"/>
                  </a:lnTo>
                  <a:lnTo>
                    <a:pt x="407" y="79"/>
                  </a:lnTo>
                  <a:lnTo>
                    <a:pt x="445" y="117"/>
                  </a:lnTo>
                  <a:lnTo>
                    <a:pt x="482" y="158"/>
                  </a:lnTo>
                  <a:lnTo>
                    <a:pt x="528" y="203"/>
                  </a:lnTo>
                  <a:lnTo>
                    <a:pt x="577" y="253"/>
                  </a:lnTo>
                  <a:lnTo>
                    <a:pt x="652" y="315"/>
                  </a:lnTo>
                  <a:lnTo>
                    <a:pt x="719" y="374"/>
                  </a:lnTo>
                  <a:lnTo>
                    <a:pt x="772" y="413"/>
                  </a:lnTo>
                  <a:lnTo>
                    <a:pt x="848" y="462"/>
                  </a:lnTo>
                  <a:lnTo>
                    <a:pt x="935" y="512"/>
                  </a:lnTo>
                  <a:lnTo>
                    <a:pt x="1018" y="558"/>
                  </a:lnTo>
                  <a:lnTo>
                    <a:pt x="1085" y="590"/>
                  </a:lnTo>
                  <a:lnTo>
                    <a:pt x="1130" y="610"/>
                  </a:lnTo>
                  <a:lnTo>
                    <a:pt x="698" y="610"/>
                  </a:lnTo>
                  <a:lnTo>
                    <a:pt x="590" y="572"/>
                  </a:lnTo>
                  <a:lnTo>
                    <a:pt x="440" y="496"/>
                  </a:lnTo>
                  <a:lnTo>
                    <a:pt x="291" y="405"/>
                  </a:lnTo>
                  <a:lnTo>
                    <a:pt x="203" y="326"/>
                  </a:lnTo>
                  <a:lnTo>
                    <a:pt x="99" y="234"/>
                  </a:lnTo>
                  <a:lnTo>
                    <a:pt x="29" y="141"/>
                  </a:lnTo>
                  <a:lnTo>
                    <a:pt x="4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16120" y="4886280"/>
              <a:ext cx="1260720" cy="619560"/>
            </a:xfrm>
            <a:custGeom>
              <a:avLst/>
              <a:gdLst/>
              <a:ahLst/>
              <a:rect l="0" t="0" r="r" b="b"/>
              <a:pathLst>
                <a:path w="3502" h="1721">
                  <a:moveTo>
                    <a:pt x="25" y="0"/>
                  </a:moveTo>
                  <a:lnTo>
                    <a:pt x="0" y="93"/>
                  </a:lnTo>
                  <a:lnTo>
                    <a:pt x="0" y="140"/>
                  </a:lnTo>
                  <a:lnTo>
                    <a:pt x="0" y="197"/>
                  </a:lnTo>
                  <a:lnTo>
                    <a:pt x="12" y="250"/>
                  </a:lnTo>
                  <a:lnTo>
                    <a:pt x="25" y="303"/>
                  </a:lnTo>
                  <a:lnTo>
                    <a:pt x="50" y="356"/>
                  </a:lnTo>
                  <a:lnTo>
                    <a:pt x="89" y="403"/>
                  </a:lnTo>
                  <a:lnTo>
                    <a:pt x="127" y="457"/>
                  </a:lnTo>
                  <a:lnTo>
                    <a:pt x="190" y="519"/>
                  </a:lnTo>
                  <a:lnTo>
                    <a:pt x="267" y="576"/>
                  </a:lnTo>
                  <a:lnTo>
                    <a:pt x="331" y="629"/>
                  </a:lnTo>
                  <a:lnTo>
                    <a:pt x="420" y="689"/>
                  </a:lnTo>
                  <a:lnTo>
                    <a:pt x="522" y="745"/>
                  </a:lnTo>
                  <a:lnTo>
                    <a:pt x="623" y="801"/>
                  </a:lnTo>
                  <a:lnTo>
                    <a:pt x="721" y="848"/>
                  </a:lnTo>
                  <a:lnTo>
                    <a:pt x="823" y="902"/>
                  </a:lnTo>
                  <a:lnTo>
                    <a:pt x="925" y="947"/>
                  </a:lnTo>
                  <a:lnTo>
                    <a:pt x="1039" y="997"/>
                  </a:lnTo>
                  <a:lnTo>
                    <a:pt x="1154" y="1047"/>
                  </a:lnTo>
                  <a:lnTo>
                    <a:pt x="1294" y="1097"/>
                  </a:lnTo>
                  <a:lnTo>
                    <a:pt x="1409" y="1141"/>
                  </a:lnTo>
                  <a:lnTo>
                    <a:pt x="1561" y="1188"/>
                  </a:lnTo>
                  <a:lnTo>
                    <a:pt x="1701" y="1232"/>
                  </a:lnTo>
                  <a:lnTo>
                    <a:pt x="1842" y="1272"/>
                  </a:lnTo>
                  <a:lnTo>
                    <a:pt x="1995" y="1308"/>
                  </a:lnTo>
                  <a:lnTo>
                    <a:pt x="2127" y="1336"/>
                  </a:lnTo>
                  <a:lnTo>
                    <a:pt x="2267" y="1358"/>
                  </a:lnTo>
                  <a:lnTo>
                    <a:pt x="2080" y="1721"/>
                  </a:lnTo>
                  <a:lnTo>
                    <a:pt x="2178" y="1670"/>
                  </a:lnTo>
                  <a:lnTo>
                    <a:pt x="2280" y="1611"/>
                  </a:lnTo>
                  <a:lnTo>
                    <a:pt x="2369" y="1564"/>
                  </a:lnTo>
                  <a:lnTo>
                    <a:pt x="2437" y="1528"/>
                  </a:lnTo>
                  <a:lnTo>
                    <a:pt x="2521" y="1489"/>
                  </a:lnTo>
                  <a:lnTo>
                    <a:pt x="2598" y="1458"/>
                  </a:lnTo>
                  <a:lnTo>
                    <a:pt x="2683" y="1428"/>
                  </a:lnTo>
                  <a:lnTo>
                    <a:pt x="2780" y="1398"/>
                  </a:lnTo>
                  <a:lnTo>
                    <a:pt x="2878" y="1368"/>
                  </a:lnTo>
                  <a:lnTo>
                    <a:pt x="3001" y="1333"/>
                  </a:lnTo>
                  <a:lnTo>
                    <a:pt x="3133" y="1298"/>
                  </a:lnTo>
                  <a:lnTo>
                    <a:pt x="3243" y="1266"/>
                  </a:lnTo>
                  <a:lnTo>
                    <a:pt x="3387" y="1232"/>
                  </a:lnTo>
                  <a:lnTo>
                    <a:pt x="3502" y="1203"/>
                  </a:lnTo>
                  <a:lnTo>
                    <a:pt x="3451" y="1175"/>
                  </a:lnTo>
                  <a:lnTo>
                    <a:pt x="3387" y="1147"/>
                  </a:lnTo>
                  <a:lnTo>
                    <a:pt x="3332" y="1117"/>
                  </a:lnTo>
                  <a:lnTo>
                    <a:pt x="3273" y="1081"/>
                  </a:lnTo>
                  <a:lnTo>
                    <a:pt x="3213" y="1045"/>
                  </a:lnTo>
                  <a:lnTo>
                    <a:pt x="3167" y="1011"/>
                  </a:lnTo>
                  <a:lnTo>
                    <a:pt x="3128" y="979"/>
                  </a:lnTo>
                  <a:lnTo>
                    <a:pt x="3082" y="942"/>
                  </a:lnTo>
                  <a:lnTo>
                    <a:pt x="3043" y="904"/>
                  </a:lnTo>
                  <a:lnTo>
                    <a:pt x="3001" y="864"/>
                  </a:lnTo>
                  <a:lnTo>
                    <a:pt x="2963" y="828"/>
                  </a:lnTo>
                  <a:lnTo>
                    <a:pt x="2925" y="792"/>
                  </a:lnTo>
                  <a:lnTo>
                    <a:pt x="2899" y="753"/>
                  </a:lnTo>
                  <a:lnTo>
                    <a:pt x="2865" y="717"/>
                  </a:lnTo>
                  <a:lnTo>
                    <a:pt x="2836" y="682"/>
                  </a:lnTo>
                  <a:lnTo>
                    <a:pt x="2802" y="642"/>
                  </a:lnTo>
                  <a:lnTo>
                    <a:pt x="2776" y="586"/>
                  </a:lnTo>
                  <a:lnTo>
                    <a:pt x="2509" y="962"/>
                  </a:lnTo>
                  <a:lnTo>
                    <a:pt x="2305" y="937"/>
                  </a:lnTo>
                  <a:lnTo>
                    <a:pt x="2152" y="908"/>
                  </a:lnTo>
                  <a:lnTo>
                    <a:pt x="1868" y="855"/>
                  </a:lnTo>
                  <a:lnTo>
                    <a:pt x="1740" y="823"/>
                  </a:lnTo>
                  <a:lnTo>
                    <a:pt x="1612" y="792"/>
                  </a:lnTo>
                  <a:lnTo>
                    <a:pt x="1396" y="736"/>
                  </a:lnTo>
                  <a:lnTo>
                    <a:pt x="1268" y="701"/>
                  </a:lnTo>
                  <a:lnTo>
                    <a:pt x="1116" y="660"/>
                  </a:lnTo>
                  <a:lnTo>
                    <a:pt x="1001" y="623"/>
                  </a:lnTo>
                  <a:lnTo>
                    <a:pt x="899" y="592"/>
                  </a:lnTo>
                  <a:lnTo>
                    <a:pt x="797" y="560"/>
                  </a:lnTo>
                  <a:lnTo>
                    <a:pt x="696" y="523"/>
                  </a:lnTo>
                  <a:lnTo>
                    <a:pt x="598" y="482"/>
                  </a:lnTo>
                  <a:lnTo>
                    <a:pt x="522" y="441"/>
                  </a:lnTo>
                  <a:lnTo>
                    <a:pt x="432" y="399"/>
                  </a:lnTo>
                  <a:lnTo>
                    <a:pt x="356" y="349"/>
                  </a:lnTo>
                  <a:lnTo>
                    <a:pt x="292" y="303"/>
                  </a:lnTo>
                  <a:lnTo>
                    <a:pt x="241" y="250"/>
                  </a:lnTo>
                  <a:lnTo>
                    <a:pt x="190" y="200"/>
                  </a:lnTo>
                  <a:lnTo>
                    <a:pt x="140" y="147"/>
                  </a:lnTo>
                  <a:lnTo>
                    <a:pt x="101" y="9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620720" y="4457880"/>
            <a:ext cx="1276920" cy="429120"/>
            <a:chOff x="1620720" y="4457880"/>
            <a:chExt cx="1276920" cy="429120"/>
          </a:xfrm>
        </p:grpSpPr>
        <p:sp>
          <p:nvSpPr>
            <p:cNvPr id="1516" name=""/>
            <p:cNvSpPr/>
            <p:nvPr/>
          </p:nvSpPr>
          <p:spPr>
            <a:xfrm>
              <a:off x="2057400" y="4638600"/>
              <a:ext cx="837000" cy="248040"/>
            </a:xfrm>
            <a:custGeom>
              <a:avLst/>
              <a:gdLst/>
              <a:ahLst/>
              <a:rect l="0" t="0" r="r" b="b"/>
              <a:pathLst>
                <a:path w="2325" h="689">
                  <a:moveTo>
                    <a:pt x="2325" y="689"/>
                  </a:moveTo>
                  <a:lnTo>
                    <a:pt x="2154" y="689"/>
                  </a:lnTo>
                  <a:lnTo>
                    <a:pt x="2108" y="640"/>
                  </a:lnTo>
                  <a:lnTo>
                    <a:pt x="2051" y="594"/>
                  </a:lnTo>
                  <a:lnTo>
                    <a:pt x="1982" y="553"/>
                  </a:lnTo>
                  <a:lnTo>
                    <a:pt x="1913" y="509"/>
                  </a:lnTo>
                  <a:lnTo>
                    <a:pt x="1845" y="473"/>
                  </a:lnTo>
                  <a:lnTo>
                    <a:pt x="1776" y="443"/>
                  </a:lnTo>
                  <a:lnTo>
                    <a:pt x="1710" y="414"/>
                  </a:lnTo>
                  <a:lnTo>
                    <a:pt x="1630" y="382"/>
                  </a:lnTo>
                  <a:lnTo>
                    <a:pt x="1538" y="354"/>
                  </a:lnTo>
                  <a:lnTo>
                    <a:pt x="1424" y="321"/>
                  </a:lnTo>
                  <a:lnTo>
                    <a:pt x="1321" y="295"/>
                  </a:lnTo>
                  <a:lnTo>
                    <a:pt x="1218" y="269"/>
                  </a:lnTo>
                  <a:lnTo>
                    <a:pt x="1103" y="246"/>
                  </a:lnTo>
                  <a:lnTo>
                    <a:pt x="966" y="215"/>
                  </a:lnTo>
                  <a:lnTo>
                    <a:pt x="806" y="183"/>
                  </a:lnTo>
                  <a:lnTo>
                    <a:pt x="691" y="162"/>
                  </a:lnTo>
                  <a:lnTo>
                    <a:pt x="564" y="143"/>
                  </a:lnTo>
                  <a:lnTo>
                    <a:pt x="446" y="124"/>
                  </a:lnTo>
                  <a:lnTo>
                    <a:pt x="331" y="106"/>
                  </a:lnTo>
                  <a:lnTo>
                    <a:pt x="148" y="85"/>
                  </a:lnTo>
                  <a:lnTo>
                    <a:pt x="0" y="72"/>
                  </a:lnTo>
                  <a:lnTo>
                    <a:pt x="45" y="0"/>
                  </a:lnTo>
                  <a:lnTo>
                    <a:pt x="297" y="23"/>
                  </a:lnTo>
                  <a:lnTo>
                    <a:pt x="564" y="59"/>
                  </a:lnTo>
                  <a:lnTo>
                    <a:pt x="794" y="95"/>
                  </a:lnTo>
                  <a:lnTo>
                    <a:pt x="1035" y="143"/>
                  </a:lnTo>
                  <a:lnTo>
                    <a:pt x="1378" y="209"/>
                  </a:lnTo>
                  <a:lnTo>
                    <a:pt x="1664" y="280"/>
                  </a:lnTo>
                  <a:lnTo>
                    <a:pt x="1913" y="356"/>
                  </a:lnTo>
                  <a:lnTo>
                    <a:pt x="2062" y="423"/>
                  </a:lnTo>
                  <a:lnTo>
                    <a:pt x="2211" y="507"/>
                  </a:lnTo>
                  <a:lnTo>
                    <a:pt x="2268" y="577"/>
                  </a:lnTo>
                  <a:lnTo>
                    <a:pt x="2325" y="689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20720" y="4457880"/>
              <a:ext cx="597240" cy="127440"/>
            </a:xfrm>
            <a:custGeom>
              <a:avLst/>
              <a:gdLst/>
              <a:ahLst/>
              <a:rect l="0" t="0" r="r" b="b"/>
              <a:pathLst>
                <a:path w="1659" h="354">
                  <a:moveTo>
                    <a:pt x="376" y="354"/>
                  </a:moveTo>
                  <a:lnTo>
                    <a:pt x="0" y="354"/>
                  </a:lnTo>
                  <a:lnTo>
                    <a:pt x="95" y="340"/>
                  </a:lnTo>
                  <a:lnTo>
                    <a:pt x="193" y="324"/>
                  </a:lnTo>
                  <a:lnTo>
                    <a:pt x="296" y="304"/>
                  </a:lnTo>
                  <a:lnTo>
                    <a:pt x="418" y="278"/>
                  </a:lnTo>
                  <a:lnTo>
                    <a:pt x="547" y="251"/>
                  </a:lnTo>
                  <a:lnTo>
                    <a:pt x="669" y="226"/>
                  </a:lnTo>
                  <a:lnTo>
                    <a:pt x="771" y="202"/>
                  </a:lnTo>
                  <a:lnTo>
                    <a:pt x="864" y="181"/>
                  </a:lnTo>
                  <a:lnTo>
                    <a:pt x="947" y="157"/>
                  </a:lnTo>
                  <a:lnTo>
                    <a:pt x="1031" y="133"/>
                  </a:lnTo>
                  <a:lnTo>
                    <a:pt x="1119" y="105"/>
                  </a:lnTo>
                  <a:lnTo>
                    <a:pt x="1187" y="76"/>
                  </a:lnTo>
                  <a:lnTo>
                    <a:pt x="1252" y="49"/>
                  </a:lnTo>
                  <a:lnTo>
                    <a:pt x="1316" y="21"/>
                  </a:lnTo>
                  <a:lnTo>
                    <a:pt x="1370" y="0"/>
                  </a:lnTo>
                  <a:lnTo>
                    <a:pt x="1659" y="0"/>
                  </a:lnTo>
                  <a:lnTo>
                    <a:pt x="1602" y="38"/>
                  </a:lnTo>
                  <a:lnTo>
                    <a:pt x="1472" y="96"/>
                  </a:lnTo>
                  <a:lnTo>
                    <a:pt x="1309" y="168"/>
                  </a:lnTo>
                  <a:lnTo>
                    <a:pt x="1130" y="221"/>
                  </a:lnTo>
                  <a:lnTo>
                    <a:pt x="879" y="271"/>
                  </a:lnTo>
                  <a:lnTo>
                    <a:pt x="669" y="319"/>
                  </a:lnTo>
                  <a:lnTo>
                    <a:pt x="467" y="354"/>
                  </a:lnTo>
                  <a:lnTo>
                    <a:pt x="3" y="354"/>
                  </a:lnTo>
                  <a:lnTo>
                    <a:pt x="11" y="354"/>
                  </a:lnTo>
                  <a:lnTo>
                    <a:pt x="376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623960" y="4587840"/>
              <a:ext cx="367200" cy="152640"/>
            </a:xfrm>
            <a:custGeom>
              <a:avLst/>
              <a:gdLst/>
              <a:ahLst/>
              <a:rect l="0" t="0" r="r" b="b"/>
              <a:pathLst>
                <a:path w="1020" h="424">
                  <a:moveTo>
                    <a:pt x="1020" y="424"/>
                  </a:moveTo>
                  <a:lnTo>
                    <a:pt x="705" y="424"/>
                  </a:lnTo>
                  <a:lnTo>
                    <a:pt x="678" y="397"/>
                  </a:lnTo>
                  <a:lnTo>
                    <a:pt x="652" y="369"/>
                  </a:lnTo>
                  <a:lnTo>
                    <a:pt x="618" y="342"/>
                  </a:lnTo>
                  <a:lnTo>
                    <a:pt x="585" y="314"/>
                  </a:lnTo>
                  <a:lnTo>
                    <a:pt x="544" y="283"/>
                  </a:lnTo>
                  <a:lnTo>
                    <a:pt x="499" y="248"/>
                  </a:lnTo>
                  <a:lnTo>
                    <a:pt x="431" y="204"/>
                  </a:lnTo>
                  <a:lnTo>
                    <a:pt x="371" y="163"/>
                  </a:lnTo>
                  <a:lnTo>
                    <a:pt x="323" y="136"/>
                  </a:lnTo>
                  <a:lnTo>
                    <a:pt x="254" y="103"/>
                  </a:lnTo>
                  <a:lnTo>
                    <a:pt x="176" y="68"/>
                  </a:lnTo>
                  <a:lnTo>
                    <a:pt x="101" y="36"/>
                  </a:lnTo>
                  <a:lnTo>
                    <a:pt x="41" y="13"/>
                  </a:lnTo>
                  <a:lnTo>
                    <a:pt x="0" y="0"/>
                  </a:lnTo>
                  <a:lnTo>
                    <a:pt x="390" y="0"/>
                  </a:lnTo>
                  <a:lnTo>
                    <a:pt x="487" y="26"/>
                  </a:lnTo>
                  <a:lnTo>
                    <a:pt x="622" y="79"/>
                  </a:lnTo>
                  <a:lnTo>
                    <a:pt x="757" y="141"/>
                  </a:lnTo>
                  <a:lnTo>
                    <a:pt x="837" y="196"/>
                  </a:lnTo>
                  <a:lnTo>
                    <a:pt x="930" y="261"/>
                  </a:lnTo>
                  <a:lnTo>
                    <a:pt x="994" y="326"/>
                  </a:lnTo>
                  <a:lnTo>
                    <a:pt x="1016" y="371"/>
                  </a:lnTo>
                  <a:lnTo>
                    <a:pt x="1020" y="4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762200" y="4457880"/>
              <a:ext cx="1135440" cy="429120"/>
            </a:xfrm>
            <a:custGeom>
              <a:avLst/>
              <a:gdLst/>
              <a:ahLst/>
              <a:rect l="0" t="0" r="r" b="b"/>
              <a:pathLst>
                <a:path w="3154" h="1192">
                  <a:moveTo>
                    <a:pt x="3132" y="1192"/>
                  </a:moveTo>
                  <a:lnTo>
                    <a:pt x="3154" y="1127"/>
                  </a:lnTo>
                  <a:lnTo>
                    <a:pt x="3154" y="1095"/>
                  </a:lnTo>
                  <a:lnTo>
                    <a:pt x="3154" y="1055"/>
                  </a:lnTo>
                  <a:lnTo>
                    <a:pt x="3143" y="1019"/>
                  </a:lnTo>
                  <a:lnTo>
                    <a:pt x="3132" y="982"/>
                  </a:lnTo>
                  <a:lnTo>
                    <a:pt x="3109" y="946"/>
                  </a:lnTo>
                  <a:lnTo>
                    <a:pt x="3074" y="913"/>
                  </a:lnTo>
                  <a:lnTo>
                    <a:pt x="3040" y="875"/>
                  </a:lnTo>
                  <a:lnTo>
                    <a:pt x="2982" y="832"/>
                  </a:lnTo>
                  <a:lnTo>
                    <a:pt x="2914" y="793"/>
                  </a:lnTo>
                  <a:lnTo>
                    <a:pt x="2856" y="756"/>
                  </a:lnTo>
                  <a:lnTo>
                    <a:pt x="2776" y="715"/>
                  </a:lnTo>
                  <a:lnTo>
                    <a:pt x="2684" y="676"/>
                  </a:lnTo>
                  <a:lnTo>
                    <a:pt x="2593" y="637"/>
                  </a:lnTo>
                  <a:lnTo>
                    <a:pt x="2505" y="604"/>
                  </a:lnTo>
                  <a:lnTo>
                    <a:pt x="2413" y="567"/>
                  </a:lnTo>
                  <a:lnTo>
                    <a:pt x="2320" y="536"/>
                  </a:lnTo>
                  <a:lnTo>
                    <a:pt x="2217" y="501"/>
                  </a:lnTo>
                  <a:lnTo>
                    <a:pt x="2114" y="467"/>
                  </a:lnTo>
                  <a:lnTo>
                    <a:pt x="1988" y="432"/>
                  </a:lnTo>
                  <a:lnTo>
                    <a:pt x="1885" y="402"/>
                  </a:lnTo>
                  <a:lnTo>
                    <a:pt x="1747" y="369"/>
                  </a:lnTo>
                  <a:lnTo>
                    <a:pt x="1621" y="339"/>
                  </a:lnTo>
                  <a:lnTo>
                    <a:pt x="1495" y="311"/>
                  </a:lnTo>
                  <a:lnTo>
                    <a:pt x="1357" y="286"/>
                  </a:lnTo>
                  <a:lnTo>
                    <a:pt x="1239" y="266"/>
                  </a:lnTo>
                  <a:lnTo>
                    <a:pt x="1113" y="251"/>
                  </a:lnTo>
                  <a:lnTo>
                    <a:pt x="1281" y="0"/>
                  </a:lnTo>
                  <a:lnTo>
                    <a:pt x="1193" y="35"/>
                  </a:lnTo>
                  <a:lnTo>
                    <a:pt x="1101" y="76"/>
                  </a:lnTo>
                  <a:lnTo>
                    <a:pt x="1021" y="109"/>
                  </a:lnTo>
                  <a:lnTo>
                    <a:pt x="960" y="133"/>
                  </a:lnTo>
                  <a:lnTo>
                    <a:pt x="883" y="160"/>
                  </a:lnTo>
                  <a:lnTo>
                    <a:pt x="815" y="182"/>
                  </a:lnTo>
                  <a:lnTo>
                    <a:pt x="737" y="203"/>
                  </a:lnTo>
                  <a:lnTo>
                    <a:pt x="649" y="224"/>
                  </a:lnTo>
                  <a:lnTo>
                    <a:pt x="561" y="244"/>
                  </a:lnTo>
                  <a:lnTo>
                    <a:pt x="450" y="268"/>
                  </a:lnTo>
                  <a:lnTo>
                    <a:pt x="332" y="292"/>
                  </a:lnTo>
                  <a:lnTo>
                    <a:pt x="233" y="315"/>
                  </a:lnTo>
                  <a:lnTo>
                    <a:pt x="103" y="339"/>
                  </a:lnTo>
                  <a:lnTo>
                    <a:pt x="0" y="358"/>
                  </a:lnTo>
                  <a:lnTo>
                    <a:pt x="45" y="378"/>
                  </a:lnTo>
                  <a:lnTo>
                    <a:pt x="103" y="397"/>
                  </a:lnTo>
                  <a:lnTo>
                    <a:pt x="152" y="418"/>
                  </a:lnTo>
                  <a:lnTo>
                    <a:pt x="206" y="443"/>
                  </a:lnTo>
                  <a:lnTo>
                    <a:pt x="259" y="468"/>
                  </a:lnTo>
                  <a:lnTo>
                    <a:pt x="301" y="491"/>
                  </a:lnTo>
                  <a:lnTo>
                    <a:pt x="336" y="514"/>
                  </a:lnTo>
                  <a:lnTo>
                    <a:pt x="378" y="539"/>
                  </a:lnTo>
                  <a:lnTo>
                    <a:pt x="412" y="566"/>
                  </a:lnTo>
                  <a:lnTo>
                    <a:pt x="450" y="593"/>
                  </a:lnTo>
                  <a:lnTo>
                    <a:pt x="485" y="619"/>
                  </a:lnTo>
                  <a:lnTo>
                    <a:pt x="519" y="643"/>
                  </a:lnTo>
                  <a:lnTo>
                    <a:pt x="542" y="670"/>
                  </a:lnTo>
                  <a:lnTo>
                    <a:pt x="573" y="695"/>
                  </a:lnTo>
                  <a:lnTo>
                    <a:pt x="600" y="719"/>
                  </a:lnTo>
                  <a:lnTo>
                    <a:pt x="630" y="747"/>
                  </a:lnTo>
                  <a:lnTo>
                    <a:pt x="653" y="786"/>
                  </a:lnTo>
                  <a:lnTo>
                    <a:pt x="895" y="525"/>
                  </a:lnTo>
                  <a:lnTo>
                    <a:pt x="1078" y="543"/>
                  </a:lnTo>
                  <a:lnTo>
                    <a:pt x="1216" y="563"/>
                  </a:lnTo>
                  <a:lnTo>
                    <a:pt x="1472" y="600"/>
                  </a:lnTo>
                  <a:lnTo>
                    <a:pt x="1587" y="621"/>
                  </a:lnTo>
                  <a:lnTo>
                    <a:pt x="1701" y="643"/>
                  </a:lnTo>
                  <a:lnTo>
                    <a:pt x="1896" y="682"/>
                  </a:lnTo>
                  <a:lnTo>
                    <a:pt x="2011" y="706"/>
                  </a:lnTo>
                  <a:lnTo>
                    <a:pt x="2148" y="734"/>
                  </a:lnTo>
                  <a:lnTo>
                    <a:pt x="2252" y="760"/>
                  </a:lnTo>
                  <a:lnTo>
                    <a:pt x="2343" y="782"/>
                  </a:lnTo>
                  <a:lnTo>
                    <a:pt x="2436" y="804"/>
                  </a:lnTo>
                  <a:lnTo>
                    <a:pt x="2528" y="830"/>
                  </a:lnTo>
                  <a:lnTo>
                    <a:pt x="2616" y="858"/>
                  </a:lnTo>
                  <a:lnTo>
                    <a:pt x="2684" y="886"/>
                  </a:lnTo>
                  <a:lnTo>
                    <a:pt x="2765" y="915"/>
                  </a:lnTo>
                  <a:lnTo>
                    <a:pt x="2833" y="950"/>
                  </a:lnTo>
                  <a:lnTo>
                    <a:pt x="2891" y="982"/>
                  </a:lnTo>
                  <a:lnTo>
                    <a:pt x="2937" y="1019"/>
                  </a:lnTo>
                  <a:lnTo>
                    <a:pt x="2982" y="1053"/>
                  </a:lnTo>
                  <a:lnTo>
                    <a:pt x="3028" y="1090"/>
                  </a:lnTo>
                  <a:lnTo>
                    <a:pt x="3063" y="1129"/>
                  </a:lnTo>
                  <a:lnTo>
                    <a:pt x="3132" y="11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863640" y="3152880"/>
            <a:ext cx="889200" cy="1495800"/>
            <a:chOff x="863640" y="3152880"/>
            <a:chExt cx="889200" cy="1495800"/>
          </a:xfrm>
        </p:grpSpPr>
        <p:sp>
          <p:nvSpPr>
            <p:cNvPr id="1521" name=""/>
            <p:cNvSpPr/>
            <p:nvPr/>
          </p:nvSpPr>
          <p:spPr>
            <a:xfrm>
              <a:off x="1255680" y="3443400"/>
              <a:ext cx="192600" cy="217800"/>
            </a:xfrm>
            <a:custGeom>
              <a:avLst/>
              <a:gdLst/>
              <a:ahLst/>
              <a:rect l="0" t="0" r="r" b="b"/>
              <a:pathLst>
                <a:path w="535" h="605">
                  <a:moveTo>
                    <a:pt x="535" y="354"/>
                  </a:moveTo>
                  <a:lnTo>
                    <a:pt x="535" y="0"/>
                  </a:lnTo>
                  <a:lnTo>
                    <a:pt x="0" y="276"/>
                  </a:lnTo>
                  <a:lnTo>
                    <a:pt x="8" y="436"/>
                  </a:lnTo>
                  <a:lnTo>
                    <a:pt x="44" y="605"/>
                  </a:lnTo>
                  <a:lnTo>
                    <a:pt x="535" y="35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5080" y="3622680"/>
              <a:ext cx="182880" cy="213120"/>
            </a:xfrm>
            <a:custGeom>
              <a:avLst/>
              <a:gdLst/>
              <a:ahLst/>
              <a:rect l="0" t="0" r="r" b="b"/>
              <a:pathLst>
                <a:path w="508" h="592">
                  <a:moveTo>
                    <a:pt x="0" y="592"/>
                  </a:moveTo>
                  <a:lnTo>
                    <a:pt x="1" y="259"/>
                  </a:lnTo>
                  <a:lnTo>
                    <a:pt x="508" y="0"/>
                  </a:lnTo>
                  <a:lnTo>
                    <a:pt x="508" y="421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5080" y="3295800"/>
              <a:ext cx="887760" cy="1352880"/>
            </a:xfrm>
            <a:custGeom>
              <a:avLst/>
              <a:gdLst/>
              <a:ahLst/>
              <a:rect l="0" t="0" r="r" b="b"/>
              <a:pathLst>
                <a:path w="2466" h="3758">
                  <a:moveTo>
                    <a:pt x="2464" y="3735"/>
                  </a:moveTo>
                  <a:lnTo>
                    <a:pt x="2326" y="3758"/>
                  </a:lnTo>
                  <a:lnTo>
                    <a:pt x="2260" y="3758"/>
                  </a:lnTo>
                  <a:lnTo>
                    <a:pt x="2179" y="3758"/>
                  </a:lnTo>
                  <a:lnTo>
                    <a:pt x="2102" y="3748"/>
                  </a:lnTo>
                  <a:lnTo>
                    <a:pt x="2027" y="3735"/>
                  </a:lnTo>
                  <a:lnTo>
                    <a:pt x="1951" y="3712"/>
                  </a:lnTo>
                  <a:lnTo>
                    <a:pt x="1883" y="3671"/>
                  </a:lnTo>
                  <a:lnTo>
                    <a:pt x="1808" y="3626"/>
                  </a:lnTo>
                  <a:lnTo>
                    <a:pt x="1718" y="3562"/>
                  </a:lnTo>
                  <a:lnTo>
                    <a:pt x="1637" y="3475"/>
                  </a:lnTo>
                  <a:lnTo>
                    <a:pt x="1560" y="3411"/>
                  </a:lnTo>
                  <a:lnTo>
                    <a:pt x="1475" y="3311"/>
                  </a:lnTo>
                  <a:lnTo>
                    <a:pt x="1395" y="3202"/>
                  </a:lnTo>
                  <a:lnTo>
                    <a:pt x="1314" y="3093"/>
                  </a:lnTo>
                  <a:lnTo>
                    <a:pt x="1247" y="2983"/>
                  </a:lnTo>
                  <a:lnTo>
                    <a:pt x="1167" y="2874"/>
                  </a:lnTo>
                  <a:lnTo>
                    <a:pt x="1104" y="2769"/>
                  </a:lnTo>
                  <a:lnTo>
                    <a:pt x="1032" y="2646"/>
                  </a:lnTo>
                  <a:lnTo>
                    <a:pt x="962" y="2519"/>
                  </a:lnTo>
                  <a:lnTo>
                    <a:pt x="890" y="2364"/>
                  </a:lnTo>
                  <a:lnTo>
                    <a:pt x="827" y="2241"/>
                  </a:lnTo>
                  <a:lnTo>
                    <a:pt x="759" y="2077"/>
                  </a:lnTo>
                  <a:lnTo>
                    <a:pt x="696" y="1927"/>
                  </a:lnTo>
                  <a:lnTo>
                    <a:pt x="638" y="1776"/>
                  </a:lnTo>
                  <a:lnTo>
                    <a:pt x="589" y="1607"/>
                  </a:lnTo>
                  <a:lnTo>
                    <a:pt x="549" y="1470"/>
                  </a:lnTo>
                  <a:lnTo>
                    <a:pt x="517" y="1316"/>
                  </a:lnTo>
                  <a:lnTo>
                    <a:pt x="0" y="1521"/>
                  </a:lnTo>
                  <a:lnTo>
                    <a:pt x="79" y="1411"/>
                  </a:lnTo>
                  <a:lnTo>
                    <a:pt x="142" y="1316"/>
                  </a:lnTo>
                  <a:lnTo>
                    <a:pt x="217" y="1220"/>
                  </a:lnTo>
                  <a:lnTo>
                    <a:pt x="274" y="1120"/>
                  </a:lnTo>
                  <a:lnTo>
                    <a:pt x="324" y="1029"/>
                  </a:lnTo>
                  <a:lnTo>
                    <a:pt x="369" y="956"/>
                  </a:lnTo>
                  <a:lnTo>
                    <a:pt x="412" y="856"/>
                  </a:lnTo>
                  <a:lnTo>
                    <a:pt x="456" y="765"/>
                  </a:lnTo>
                  <a:lnTo>
                    <a:pt x="502" y="655"/>
                  </a:lnTo>
                  <a:lnTo>
                    <a:pt x="553" y="523"/>
                  </a:lnTo>
                  <a:lnTo>
                    <a:pt x="608" y="391"/>
                  </a:lnTo>
                  <a:lnTo>
                    <a:pt x="651" y="264"/>
                  </a:lnTo>
                  <a:lnTo>
                    <a:pt x="699" y="118"/>
                  </a:lnTo>
                  <a:lnTo>
                    <a:pt x="737" y="0"/>
                  </a:lnTo>
                  <a:lnTo>
                    <a:pt x="777" y="40"/>
                  </a:lnTo>
                  <a:lnTo>
                    <a:pt x="818" y="109"/>
                  </a:lnTo>
                  <a:lnTo>
                    <a:pt x="861" y="163"/>
                  </a:lnTo>
                  <a:lnTo>
                    <a:pt x="912" y="232"/>
                  </a:lnTo>
                  <a:lnTo>
                    <a:pt x="965" y="300"/>
                  </a:lnTo>
                  <a:lnTo>
                    <a:pt x="1013" y="341"/>
                  </a:lnTo>
                  <a:lnTo>
                    <a:pt x="1058" y="382"/>
                  </a:lnTo>
                  <a:lnTo>
                    <a:pt x="1110" y="437"/>
                  </a:lnTo>
                  <a:lnTo>
                    <a:pt x="1164" y="473"/>
                  </a:lnTo>
                  <a:lnTo>
                    <a:pt x="1223" y="523"/>
                  </a:lnTo>
                  <a:lnTo>
                    <a:pt x="1277" y="564"/>
                  </a:lnTo>
                  <a:lnTo>
                    <a:pt x="1328" y="605"/>
                  </a:lnTo>
                  <a:lnTo>
                    <a:pt x="1383" y="633"/>
                  </a:lnTo>
                  <a:lnTo>
                    <a:pt x="1436" y="669"/>
                  </a:lnTo>
                  <a:lnTo>
                    <a:pt x="1484" y="701"/>
                  </a:lnTo>
                  <a:lnTo>
                    <a:pt x="1542" y="742"/>
                  </a:lnTo>
                  <a:lnTo>
                    <a:pt x="1622" y="769"/>
                  </a:lnTo>
                  <a:lnTo>
                    <a:pt x="1082" y="1056"/>
                  </a:lnTo>
                  <a:lnTo>
                    <a:pt x="1118" y="1275"/>
                  </a:lnTo>
                  <a:lnTo>
                    <a:pt x="1158" y="1439"/>
                  </a:lnTo>
                  <a:lnTo>
                    <a:pt x="1238" y="1744"/>
                  </a:lnTo>
                  <a:lnTo>
                    <a:pt x="1283" y="1886"/>
                  </a:lnTo>
                  <a:lnTo>
                    <a:pt x="1328" y="2027"/>
                  </a:lnTo>
                  <a:lnTo>
                    <a:pt x="1391" y="2196"/>
                  </a:lnTo>
                  <a:lnTo>
                    <a:pt x="1457" y="2387"/>
                  </a:lnTo>
                  <a:lnTo>
                    <a:pt x="1524" y="2523"/>
                  </a:lnTo>
                  <a:lnTo>
                    <a:pt x="1614" y="2715"/>
                  </a:lnTo>
                  <a:lnTo>
                    <a:pt x="1691" y="2833"/>
                  </a:lnTo>
                  <a:lnTo>
                    <a:pt x="1763" y="2956"/>
                  </a:lnTo>
                  <a:lnTo>
                    <a:pt x="1826" y="3052"/>
                  </a:lnTo>
                  <a:lnTo>
                    <a:pt x="1870" y="3115"/>
                  </a:lnTo>
                  <a:lnTo>
                    <a:pt x="1951" y="3184"/>
                  </a:lnTo>
                  <a:lnTo>
                    <a:pt x="2023" y="3252"/>
                  </a:lnTo>
                  <a:lnTo>
                    <a:pt x="2102" y="3334"/>
                  </a:lnTo>
                  <a:lnTo>
                    <a:pt x="2215" y="3389"/>
                  </a:lnTo>
                  <a:lnTo>
                    <a:pt x="2299" y="3430"/>
                  </a:lnTo>
                  <a:lnTo>
                    <a:pt x="2466" y="3443"/>
                  </a:lnTo>
                  <a:lnTo>
                    <a:pt x="2464" y="373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3640" y="3152880"/>
              <a:ext cx="889200" cy="1398960"/>
            </a:xfrm>
            <a:custGeom>
              <a:avLst/>
              <a:gdLst/>
              <a:ahLst/>
              <a:rect l="0" t="0" r="r" b="b"/>
              <a:pathLst>
                <a:path w="2470" h="3886">
                  <a:moveTo>
                    <a:pt x="2470" y="3859"/>
                  </a:moveTo>
                  <a:lnTo>
                    <a:pt x="2334" y="3886"/>
                  </a:lnTo>
                  <a:lnTo>
                    <a:pt x="2266" y="3886"/>
                  </a:lnTo>
                  <a:lnTo>
                    <a:pt x="2185" y="3886"/>
                  </a:lnTo>
                  <a:lnTo>
                    <a:pt x="2109" y="3873"/>
                  </a:lnTo>
                  <a:lnTo>
                    <a:pt x="2034" y="3859"/>
                  </a:lnTo>
                  <a:lnTo>
                    <a:pt x="1957" y="3832"/>
                  </a:lnTo>
                  <a:lnTo>
                    <a:pt x="1890" y="3791"/>
                  </a:lnTo>
                  <a:lnTo>
                    <a:pt x="1814" y="3746"/>
                  </a:lnTo>
                  <a:lnTo>
                    <a:pt x="1724" y="3678"/>
                  </a:lnTo>
                  <a:lnTo>
                    <a:pt x="1643" y="3592"/>
                  </a:lnTo>
                  <a:lnTo>
                    <a:pt x="1566" y="3519"/>
                  </a:lnTo>
                  <a:lnTo>
                    <a:pt x="1481" y="3424"/>
                  </a:lnTo>
                  <a:lnTo>
                    <a:pt x="1400" y="3311"/>
                  </a:lnTo>
                  <a:lnTo>
                    <a:pt x="1319" y="3197"/>
                  </a:lnTo>
                  <a:lnTo>
                    <a:pt x="1252" y="3084"/>
                  </a:lnTo>
                  <a:lnTo>
                    <a:pt x="1173" y="2971"/>
                  </a:lnTo>
                  <a:lnTo>
                    <a:pt x="1110" y="2856"/>
                  </a:lnTo>
                  <a:lnTo>
                    <a:pt x="1038" y="2729"/>
                  </a:lnTo>
                  <a:lnTo>
                    <a:pt x="966" y="2603"/>
                  </a:lnTo>
                  <a:lnTo>
                    <a:pt x="894" y="2444"/>
                  </a:lnTo>
                  <a:lnTo>
                    <a:pt x="831" y="2317"/>
                  </a:lnTo>
                  <a:lnTo>
                    <a:pt x="764" y="2145"/>
                  </a:lnTo>
                  <a:lnTo>
                    <a:pt x="701" y="1991"/>
                  </a:lnTo>
                  <a:lnTo>
                    <a:pt x="642" y="1832"/>
                  </a:lnTo>
                  <a:lnTo>
                    <a:pt x="593" y="1660"/>
                  </a:lnTo>
                  <a:lnTo>
                    <a:pt x="552" y="1519"/>
                  </a:lnTo>
                  <a:lnTo>
                    <a:pt x="521" y="1360"/>
                  </a:lnTo>
                  <a:lnTo>
                    <a:pt x="0" y="1569"/>
                  </a:lnTo>
                  <a:lnTo>
                    <a:pt x="82" y="1460"/>
                  </a:lnTo>
                  <a:lnTo>
                    <a:pt x="145" y="1360"/>
                  </a:lnTo>
                  <a:lnTo>
                    <a:pt x="221" y="1261"/>
                  </a:lnTo>
                  <a:lnTo>
                    <a:pt x="278" y="1161"/>
                  </a:lnTo>
                  <a:lnTo>
                    <a:pt x="328" y="1066"/>
                  </a:lnTo>
                  <a:lnTo>
                    <a:pt x="373" y="993"/>
                  </a:lnTo>
                  <a:lnTo>
                    <a:pt x="416" y="883"/>
                  </a:lnTo>
                  <a:lnTo>
                    <a:pt x="460" y="788"/>
                  </a:lnTo>
                  <a:lnTo>
                    <a:pt x="506" y="679"/>
                  </a:lnTo>
                  <a:lnTo>
                    <a:pt x="557" y="543"/>
                  </a:lnTo>
                  <a:lnTo>
                    <a:pt x="611" y="412"/>
                  </a:lnTo>
                  <a:lnTo>
                    <a:pt x="656" y="276"/>
                  </a:lnTo>
                  <a:lnTo>
                    <a:pt x="704" y="126"/>
                  </a:lnTo>
                  <a:lnTo>
                    <a:pt x="741" y="0"/>
                  </a:lnTo>
                  <a:lnTo>
                    <a:pt x="782" y="45"/>
                  </a:lnTo>
                  <a:lnTo>
                    <a:pt x="822" y="117"/>
                  </a:lnTo>
                  <a:lnTo>
                    <a:pt x="866" y="176"/>
                  </a:lnTo>
                  <a:lnTo>
                    <a:pt x="917" y="244"/>
                  </a:lnTo>
                  <a:lnTo>
                    <a:pt x="969" y="312"/>
                  </a:lnTo>
                  <a:lnTo>
                    <a:pt x="1017" y="362"/>
                  </a:lnTo>
                  <a:lnTo>
                    <a:pt x="1063" y="403"/>
                  </a:lnTo>
                  <a:lnTo>
                    <a:pt x="1116" y="453"/>
                  </a:lnTo>
                  <a:lnTo>
                    <a:pt x="1170" y="494"/>
                  </a:lnTo>
                  <a:lnTo>
                    <a:pt x="1228" y="543"/>
                  </a:lnTo>
                  <a:lnTo>
                    <a:pt x="1282" y="584"/>
                  </a:lnTo>
                  <a:lnTo>
                    <a:pt x="1333" y="625"/>
                  </a:lnTo>
                  <a:lnTo>
                    <a:pt x="1388" y="657"/>
                  </a:lnTo>
                  <a:lnTo>
                    <a:pt x="1441" y="693"/>
                  </a:lnTo>
                  <a:lnTo>
                    <a:pt x="1490" y="725"/>
                  </a:lnTo>
                  <a:lnTo>
                    <a:pt x="1548" y="766"/>
                  </a:lnTo>
                  <a:lnTo>
                    <a:pt x="1625" y="793"/>
                  </a:lnTo>
                  <a:lnTo>
                    <a:pt x="1087" y="1093"/>
                  </a:lnTo>
                  <a:lnTo>
                    <a:pt x="1123" y="1320"/>
                  </a:lnTo>
                  <a:lnTo>
                    <a:pt x="1164" y="1487"/>
                  </a:lnTo>
                  <a:lnTo>
                    <a:pt x="1243" y="1800"/>
                  </a:lnTo>
                  <a:lnTo>
                    <a:pt x="1288" y="1950"/>
                  </a:lnTo>
                  <a:lnTo>
                    <a:pt x="1333" y="2090"/>
                  </a:lnTo>
                  <a:lnTo>
                    <a:pt x="1414" y="2331"/>
                  </a:lnTo>
                  <a:lnTo>
                    <a:pt x="1463" y="2471"/>
                  </a:lnTo>
                  <a:lnTo>
                    <a:pt x="1521" y="2643"/>
                  </a:lnTo>
                  <a:lnTo>
                    <a:pt x="1575" y="2770"/>
                  </a:lnTo>
                  <a:lnTo>
                    <a:pt x="1620" y="2884"/>
                  </a:lnTo>
                  <a:lnTo>
                    <a:pt x="1665" y="2998"/>
                  </a:lnTo>
                  <a:lnTo>
                    <a:pt x="1719" y="3111"/>
                  </a:lnTo>
                  <a:lnTo>
                    <a:pt x="1778" y="3225"/>
                  </a:lnTo>
                  <a:lnTo>
                    <a:pt x="1836" y="3311"/>
                  </a:lnTo>
                  <a:lnTo>
                    <a:pt x="1895" y="3410"/>
                  </a:lnTo>
                  <a:lnTo>
                    <a:pt x="1966" y="3492"/>
                  </a:lnTo>
                  <a:lnTo>
                    <a:pt x="2034" y="3560"/>
                  </a:lnTo>
                  <a:lnTo>
                    <a:pt x="2109" y="3619"/>
                  </a:lnTo>
                  <a:lnTo>
                    <a:pt x="2181" y="3678"/>
                  </a:lnTo>
                  <a:lnTo>
                    <a:pt x="2257" y="3732"/>
                  </a:lnTo>
                  <a:lnTo>
                    <a:pt x="2341" y="3782"/>
                  </a:lnTo>
                  <a:lnTo>
                    <a:pt x="2470" y="3859"/>
                  </a:lnTo>
                  <a:close/>
                </a:path>
              </a:pathLst>
            </a:custGeom>
            <a:solidFill>
              <a:srgbClr val="3365fb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685800" y="4191120"/>
            <a:ext cx="1087560" cy="914400"/>
            <a:chOff x="685800" y="4191120"/>
            <a:chExt cx="1087560" cy="914400"/>
          </a:xfrm>
        </p:grpSpPr>
        <p:pic>
          <p:nvPicPr>
            <p:cNvPr id="1526" name="" descr=""/>
            <p:cNvPicPr/>
            <p:nvPr/>
          </p:nvPicPr>
          <p:blipFill>
            <a:blip r:embed="rId15"/>
            <a:stretch/>
          </p:blipFill>
          <p:spPr>
            <a:xfrm>
              <a:off x="685800" y="4191120"/>
              <a:ext cx="1087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7" name="" descr=""/>
            <p:cNvPicPr/>
            <p:nvPr/>
          </p:nvPicPr>
          <p:blipFill>
            <a:blip r:embed="rId16"/>
            <a:stretch/>
          </p:blipFill>
          <p:spPr>
            <a:xfrm>
              <a:off x="1198440" y="4379760"/>
              <a:ext cx="29844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Hermes Integrat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1676520" y="4838760"/>
            <a:ext cx="6151680" cy="16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/ Hermes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033640" y="2057400"/>
            <a:ext cx="5434200" cy="2005200"/>
          </a:xfrm>
          <a:custGeom>
            <a:avLst/>
            <a:gdLst/>
            <a:ahLst/>
            <a:rect l="0" t="0" r="r" b="b"/>
            <a:pathLst>
              <a:path w="15095" h="5570">
                <a:moveTo>
                  <a:pt x="145" y="1267"/>
                </a:moveTo>
                <a:lnTo>
                  <a:pt x="291" y="975"/>
                </a:lnTo>
                <a:lnTo>
                  <a:pt x="582" y="779"/>
                </a:lnTo>
                <a:lnTo>
                  <a:pt x="1023" y="684"/>
                </a:lnTo>
                <a:lnTo>
                  <a:pt x="1605" y="589"/>
                </a:lnTo>
                <a:lnTo>
                  <a:pt x="1896" y="487"/>
                </a:lnTo>
                <a:lnTo>
                  <a:pt x="2116" y="487"/>
                </a:lnTo>
                <a:lnTo>
                  <a:pt x="2332" y="487"/>
                </a:lnTo>
                <a:lnTo>
                  <a:pt x="2553" y="589"/>
                </a:lnTo>
                <a:lnTo>
                  <a:pt x="2769" y="589"/>
                </a:lnTo>
                <a:lnTo>
                  <a:pt x="2989" y="589"/>
                </a:lnTo>
                <a:lnTo>
                  <a:pt x="3210" y="589"/>
                </a:lnTo>
                <a:lnTo>
                  <a:pt x="3426" y="589"/>
                </a:lnTo>
                <a:lnTo>
                  <a:pt x="3646" y="487"/>
                </a:lnTo>
                <a:lnTo>
                  <a:pt x="3937" y="392"/>
                </a:lnTo>
                <a:lnTo>
                  <a:pt x="4158" y="196"/>
                </a:lnTo>
                <a:lnTo>
                  <a:pt x="4374" y="0"/>
                </a:lnTo>
                <a:lnTo>
                  <a:pt x="4594" y="0"/>
                </a:lnTo>
                <a:lnTo>
                  <a:pt x="4811" y="0"/>
                </a:lnTo>
                <a:lnTo>
                  <a:pt x="5031" y="0"/>
                </a:lnTo>
                <a:lnTo>
                  <a:pt x="5251" y="95"/>
                </a:lnTo>
                <a:lnTo>
                  <a:pt x="5468" y="392"/>
                </a:lnTo>
                <a:lnTo>
                  <a:pt x="5688" y="487"/>
                </a:lnTo>
                <a:lnTo>
                  <a:pt x="5979" y="589"/>
                </a:lnTo>
                <a:lnTo>
                  <a:pt x="6270" y="589"/>
                </a:lnTo>
                <a:lnTo>
                  <a:pt x="6561" y="779"/>
                </a:lnTo>
                <a:lnTo>
                  <a:pt x="6782" y="779"/>
                </a:lnTo>
                <a:lnTo>
                  <a:pt x="6998" y="684"/>
                </a:lnTo>
                <a:lnTo>
                  <a:pt x="7293" y="589"/>
                </a:lnTo>
                <a:lnTo>
                  <a:pt x="7585" y="589"/>
                </a:lnTo>
                <a:lnTo>
                  <a:pt x="7876" y="487"/>
                </a:lnTo>
                <a:lnTo>
                  <a:pt x="8097" y="392"/>
                </a:lnTo>
                <a:lnTo>
                  <a:pt x="8313" y="392"/>
                </a:lnTo>
                <a:lnTo>
                  <a:pt x="8604" y="392"/>
                </a:lnTo>
                <a:lnTo>
                  <a:pt x="8824" y="392"/>
                </a:lnTo>
                <a:lnTo>
                  <a:pt x="9040" y="392"/>
                </a:lnTo>
                <a:lnTo>
                  <a:pt x="9336" y="589"/>
                </a:lnTo>
                <a:lnTo>
                  <a:pt x="9627" y="589"/>
                </a:lnTo>
                <a:lnTo>
                  <a:pt x="9918" y="487"/>
                </a:lnTo>
                <a:lnTo>
                  <a:pt x="10138" y="392"/>
                </a:lnTo>
                <a:lnTo>
                  <a:pt x="10355" y="196"/>
                </a:lnTo>
                <a:lnTo>
                  <a:pt x="10575" y="95"/>
                </a:lnTo>
                <a:lnTo>
                  <a:pt x="10791" y="0"/>
                </a:lnTo>
                <a:lnTo>
                  <a:pt x="11012" y="0"/>
                </a:lnTo>
                <a:lnTo>
                  <a:pt x="11303" y="196"/>
                </a:lnTo>
                <a:lnTo>
                  <a:pt x="11523" y="487"/>
                </a:lnTo>
                <a:lnTo>
                  <a:pt x="11669" y="779"/>
                </a:lnTo>
                <a:lnTo>
                  <a:pt x="11960" y="779"/>
                </a:lnTo>
                <a:lnTo>
                  <a:pt x="12396" y="779"/>
                </a:lnTo>
                <a:lnTo>
                  <a:pt x="12978" y="779"/>
                </a:lnTo>
                <a:lnTo>
                  <a:pt x="13419" y="779"/>
                </a:lnTo>
                <a:lnTo>
                  <a:pt x="14147" y="779"/>
                </a:lnTo>
                <a:lnTo>
                  <a:pt x="14438" y="880"/>
                </a:lnTo>
                <a:lnTo>
                  <a:pt x="14729" y="975"/>
                </a:lnTo>
                <a:lnTo>
                  <a:pt x="14949" y="1267"/>
                </a:lnTo>
                <a:lnTo>
                  <a:pt x="15095" y="1565"/>
                </a:lnTo>
                <a:lnTo>
                  <a:pt x="15095" y="1856"/>
                </a:lnTo>
                <a:lnTo>
                  <a:pt x="15020" y="2147"/>
                </a:lnTo>
                <a:lnTo>
                  <a:pt x="14804" y="2445"/>
                </a:lnTo>
                <a:lnTo>
                  <a:pt x="14583" y="2540"/>
                </a:lnTo>
                <a:lnTo>
                  <a:pt x="14292" y="2737"/>
                </a:lnTo>
                <a:lnTo>
                  <a:pt x="14001" y="2833"/>
                </a:lnTo>
                <a:lnTo>
                  <a:pt x="14147" y="3124"/>
                </a:lnTo>
                <a:lnTo>
                  <a:pt x="14292" y="3517"/>
                </a:lnTo>
                <a:lnTo>
                  <a:pt x="14367" y="3809"/>
                </a:lnTo>
                <a:lnTo>
                  <a:pt x="14367" y="4106"/>
                </a:lnTo>
                <a:lnTo>
                  <a:pt x="14147" y="4398"/>
                </a:lnTo>
                <a:lnTo>
                  <a:pt x="13926" y="4493"/>
                </a:lnTo>
                <a:lnTo>
                  <a:pt x="13710" y="4493"/>
                </a:lnTo>
                <a:lnTo>
                  <a:pt x="13419" y="4493"/>
                </a:lnTo>
                <a:lnTo>
                  <a:pt x="13274" y="4791"/>
                </a:lnTo>
                <a:lnTo>
                  <a:pt x="13274" y="5082"/>
                </a:lnTo>
                <a:lnTo>
                  <a:pt x="13053" y="5279"/>
                </a:lnTo>
                <a:lnTo>
                  <a:pt x="12833" y="5279"/>
                </a:lnTo>
                <a:lnTo>
                  <a:pt x="12617" y="5279"/>
                </a:lnTo>
                <a:lnTo>
                  <a:pt x="12396" y="5279"/>
                </a:lnTo>
                <a:lnTo>
                  <a:pt x="12105" y="5177"/>
                </a:lnTo>
                <a:lnTo>
                  <a:pt x="11885" y="5082"/>
                </a:lnTo>
                <a:lnTo>
                  <a:pt x="11303" y="5082"/>
                </a:lnTo>
                <a:lnTo>
                  <a:pt x="11012" y="4886"/>
                </a:lnTo>
                <a:lnTo>
                  <a:pt x="10791" y="5082"/>
                </a:lnTo>
                <a:lnTo>
                  <a:pt x="10575" y="5279"/>
                </a:lnTo>
                <a:lnTo>
                  <a:pt x="10284" y="5279"/>
                </a:lnTo>
                <a:lnTo>
                  <a:pt x="10063" y="5374"/>
                </a:lnTo>
                <a:lnTo>
                  <a:pt x="9772" y="5279"/>
                </a:lnTo>
                <a:lnTo>
                  <a:pt x="9336" y="5279"/>
                </a:lnTo>
                <a:lnTo>
                  <a:pt x="9115" y="5177"/>
                </a:lnTo>
                <a:lnTo>
                  <a:pt x="8895" y="4886"/>
                </a:lnTo>
                <a:lnTo>
                  <a:pt x="8604" y="5177"/>
                </a:lnTo>
                <a:lnTo>
                  <a:pt x="8388" y="5279"/>
                </a:lnTo>
                <a:lnTo>
                  <a:pt x="8167" y="5279"/>
                </a:lnTo>
                <a:lnTo>
                  <a:pt x="7585" y="5279"/>
                </a:lnTo>
                <a:lnTo>
                  <a:pt x="7148" y="5279"/>
                </a:lnTo>
                <a:lnTo>
                  <a:pt x="6927" y="5279"/>
                </a:lnTo>
                <a:lnTo>
                  <a:pt x="6707" y="5082"/>
                </a:lnTo>
                <a:lnTo>
                  <a:pt x="6491" y="5279"/>
                </a:lnTo>
                <a:lnTo>
                  <a:pt x="6270" y="5374"/>
                </a:lnTo>
                <a:lnTo>
                  <a:pt x="6054" y="5475"/>
                </a:lnTo>
                <a:lnTo>
                  <a:pt x="5759" y="5570"/>
                </a:lnTo>
                <a:lnTo>
                  <a:pt x="5177" y="5570"/>
                </a:lnTo>
                <a:lnTo>
                  <a:pt x="4594" y="5570"/>
                </a:lnTo>
                <a:lnTo>
                  <a:pt x="4158" y="5475"/>
                </a:lnTo>
                <a:lnTo>
                  <a:pt x="3717" y="5374"/>
                </a:lnTo>
                <a:lnTo>
                  <a:pt x="3280" y="5279"/>
                </a:lnTo>
                <a:lnTo>
                  <a:pt x="3064" y="5082"/>
                </a:lnTo>
                <a:lnTo>
                  <a:pt x="3064" y="4791"/>
                </a:lnTo>
                <a:lnTo>
                  <a:pt x="3064" y="4493"/>
                </a:lnTo>
                <a:lnTo>
                  <a:pt x="2844" y="4689"/>
                </a:lnTo>
                <a:lnTo>
                  <a:pt x="2553" y="4791"/>
                </a:lnTo>
                <a:lnTo>
                  <a:pt x="2262" y="4791"/>
                </a:lnTo>
                <a:lnTo>
                  <a:pt x="1966" y="4689"/>
                </a:lnTo>
                <a:lnTo>
                  <a:pt x="1750" y="4594"/>
                </a:lnTo>
                <a:lnTo>
                  <a:pt x="1530" y="4201"/>
                </a:lnTo>
                <a:lnTo>
                  <a:pt x="1384" y="3910"/>
                </a:lnTo>
                <a:lnTo>
                  <a:pt x="1314" y="3517"/>
                </a:lnTo>
                <a:lnTo>
                  <a:pt x="1093" y="3517"/>
                </a:lnTo>
                <a:lnTo>
                  <a:pt x="873" y="3517"/>
                </a:lnTo>
                <a:lnTo>
                  <a:pt x="657" y="3321"/>
                </a:lnTo>
                <a:lnTo>
                  <a:pt x="436" y="3226"/>
                </a:lnTo>
                <a:lnTo>
                  <a:pt x="220" y="3029"/>
                </a:lnTo>
                <a:lnTo>
                  <a:pt x="145" y="2737"/>
                </a:lnTo>
                <a:lnTo>
                  <a:pt x="0" y="2445"/>
                </a:lnTo>
                <a:lnTo>
                  <a:pt x="0" y="2147"/>
                </a:lnTo>
                <a:lnTo>
                  <a:pt x="0" y="1856"/>
                </a:lnTo>
                <a:lnTo>
                  <a:pt x="74" y="1565"/>
                </a:lnTo>
                <a:lnTo>
                  <a:pt x="291" y="1368"/>
                </a:lnTo>
                <a:lnTo>
                  <a:pt x="511" y="1172"/>
                </a:lnTo>
                <a:lnTo>
                  <a:pt x="511" y="880"/>
                </a:lnTo>
                <a:lnTo>
                  <a:pt x="145" y="1267"/>
                </a:lnTo>
                <a:close/>
              </a:path>
            </a:pathLst>
          </a:custGeom>
          <a:gradFill rotWithShape="0">
            <a:gsLst>
              <a:gs pos="0">
                <a:srgbClr val="3365fb"/>
              </a:gs>
              <a:gs pos="100000">
                <a:srgbClr val="0f1e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4597560" y="3780000"/>
            <a:ext cx="31212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1789200" y="3767040"/>
            <a:ext cx="28954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71360" y="1028880"/>
            <a:ext cx="8801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s with “Enterprise” management systems through SNMP and NetView servic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uilt into Windows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2859120" y="2492280"/>
            <a:ext cx="378144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Manager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HP OpenView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Net Manager, Net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838080" y="1352520"/>
            <a:ext cx="7162920" cy="53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broad range of platforms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Cs,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Ns, Windows NT Advanced Server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 for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UNI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with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: off-the-shelf or cus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only to “adapted”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distributes data files, runs macros, 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Powerf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 txBox="1"/>
          <p:nvPr/>
        </p:nvSpPr>
        <p:spPr>
          <a:xfrm>
            <a:off x="990720" y="1733400"/>
            <a:ext cx="71629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autom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eed to install software on every client and server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does this for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be outgr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 supports unlimited hierarchy of servers, centrally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Reliab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457200" y="1276200"/>
            <a:ext cx="80773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help desk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assures correct versions of software, correctly config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automatically targeted to appropriate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s complete software installation, including .ini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es administrators if anything goes wrong, tries to restart itself automa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Windows NT security and au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 is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609480" y="1200240"/>
            <a:ext cx="80773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ustomers and ISVs to add functionality in various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ing standards-based, can be integrated with heterogeneous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es with Desktop Management Task Force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243000" y="228600"/>
            <a:ext cx="86583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 Client-Server Comp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971800" y="1486080"/>
            <a:ext cx="563868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ly simplifies support for networked PCs by centralizing and automating management ta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enough for mid-sized LANs, yet sophisticated and can’t be outg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d standards-based for integration with heterogeneous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learn and use due to consistent Windows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79640" y="2114640"/>
            <a:ext cx="12826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600" y="228600"/>
            <a:ext cx="91184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rowth In Client-Server Computing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0" y="1501920"/>
            <a:ext cx="459108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sizing business applications has increased system management complex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nd processes no longer centralized on host:  spread over hosts, servers, and deskt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ing out new applications and upgrades is time-consuming and error-pr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4840" y="1743120"/>
            <a:ext cx="41590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4200" y="228600"/>
            <a:ext cx="81756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gration To Client-Server</a:t>
            </a:r>
            <a:br>
              <a:rPr sz="1800"/>
            </a:b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mpact on system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2280" y="1600200"/>
            <a:ext cx="4419720" cy="2666880"/>
            <a:chOff x="152280" y="1600200"/>
            <a:chExt cx="4419720" cy="266688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600200"/>
              <a:ext cx="4419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H="1" flipV="1">
              <a:off x="536400" y="2106720"/>
              <a:ext cx="46224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46040" y="2301840"/>
              <a:ext cx="55260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46040" y="2301840"/>
              <a:ext cx="552600" cy="198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98640" y="2301840"/>
              <a:ext cx="426960" cy="10303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98640" y="2301840"/>
              <a:ext cx="299880" cy="15080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998640" y="2041560"/>
              <a:ext cx="1531800" cy="2602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98640" y="2301840"/>
              <a:ext cx="2940120" cy="10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998640" y="2106720"/>
              <a:ext cx="299880" cy="1951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8640" y="2301840"/>
              <a:ext cx="1531800" cy="1287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998640" y="2236680"/>
              <a:ext cx="1106280" cy="65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8640" y="2301840"/>
              <a:ext cx="3189240" cy="1420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1480" y="2301840"/>
              <a:ext cx="1658880" cy="3286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2560" y="2055960"/>
              <a:ext cx="5731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" name=""/>
          <p:cNvGrpSpPr/>
          <p:nvPr/>
        </p:nvGrpSpPr>
        <p:grpSpPr>
          <a:xfrm>
            <a:off x="228600" y="4227480"/>
            <a:ext cx="4419720" cy="2554200"/>
            <a:chOff x="228600" y="4227480"/>
            <a:chExt cx="4419720" cy="255420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231840" y="4227480"/>
              <a:ext cx="4416480" cy="25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flipH="1" flipV="1">
              <a:off x="611280" y="4713120"/>
              <a:ext cx="46836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27040" y="4902120"/>
              <a:ext cx="552600" cy="604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27040" y="4902120"/>
              <a:ext cx="552600" cy="18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79640" y="4902120"/>
              <a:ext cx="423720" cy="9828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79640" y="4902120"/>
              <a:ext cx="295200" cy="1440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079640" y="4649760"/>
              <a:ext cx="1528560" cy="252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79640" y="4902120"/>
              <a:ext cx="2935080" cy="1047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079640" y="4713120"/>
              <a:ext cx="295200" cy="1890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9640" y="4902120"/>
              <a:ext cx="1528560" cy="12319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079640" y="4838760"/>
              <a:ext cx="1104840" cy="633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79640" y="4902120"/>
              <a:ext cx="3187440" cy="13575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19240" y="4902120"/>
              <a:ext cx="1658880" cy="312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887400" y="4776840"/>
              <a:ext cx="318960" cy="2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673440" y="4757760"/>
              <a:ext cx="593640" cy="410040"/>
              <a:chOff x="3673440" y="4757760"/>
              <a:chExt cx="593640" cy="41004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37972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146480" y="496584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970440" y="486900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728880" y="5059440"/>
                <a:ext cx="135360" cy="108360"/>
                <a:chOff x="3728880" y="5059440"/>
                <a:chExt cx="135360" cy="1083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375588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747960" y="5140440"/>
                  <a:ext cx="93600" cy="0"/>
                </a:xfrm>
                <a:custGeom>
                  <a:avLst/>
                  <a:gdLst/>
                  <a:ahLst/>
                  <a:rect l="0" t="0" r="r" b="b"/>
                  <a:pathLst>
                    <a:path w="26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0" y="0"/>
                      </a:lnTo>
                      <a:lnTo>
                        <a:pt x="26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49760" y="5122800"/>
                  <a:ext cx="92520" cy="18000"/>
                </a:xfrm>
                <a:custGeom>
                  <a:avLst/>
                  <a:gdLst/>
                  <a:ahLst/>
                  <a:rect l="0" t="0" r="r" b="b"/>
                  <a:pathLst>
                    <a:path w="257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57" y="0"/>
                      </a:lnTo>
                      <a:lnTo>
                        <a:pt x="257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814920" y="5133960"/>
                  <a:ext cx="27360" cy="1800"/>
                </a:xfrm>
                <a:custGeom>
                  <a:avLst/>
                  <a:gdLst/>
                  <a:ahLst/>
                  <a:rect l="0" t="0" r="r" b="b"/>
                  <a:pathLst>
                    <a:path w="7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72888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72888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74508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738600" y="51544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738600" y="515772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7450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6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11" y="10"/>
                      </a:lnTo>
                      <a:lnTo>
                        <a:pt x="10" y="13"/>
                      </a:lnTo>
                      <a:lnTo>
                        <a:pt x="9" y="10"/>
                      </a:lnTo>
                      <a:lnTo>
                        <a:pt x="1" y="10"/>
                      </a:lnTo>
                      <a:lnTo>
                        <a:pt x="1" y="12"/>
                      </a:lnTo>
                      <a:lnTo>
                        <a:pt x="8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10" y="19"/>
                      </a:lnTo>
                      <a:lnTo>
                        <a:pt x="10" y="23"/>
                      </a:lnTo>
                      <a:lnTo>
                        <a:pt x="4" y="23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0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8" y="6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749760" y="51544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530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7576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76236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6380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67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768840" y="514836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7" y="6"/>
                      </a:lnTo>
                      <a:lnTo>
                        <a:pt x="19" y="6"/>
                      </a:lnTo>
                      <a:lnTo>
                        <a:pt x="20" y="10"/>
                      </a:lnTo>
                      <a:lnTo>
                        <a:pt x="13" y="10"/>
                      </a:lnTo>
                      <a:lnTo>
                        <a:pt x="11" y="12"/>
                      </a:lnTo>
                      <a:lnTo>
                        <a:pt x="12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20" y="16"/>
                      </a:lnTo>
                      <a:lnTo>
                        <a:pt x="19" y="18"/>
                      </a:lnTo>
                      <a:lnTo>
                        <a:pt x="19" y="19"/>
                      </a:lnTo>
                      <a:lnTo>
                        <a:pt x="31" y="19"/>
                      </a:lnTo>
                      <a:lnTo>
                        <a:pt x="32" y="23"/>
                      </a:lnTo>
                      <a:lnTo>
                        <a:pt x="18" y="23"/>
                      </a:lnTo>
                      <a:lnTo>
                        <a:pt x="16" y="19"/>
                      </a:lnTo>
                      <a:lnTo>
                        <a:pt x="14" y="16"/>
                      </a:lnTo>
                      <a:lnTo>
                        <a:pt x="10" y="16"/>
                      </a:lnTo>
                      <a:lnTo>
                        <a:pt x="7" y="10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782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7800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8468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2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78936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7958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80052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79728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196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196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8196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83688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8419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83688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8386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838680" y="51577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7972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7688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7450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81492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386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75588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609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5912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75912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3076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900600" y="5059440"/>
                <a:ext cx="138600" cy="108360"/>
                <a:chOff x="3900600" y="5059440"/>
                <a:chExt cx="138600" cy="10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29040" y="512136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22560" y="514044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9225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989520" y="513396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900600" y="514512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900600" y="5164200"/>
                  <a:ext cx="138600" cy="3600"/>
                </a:xfrm>
                <a:custGeom>
                  <a:avLst/>
                  <a:gdLst/>
                  <a:ahLst/>
                  <a:rect l="0" t="0" r="r" b="b"/>
                  <a:pathLst>
                    <a:path w="385" h="10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91644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9117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9117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9164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925800" y="515448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92760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9304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93372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36960" y="5151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416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4488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513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5280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96072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96396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686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973680" y="51483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15" y="7"/>
                      </a:lnTo>
                      <a:lnTo>
                        <a:pt x="16" y="12"/>
                      </a:lnTo>
                      <a:lnTo>
                        <a:pt x="9" y="12"/>
                      </a:lnTo>
                      <a:lnTo>
                        <a:pt x="8" y="15"/>
                      </a:lnTo>
                      <a:lnTo>
                        <a:pt x="18" y="15"/>
                      </a:lnTo>
                      <a:lnTo>
                        <a:pt x="19" y="19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3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70440" y="514836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9240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99240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9240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08600" y="51483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1472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010040" y="5151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011480" y="515448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1472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97044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9434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91968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89520" y="51451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01148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29040" y="505944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33720" y="506556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932280" y="506412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32280" y="506412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932280" y="511020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00356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076640" y="5059440"/>
                <a:ext cx="135360" cy="108360"/>
                <a:chOff x="4076640" y="5059440"/>
                <a:chExt cx="135360" cy="1083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100400" y="512136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095720" y="514044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97160" y="5122800"/>
                  <a:ext cx="95760" cy="18000"/>
                </a:xfrm>
                <a:custGeom>
                  <a:avLst/>
                  <a:gdLst/>
                  <a:ahLst/>
                  <a:rect l="0" t="0" r="r" b="b"/>
                  <a:pathLst>
                    <a:path w="266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165560" y="513396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076640" y="514512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76640" y="5164200"/>
                  <a:ext cx="135360" cy="3600"/>
                </a:xfrm>
                <a:custGeom>
                  <a:avLst/>
                  <a:gdLst/>
                  <a:ahLst/>
                  <a:rect l="0" t="0" r="r" b="b"/>
                  <a:pathLst>
                    <a:path w="376" h="10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091040" y="51483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84560" y="51544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084560" y="51577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091040" y="514836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098960" y="515448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0040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2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0688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1012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111560" y="51516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11336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11804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10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3" y="18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3" y="23"/>
                      </a:lnTo>
                      <a:lnTo>
                        <a:pt x="12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125960" y="514836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8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2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127400" y="514836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132440" y="514836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137120" y="51483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143240" y="51483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148280" y="51483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8" y="7"/>
                      </a:lnTo>
                      <a:lnTo>
                        <a:pt x="9" y="12"/>
                      </a:lnTo>
                      <a:lnTo>
                        <a:pt x="5" y="12"/>
                      </a:lnTo>
                      <a:lnTo>
                        <a:pt x="4" y="15"/>
                      </a:lnTo>
                      <a:lnTo>
                        <a:pt x="10" y="15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145040" y="514836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165560" y="5148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65560" y="515160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67360" y="51544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83200" y="51483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189320" y="5148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83200" y="5151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184640" y="51544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186080" y="51577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145040" y="514512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116240" y="51451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92480" y="514512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65560" y="51451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184640" y="51451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100400" y="505944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108320" y="506556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106880" y="506412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106880" y="506412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6880" y="51102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6720" y="506412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4" y="13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894120" y="4757760"/>
                <a:ext cx="151200" cy="122040"/>
                <a:chOff x="3894120" y="4757760"/>
                <a:chExt cx="151200" cy="12204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894120" y="4757760"/>
                  <a:ext cx="28440" cy="122040"/>
                  <a:chOff x="3894120" y="4757760"/>
                  <a:chExt cx="28440" cy="1220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922560" y="4759200"/>
                    <a:ext cx="0" cy="1206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5">
                        <a:moveTo>
                          <a:pt x="0" y="335"/>
                        </a:moveTo>
                        <a:lnTo>
                          <a:pt x="0" y="33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894120" y="475776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09960" y="4762440"/>
                    <a:ext cx="68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85">
                        <a:moveTo>
                          <a:pt x="19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19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900600" y="4853160"/>
                  <a:ext cx="144720" cy="25920"/>
                </a:xfrm>
                <a:custGeom>
                  <a:avLst/>
                  <a:gdLst/>
                  <a:ahLst/>
                  <a:rect l="0" t="0" r="r" b="b"/>
                  <a:pathLst>
                    <a:path w="402" h="72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72"/>
                      </a:lnTo>
                      <a:lnTo>
                        <a:pt x="0" y="7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900600" y="4879800"/>
                  <a:ext cx="144360" cy="0"/>
                </a:xfrm>
                <a:custGeom>
                  <a:avLst/>
                  <a:gdLst/>
                  <a:ahLst/>
                  <a:rect l="0" t="0" r="r" b="b"/>
                  <a:pathLst>
                    <a:path w="401" h="0">
                      <a:moveTo>
                        <a:pt x="0" y="0"/>
                      </a:moveTo>
                      <a:lnTo>
                        <a:pt x="401" y="0"/>
                      </a:lnTo>
                      <a:lnTo>
                        <a:pt x="40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16440" y="48610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911760" y="486720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909960" y="48704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16440" y="48610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925800" y="48672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92904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93228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935520" y="48610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40200" y="48625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7"/>
                      </a:lnTo>
                      <a:lnTo>
                        <a:pt x="8" y="7"/>
                      </a:lnTo>
                      <a:lnTo>
                        <a:pt x="8" y="11"/>
                      </a:lnTo>
                      <a:lnTo>
                        <a:pt x="5" y="11"/>
                      </a:lnTo>
                      <a:lnTo>
                        <a:pt x="4" y="12"/>
                      </a:lnTo>
                      <a:lnTo>
                        <a:pt x="5" y="13"/>
                      </a:lnTo>
                      <a:lnTo>
                        <a:pt x="10" y="13"/>
                      </a:lnTo>
                      <a:lnTo>
                        <a:pt x="10" y="19"/>
                      </a:lnTo>
                      <a:lnTo>
                        <a:pt x="4" y="19"/>
                      </a:lnTo>
                      <a:lnTo>
                        <a:pt x="4" y="17"/>
                      </a:lnTo>
                      <a:lnTo>
                        <a:pt x="3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9416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948120" y="48610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51360" y="48610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7" y="6"/>
                      </a:lnTo>
                      <a:lnTo>
                        <a:pt x="18" y="6"/>
                      </a:lnTo>
                      <a:lnTo>
                        <a:pt x="19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3" y="12"/>
                      </a:lnTo>
                      <a:lnTo>
                        <a:pt x="25" y="16"/>
                      </a:lnTo>
                      <a:lnTo>
                        <a:pt x="19" y="16"/>
                      </a:lnTo>
                      <a:lnTo>
                        <a:pt x="16" y="19"/>
                      </a:lnTo>
                      <a:lnTo>
                        <a:pt x="19" y="19"/>
                      </a:lnTo>
                      <a:lnTo>
                        <a:pt x="32" y="19"/>
                      </a:lnTo>
                      <a:lnTo>
                        <a:pt x="32" y="23"/>
                      </a:lnTo>
                      <a:lnTo>
                        <a:pt x="16" y="23"/>
                      </a:lnTo>
                      <a:lnTo>
                        <a:pt x="16" y="19"/>
                      </a:lnTo>
                      <a:lnTo>
                        <a:pt x="12" y="16"/>
                      </a:lnTo>
                      <a:lnTo>
                        <a:pt x="9" y="16"/>
                      </a:lnTo>
                      <a:lnTo>
                        <a:pt x="6" y="8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56040" y="48610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6396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67200" y="4861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6" y="7"/>
                      </a:lnTo>
                      <a:lnTo>
                        <a:pt x="13" y="7"/>
                      </a:lnTo>
                      <a:lnTo>
                        <a:pt x="15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17" y="12"/>
                      </a:lnTo>
                      <a:lnTo>
                        <a:pt x="18" y="15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3" y="19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971880" y="48610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6" y="7"/>
                      </a:lnTo>
                      <a:lnTo>
                        <a:pt x="11" y="7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8" y="14"/>
                      </a:lnTo>
                      <a:lnTo>
                        <a:pt x="18" y="14"/>
                      </a:lnTo>
                      <a:lnTo>
                        <a:pt x="19" y="17"/>
                      </a:lnTo>
                      <a:lnTo>
                        <a:pt x="16" y="17"/>
                      </a:lnTo>
                      <a:lnTo>
                        <a:pt x="15" y="23"/>
                      </a:lnTo>
                      <a:lnTo>
                        <a:pt x="11" y="17"/>
                      </a:lnTo>
                      <a:lnTo>
                        <a:pt x="8" y="17"/>
                      </a:lnTo>
                      <a:lnTo>
                        <a:pt x="4" y="10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975120" y="48610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973680" y="48610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8880" y="4861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98880" y="48625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99888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017960" y="48610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021200" y="4861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017960" y="4862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019400" y="486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019400" y="48704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97368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943440" y="4854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92256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992400" y="4854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019400" y="4854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930480" y="47736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40200" y="4781520"/>
                  <a:ext cx="74880" cy="59040"/>
                </a:xfrm>
                <a:custGeom>
                  <a:avLst/>
                  <a:gdLst/>
                  <a:ahLst/>
                  <a:rect l="0" t="0" r="r" b="b"/>
                  <a:pathLst>
                    <a:path w="208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5520" y="4781520"/>
                  <a:ext cx="82800" cy="1800"/>
                </a:xfrm>
                <a:custGeom>
                  <a:avLst/>
                  <a:gdLst/>
                  <a:ahLst/>
                  <a:rect l="0" t="0" r="r" b="b"/>
                  <a:pathLst>
                    <a:path w="230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91" y="5"/>
                      </a:lnTo>
                      <a:lnTo>
                        <a:pt x="215" y="5"/>
                      </a:lnTo>
                      <a:lnTo>
                        <a:pt x="23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5520" y="4781520"/>
                  <a:ext cx="6840" cy="59040"/>
                </a:xfrm>
                <a:custGeom>
                  <a:avLst/>
                  <a:gdLst/>
                  <a:ahLst/>
                  <a:rect l="0" t="0" r="r" b="b"/>
                  <a:pathLst>
                    <a:path w="19" h="164">
                      <a:moveTo>
                        <a:pt x="0" y="0"/>
                      </a:moveTo>
                      <a:lnTo>
                        <a:pt x="19" y="10"/>
                      </a:lnTo>
                      <a:lnTo>
                        <a:pt x="19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935520" y="4840200"/>
                  <a:ext cx="82440" cy="0"/>
                </a:xfrm>
                <a:custGeom>
                  <a:avLst/>
                  <a:gdLst/>
                  <a:ahLst/>
                  <a:rect l="0" t="0" r="r" b="b"/>
                  <a:pathLst>
                    <a:path w="229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90" y="0"/>
                      </a:lnTo>
                      <a:lnTo>
                        <a:pt x="215" y="0"/>
                      </a:lnTo>
                      <a:lnTo>
                        <a:pt x="22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014720" y="478152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0" y="16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43440" y="4786200"/>
                  <a:ext cx="7128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3673440" y="496260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973160" y="4422600"/>
              <a:ext cx="594000" cy="408240"/>
              <a:chOff x="1973160" y="4422600"/>
              <a:chExt cx="594000" cy="408240"/>
            </a:xfrm>
          </p:grpSpPr>
          <p:sp>
            <p:nvSpPr>
              <p:cNvPr id="258" name=""/>
              <p:cNvSpPr/>
              <p:nvPr/>
            </p:nvSpPr>
            <p:spPr>
              <a:xfrm flipV="1">
                <a:off x="209556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443320" y="4630680"/>
                <a:ext cx="0" cy="986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270160" y="4533840"/>
                <a:ext cx="0" cy="1954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028960" y="4724280"/>
                <a:ext cx="136800" cy="106560"/>
                <a:chOff x="2028960" y="4724280"/>
                <a:chExt cx="136800" cy="106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0527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0480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048040" y="479124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1146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0289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0289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0448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0383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0368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0415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049480" y="4821120"/>
                  <a:ext cx="43200" cy="5040"/>
                </a:xfrm>
                <a:custGeom>
                  <a:avLst/>
                  <a:gdLst/>
                  <a:ahLst/>
                  <a:rect l="0" t="0" r="r" b="b"/>
                  <a:pathLst>
                    <a:path w="120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4" y="6"/>
                      </a:lnTo>
                      <a:lnTo>
                        <a:pt x="6" y="6"/>
                      </a:lnTo>
                      <a:lnTo>
                        <a:pt x="9" y="10"/>
                      </a:lnTo>
                      <a:lnTo>
                        <a:pt x="116" y="10"/>
                      </a:lnTo>
                      <a:lnTo>
                        <a:pt x="120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05272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05596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062080" y="4816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065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532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0700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07504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6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7" y="10"/>
                      </a:lnTo>
                      <a:lnTo>
                        <a:pt x="5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81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84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890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9232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0024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937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1932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1207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3660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984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38400" y="4816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13840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3984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937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6856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046240" y="480996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1146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38400" y="48099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27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588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574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57400" y="473076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574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304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01760" y="4724280"/>
                <a:ext cx="136800" cy="106560"/>
                <a:chOff x="2201760" y="4724280"/>
                <a:chExt cx="136800" cy="10656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2552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20840" y="480708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2226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289240" y="479916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201760" y="480852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01760" y="482904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17600" y="481500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212920" y="4821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211480" y="48229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2161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6" y="1"/>
                      </a:lnTo>
                      <a:lnTo>
                        <a:pt x="16" y="3"/>
                      </a:lnTo>
                      <a:lnTo>
                        <a:pt x="22" y="3"/>
                      </a:lnTo>
                      <a:lnTo>
                        <a:pt x="23" y="6"/>
                      </a:lnTo>
                      <a:lnTo>
                        <a:pt x="18" y="6"/>
                      </a:lnTo>
                      <a:lnTo>
                        <a:pt x="16" y="8"/>
                      </a:lnTo>
                      <a:lnTo>
                        <a:pt x="15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17" y="14"/>
                      </a:lnTo>
                      <a:lnTo>
                        <a:pt x="7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3" y="3"/>
                      </a:lnTo>
                      <a:lnTo>
                        <a:pt x="15" y="1"/>
                      </a:lnTo>
                      <a:lnTo>
                        <a:pt x="12" y="1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240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22408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15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15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20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3524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23668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238480" y="481644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2431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2496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252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590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2622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2683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71600" y="4816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2268360" y="481644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92480" y="4816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292480" y="48211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309760" y="4816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3144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0976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311560" y="48211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311560" y="482292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2683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2417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2194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28924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311560" y="48099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22552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233440" y="473076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232000" y="473076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3200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232000" y="477684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05080" y="473076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376360" y="4724280"/>
                <a:ext cx="135360" cy="106560"/>
                <a:chOff x="2376360" y="4724280"/>
                <a:chExt cx="135360" cy="1065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400480" y="4789440"/>
                  <a:ext cx="86040" cy="19440"/>
                </a:xfrm>
                <a:custGeom>
                  <a:avLst/>
                  <a:gdLst/>
                  <a:ahLst/>
                  <a:rect l="0" t="0" r="r" b="b"/>
                  <a:pathLst>
                    <a:path w="239" h="54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397240" y="4807080"/>
                  <a:ext cx="93960" cy="1800"/>
                </a:xfrm>
                <a:custGeom>
                  <a:avLst/>
                  <a:gdLst/>
                  <a:ahLst/>
                  <a:rect l="0" t="0" r="r" b="b"/>
                  <a:pathLst>
                    <a:path w="261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397240" y="479124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460600" y="4799160"/>
                  <a:ext cx="28800" cy="3600"/>
                </a:xfrm>
                <a:custGeom>
                  <a:avLst/>
                  <a:gdLst/>
                  <a:ahLst/>
                  <a:rect l="0" t="0" r="r" b="b"/>
                  <a:pathLst>
                    <a:path w="80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376360" y="4808520"/>
                  <a:ext cx="135360" cy="18000"/>
                </a:xfrm>
                <a:custGeom>
                  <a:avLst/>
                  <a:gdLst/>
                  <a:ahLst/>
                  <a:rect l="0" t="0" r="r" b="b"/>
                  <a:pathLst>
                    <a:path w="376" h="50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376360" y="482904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389320" y="48150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386080" y="48211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384280" y="48229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87520" y="48164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3" y="1"/>
                      </a:lnTo>
                      <a:lnTo>
                        <a:pt x="23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26" y="6"/>
                      </a:lnTo>
                      <a:lnTo>
                        <a:pt x="23" y="8"/>
                      </a:lnTo>
                      <a:lnTo>
                        <a:pt x="20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8" y="8"/>
                      </a:lnTo>
                      <a:lnTo>
                        <a:pt x="19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3" y="11"/>
                      </a:lnTo>
                      <a:lnTo>
                        <a:pt x="25" y="14"/>
                      </a:lnTo>
                      <a:lnTo>
                        <a:pt x="12" y="14"/>
                      </a:lnTo>
                      <a:lnTo>
                        <a:pt x="13" y="11"/>
                      </a:lnTo>
                      <a:lnTo>
                        <a:pt x="11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9" y="3"/>
                      </a:lnTo>
                      <a:lnTo>
                        <a:pt x="20" y="1"/>
                      </a:lnTo>
                      <a:lnTo>
                        <a:pt x="16" y="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398680" y="4821120"/>
                  <a:ext cx="44640" cy="5040"/>
                </a:xfrm>
                <a:custGeom>
                  <a:avLst/>
                  <a:gdLst/>
                  <a:ahLst/>
                  <a:rect l="0" t="0" r="r" b="b"/>
                  <a:pathLst>
                    <a:path w="124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12" y="4"/>
                      </a:lnTo>
                      <a:lnTo>
                        <a:pt x="15" y="6"/>
                      </a:lnTo>
                      <a:lnTo>
                        <a:pt x="6" y="6"/>
                      </a:lnTo>
                      <a:lnTo>
                        <a:pt x="10" y="10"/>
                      </a:lnTo>
                      <a:lnTo>
                        <a:pt x="121" y="10"/>
                      </a:lnTo>
                      <a:lnTo>
                        <a:pt x="124" y="14"/>
                      </a:lnTo>
                      <a:lnTo>
                        <a:pt x="4" y="14"/>
                      </a:lnTo>
                      <a:lnTo>
                        <a:pt x="4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9868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40516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4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408400" y="4816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40840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13" y="0"/>
                      </a:lnTo>
                      <a:lnTo>
                        <a:pt x="14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16" y="5"/>
                      </a:lnTo>
                      <a:lnTo>
                        <a:pt x="17" y="8"/>
                      </a:lnTo>
                      <a:lnTo>
                        <a:pt x="12" y="8"/>
                      </a:lnTo>
                      <a:lnTo>
                        <a:pt x="9" y="9"/>
                      </a:lnTo>
                      <a:lnTo>
                        <a:pt x="12" y="10"/>
                      </a:lnTo>
                      <a:lnTo>
                        <a:pt x="23" y="10"/>
                      </a:lnTo>
                      <a:lnTo>
                        <a:pt x="23" y="14"/>
                      </a:ln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6" y="8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145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41776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42244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42712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43360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436840" y="4816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43320" y="4816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8" y="14"/>
                      </a:lnTo>
                      <a:lnTo>
                        <a:pt x="6" y="11"/>
                      </a:lnTo>
                      <a:lnTo>
                        <a:pt x="4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44760" y="481644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0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43320" y="481644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6708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468520" y="482112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3"/>
                      </a:lnTo>
                      <a:lnTo>
                        <a:pt x="10" y="3"/>
                      </a:lnTo>
                      <a:lnTo>
                        <a:pt x="11" y="8"/>
                      </a:lnTo>
                      <a:lnTo>
                        <a:pt x="16" y="8"/>
                      </a:lnTo>
                      <a:lnTo>
                        <a:pt x="19" y="10"/>
                      </a:lnTo>
                      <a:lnTo>
                        <a:pt x="20" y="8"/>
                      </a:lnTo>
                      <a:lnTo>
                        <a:pt x="25" y="8"/>
                      </a:lnTo>
                      <a:lnTo>
                        <a:pt x="27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7" y="8"/>
                      </a:lnTo>
                      <a:lnTo>
                        <a:pt x="8" y="12"/>
                      </a:lnTo>
                      <a:lnTo>
                        <a:pt x="9" y="8"/>
                      </a:lnTo>
                      <a:lnTo>
                        <a:pt x="7" y="3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481120" y="481644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489040" y="4816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82920" y="48164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486160" y="482112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87600" y="482292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44332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16320" y="480996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39400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0600" y="48099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486160" y="48099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400480" y="472428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406600" y="473076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405160" y="473076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405160" y="473076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405160" y="477684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478240" y="4730760"/>
                  <a:ext cx="0" cy="47520"/>
                </a:xfrm>
                <a:custGeom>
                  <a:avLst/>
                  <a:gdLst/>
                  <a:ahLst/>
                  <a:rect l="0" t="0" r="r" b="b"/>
                  <a:pathLst>
                    <a:path w="0" h="13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23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193840" y="4422600"/>
                <a:ext cx="153000" cy="125640"/>
                <a:chOff x="2193840" y="4422600"/>
                <a:chExt cx="153000" cy="12564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2193840" y="4422600"/>
                  <a:ext cx="29160" cy="122760"/>
                  <a:chOff x="2193840" y="4422600"/>
                  <a:chExt cx="29160" cy="122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2219400" y="442440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93840" y="4422600"/>
                    <a:ext cx="241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336">
                        <a:moveTo>
                          <a:pt x="67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211480" y="442764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>
                  <a:off x="2200320" y="4519440"/>
                  <a:ext cx="146520" cy="24120"/>
                </a:xfrm>
                <a:custGeom>
                  <a:avLst/>
                  <a:gdLst/>
                  <a:ahLst/>
                  <a:rect l="0" t="0" r="r" b="b"/>
                  <a:pathLst>
                    <a:path w="407" h="67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7"/>
                      </a:lnTo>
                      <a:lnTo>
                        <a:pt x="0" y="67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00320" y="4546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17600" y="45277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212920" y="4533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211480" y="4535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21616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224080" y="4533840"/>
                  <a:ext cx="47880" cy="5040"/>
                </a:xfrm>
                <a:custGeom>
                  <a:avLst/>
                  <a:gdLst/>
                  <a:ahLst/>
                  <a:rect l="0" t="0" r="r" b="b"/>
                  <a:pathLst>
                    <a:path w="13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13" y="4"/>
                      </a:lnTo>
                      <a:lnTo>
                        <a:pt x="16" y="6"/>
                      </a:lnTo>
                      <a:lnTo>
                        <a:pt x="6" y="6"/>
                      </a:lnTo>
                      <a:lnTo>
                        <a:pt x="11" y="10"/>
                      </a:lnTo>
                      <a:lnTo>
                        <a:pt x="129" y="10"/>
                      </a:lnTo>
                      <a:lnTo>
                        <a:pt x="133" y="14"/>
                      </a:lnTo>
                      <a:lnTo>
                        <a:pt x="5" y="14"/>
                      </a:lnTo>
                      <a:lnTo>
                        <a:pt x="5" y="10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22552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5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6" y="16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3200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0"/>
                      </a:lnTo>
                      <a:lnTo>
                        <a:pt x="2" y="6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23668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236680" y="45306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39920" y="452772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24784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5108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57560" y="452772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9" y="17"/>
                      </a:lnTo>
                      <a:lnTo>
                        <a:pt x="9" y="19"/>
                      </a:lnTo>
                      <a:lnTo>
                        <a:pt x="14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60440" y="452772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5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0" y="19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8360" y="452772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8" y="7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9" y="12"/>
                      </a:lnTo>
                      <a:lnTo>
                        <a:pt x="10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271600" y="452772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9" y="6"/>
                      </a:lnTo>
                      <a:lnTo>
                        <a:pt x="10" y="9"/>
                      </a:lnTo>
                      <a:lnTo>
                        <a:pt x="9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5"/>
                      </a:lnTo>
                      <a:lnTo>
                        <a:pt x="11" y="15"/>
                      </a:lnTo>
                      <a:lnTo>
                        <a:pt x="11" y="19"/>
                      </a:lnTo>
                      <a:lnTo>
                        <a:pt x="9" y="15"/>
                      </a:lnTo>
                      <a:lnTo>
                        <a:pt x="5" y="15"/>
                      </a:lnTo>
                      <a:lnTo>
                        <a:pt x="3" y="9"/>
                      </a:lnTo>
                      <a:lnTo>
                        <a:pt x="1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276640" y="452772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6" y="2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5" y="4"/>
                      </a:lnTo>
                      <a:lnTo>
                        <a:pt x="16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9" y="14"/>
                      </a:lnTo>
                      <a:lnTo>
                        <a:pt x="7" y="12"/>
                      </a:lnTo>
                      <a:lnTo>
                        <a:pt x="6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271600" y="452772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295360" y="4527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295360" y="4530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295360" y="453384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15" y="0"/>
                      </a:moveTo>
                      <a:lnTo>
                        <a:pt x="25" y="0"/>
                      </a:lnTo>
                      <a:lnTo>
                        <a:pt x="2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27" y="6"/>
                      </a:lnTo>
                      <a:lnTo>
                        <a:pt x="31" y="8"/>
                      </a:lnTo>
                      <a:lnTo>
                        <a:pt x="32" y="6"/>
                      </a:lnTo>
                      <a:lnTo>
                        <a:pt x="42" y="6"/>
                      </a:lnTo>
                      <a:lnTo>
                        <a:pt x="45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3" y="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316240" y="452772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322360" y="4527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316240" y="4530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16240" y="45338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16240" y="4537080"/>
                  <a:ext cx="24120" cy="1800"/>
                </a:xfrm>
                <a:custGeom>
                  <a:avLst/>
                  <a:gdLst/>
                  <a:ahLst/>
                  <a:rect l="0" t="0" r="r" b="b"/>
                  <a:pathLst>
                    <a:path w="67" h="5">
                      <a:moveTo>
                        <a:pt x="1" y="3"/>
                      </a:moveTo>
                      <a:lnTo>
                        <a:pt x="30" y="3"/>
                      </a:lnTo>
                      <a:lnTo>
                        <a:pt x="35" y="1"/>
                      </a:lnTo>
                      <a:lnTo>
                        <a:pt x="35" y="0"/>
                      </a:lnTo>
                      <a:lnTo>
                        <a:pt x="46" y="0"/>
                      </a:lnTo>
                      <a:lnTo>
                        <a:pt x="46" y="1"/>
                      </a:lnTo>
                      <a:lnTo>
                        <a:pt x="38" y="1"/>
                      </a:lnTo>
                      <a:lnTo>
                        <a:pt x="35" y="3"/>
                      </a:lnTo>
                      <a:lnTo>
                        <a:pt x="38" y="4"/>
                      </a:lnTo>
                      <a:lnTo>
                        <a:pt x="43" y="3"/>
                      </a:lnTo>
                      <a:lnTo>
                        <a:pt x="48" y="3"/>
                      </a:lnTo>
                      <a:lnTo>
                        <a:pt x="53" y="4"/>
                      </a:lnTo>
                      <a:lnTo>
                        <a:pt x="56" y="3"/>
                      </a:lnTo>
                      <a:lnTo>
                        <a:pt x="63" y="3"/>
                      </a:lnTo>
                      <a:lnTo>
                        <a:pt x="67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2716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243160" y="4521240"/>
                  <a:ext cx="25200" cy="0"/>
                </a:xfrm>
                <a:custGeom>
                  <a:avLst/>
                  <a:gdLst/>
                  <a:ahLst/>
                  <a:rect l="0" t="0" r="r" b="b"/>
                  <a:pathLst>
                    <a:path w="70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7" y="0"/>
                      </a:lnTo>
                      <a:lnTo>
                        <a:pt x="7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21940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293920" y="45212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316240" y="452124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32000" y="443880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236680" y="44481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236680" y="444816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236680" y="444816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236680" y="4506840"/>
                  <a:ext cx="79200" cy="0"/>
                </a:xfrm>
                <a:custGeom>
                  <a:avLst/>
                  <a:gdLst/>
                  <a:ahLst/>
                  <a:rect l="0" t="0" r="r" b="b"/>
                  <a:pathLst>
                    <a:path w="220" h="0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83" y="0"/>
                      </a:lnTo>
                      <a:lnTo>
                        <a:pt x="207" y="0"/>
                      </a:lnTo>
                      <a:lnTo>
                        <a:pt x="22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311560" y="4448160"/>
                  <a:ext cx="5040" cy="59040"/>
                </a:xfrm>
                <a:custGeom>
                  <a:avLst/>
                  <a:gdLst/>
                  <a:ahLst/>
                  <a:rect l="0" t="0" r="r" b="b"/>
                  <a:pathLst>
                    <a:path w="14" h="164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14" y="16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241720" y="4451400"/>
                  <a:ext cx="69840" cy="5544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"/>
              <p:cNvSpPr/>
              <p:nvPr/>
            </p:nvSpPr>
            <p:spPr>
              <a:xfrm>
                <a:off x="1973160" y="4629240"/>
                <a:ext cx="59400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270160" y="5843520"/>
              <a:ext cx="595440" cy="408240"/>
              <a:chOff x="2270160" y="5843520"/>
              <a:chExt cx="595440" cy="408240"/>
            </a:xfrm>
          </p:grpSpPr>
          <p:sp>
            <p:nvSpPr>
              <p:cNvPr id="440" name=""/>
              <p:cNvSpPr/>
              <p:nvPr/>
            </p:nvSpPr>
            <p:spPr>
              <a:xfrm flipV="1">
                <a:off x="23954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73996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256716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325600" y="6145200"/>
                <a:ext cx="135360" cy="106560"/>
                <a:chOff x="2325600" y="6145200"/>
                <a:chExt cx="135360" cy="1065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3511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34468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3464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24145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32560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32560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3414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3353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3335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341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34792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3511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2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3544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360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6052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3637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368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3749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37816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382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38608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39076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3972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394000" y="6235560"/>
                  <a:ext cx="14760" cy="9720"/>
                </a:xfrm>
                <a:custGeom>
                  <a:avLst/>
                  <a:gdLst/>
                  <a:ahLst/>
                  <a:rect l="0" t="0" r="r" b="b"/>
                  <a:pathLst>
                    <a:path w="41" h="27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2"/>
                      </a:lnTo>
                      <a:lnTo>
                        <a:pt x="26" y="2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9" y="10"/>
                      </a:lnTo>
                      <a:lnTo>
                        <a:pt x="37" y="10"/>
                      </a:lnTo>
                      <a:lnTo>
                        <a:pt x="38" y="6"/>
                      </a:lnTo>
                      <a:lnTo>
                        <a:pt x="41" y="16"/>
                      </a:lnTo>
                      <a:lnTo>
                        <a:pt x="34" y="16"/>
                      </a:lnTo>
                      <a:lnTo>
                        <a:pt x="34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7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2" y="16"/>
                      </a:lnTo>
                      <a:lnTo>
                        <a:pt x="32" y="15"/>
                      </a:lnTo>
                      <a:lnTo>
                        <a:pt x="26" y="10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24163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4163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4163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43360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4382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43360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243360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243540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3940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65200" y="62326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3414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145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43360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3511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357280" y="6151680"/>
                  <a:ext cx="70200" cy="46440"/>
                </a:xfrm>
                <a:custGeom>
                  <a:avLst/>
                  <a:gdLst/>
                  <a:ahLst/>
                  <a:rect l="0" t="0" r="r" b="b"/>
                  <a:pathLst>
                    <a:path w="195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5" y="0"/>
                      </a:lnTo>
                      <a:lnTo>
                        <a:pt x="195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357280" y="614988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170" y="5"/>
                      </a:lnTo>
                      <a:lnTo>
                        <a:pt x="192" y="5"/>
                      </a:lnTo>
                      <a:lnTo>
                        <a:pt x="20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35728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357280" y="6197760"/>
                  <a:ext cx="73440" cy="1800"/>
                </a:xfrm>
                <a:custGeom>
                  <a:avLst/>
                  <a:gdLst/>
                  <a:ahLst/>
                  <a:rect l="0" t="0" r="r" b="b"/>
                  <a:pathLst>
                    <a:path w="204" h="5">
                      <a:moveTo>
                        <a:pt x="0" y="5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4271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498760" y="6145200"/>
                <a:ext cx="138600" cy="106560"/>
                <a:chOff x="2498760" y="6145200"/>
                <a:chExt cx="138600" cy="10656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52576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5178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51928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58588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49876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49876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5146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5081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508120" y="6243480"/>
                  <a:ext cx="11520" cy="1800"/>
                </a:xfrm>
                <a:custGeom>
                  <a:avLst/>
                  <a:gdLst/>
                  <a:ahLst/>
                  <a:rect l="0" t="0" r="r" b="b"/>
                  <a:pathLst>
                    <a:path w="32" h="5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5" y="1"/>
                      </a:lnTo>
                      <a:lnTo>
                        <a:pt x="14" y="3"/>
                      </a:lnTo>
                      <a:lnTo>
                        <a:pt x="32" y="3"/>
                      </a:lnTo>
                      <a:lnTo>
                        <a:pt x="32" y="5"/>
                      </a:lnTo>
                      <a:lnTo>
                        <a:pt x="12" y="5"/>
                      </a:lnTo>
                      <a:lnTo>
                        <a:pt x="1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5131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51928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52576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527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53368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35120" y="62373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5351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41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54808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09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542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56068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5653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57004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6716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5891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58912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59092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0676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1144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082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608200" y="62406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820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671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4160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516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58588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082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52576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53044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29000" y="614988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7" y="5"/>
                      </a:lnTo>
                      <a:lnTo>
                        <a:pt x="200" y="5"/>
                      </a:lnTo>
                      <a:lnTo>
                        <a:pt x="2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290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29000" y="6197760"/>
                  <a:ext cx="76680" cy="1800"/>
                </a:xfrm>
                <a:custGeom>
                  <a:avLst/>
                  <a:gdLst/>
                  <a:ahLst/>
                  <a:rect l="0" t="0" r="r" b="b"/>
                  <a:pathLst>
                    <a:path w="213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7" y="0"/>
                      </a:lnTo>
                      <a:lnTo>
                        <a:pt x="201" y="0"/>
                      </a:lnTo>
                      <a:lnTo>
                        <a:pt x="21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00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14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4" y="13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673360" y="6145200"/>
                <a:ext cx="136800" cy="106560"/>
                <a:chOff x="2673360" y="6145200"/>
                <a:chExt cx="136800" cy="106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97120" y="6207120"/>
                  <a:ext cx="87840" cy="20880"/>
                </a:xfrm>
                <a:custGeom>
                  <a:avLst/>
                  <a:gdLst/>
                  <a:ahLst/>
                  <a:rect l="0" t="0" r="r" b="b"/>
                  <a:pathLst>
                    <a:path w="244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44" y="0"/>
                      </a:lnTo>
                      <a:lnTo>
                        <a:pt x="244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9244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92440" y="6210360"/>
                  <a:ext cx="97200" cy="16200"/>
                </a:xfrm>
                <a:custGeom>
                  <a:avLst/>
                  <a:gdLst/>
                  <a:ahLst/>
                  <a:rect l="0" t="0" r="r" b="b"/>
                  <a:pathLst>
                    <a:path w="270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75904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7336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7336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8920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8272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68128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685960" y="623556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23" y="2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9"/>
                      </a:lnTo>
                      <a:lnTo>
                        <a:pt x="26" y="9"/>
                      </a:lnTo>
                      <a:lnTo>
                        <a:pt x="23" y="11"/>
                      </a:lnTo>
                      <a:lnTo>
                        <a:pt x="20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18" y="10"/>
                      </a:lnTo>
                      <a:lnTo>
                        <a:pt x="19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3" y="16"/>
                      </a:lnTo>
                      <a:lnTo>
                        <a:pt x="25" y="19"/>
                      </a:lnTo>
                      <a:lnTo>
                        <a:pt x="12" y="19"/>
                      </a:lnTo>
                      <a:lnTo>
                        <a:pt x="13" y="16"/>
                      </a:lnTo>
                      <a:lnTo>
                        <a:pt x="11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69568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69712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70036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70684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70972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70972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10" y="9"/>
                      </a:lnTo>
                      <a:lnTo>
                        <a:pt x="10" y="10"/>
                      </a:lnTo>
                      <a:lnTo>
                        <a:pt x="19" y="10"/>
                      </a:lnTo>
                      <a:lnTo>
                        <a:pt x="19" y="13"/>
                      </a:lnTo>
                      <a:lnTo>
                        <a:pt x="17" y="13"/>
                      </a:lnTo>
                      <a:lnTo>
                        <a:pt x="15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7" y="13"/>
                      </a:lnTo>
                      <a:lnTo>
                        <a:pt x="6" y="9"/>
                      </a:lnTo>
                      <a:lnTo>
                        <a:pt x="6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71620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194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6" y="13"/>
                      </a:lnTo>
                      <a:lnTo>
                        <a:pt x="14" y="16"/>
                      </a:lnTo>
                      <a:lnTo>
                        <a:pt x="16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7" y="13"/>
                      </a:lnTo>
                      <a:lnTo>
                        <a:pt x="5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72556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73060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735280" y="62355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7385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74464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76552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76552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76552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781360" y="62355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78460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8280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784600" y="624060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2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5" y="0"/>
                      </a:lnTo>
                      <a:lnTo>
                        <a:pt x="17" y="2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17" y="6"/>
                      </a:lnTo>
                      <a:lnTo>
                        <a:pt x="19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8" y="6"/>
                      </a:lnTo>
                      <a:lnTo>
                        <a:pt x="10" y="9"/>
                      </a:lnTo>
                      <a:lnTo>
                        <a:pt x="13" y="6"/>
                      </a:lnTo>
                      <a:lnTo>
                        <a:pt x="17" y="6"/>
                      </a:lnTo>
                      <a:lnTo>
                        <a:pt x="15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784600" y="6243480"/>
                  <a:ext cx="18000" cy="1800"/>
                </a:xfrm>
                <a:custGeom>
                  <a:avLst/>
                  <a:gdLst/>
                  <a:ahLst/>
                  <a:rect l="0" t="0" r="r" b="b"/>
                  <a:pathLst>
                    <a:path w="50" h="5">
                      <a:moveTo>
                        <a:pt x="1" y="3"/>
                      </a:moveTo>
                      <a:lnTo>
                        <a:pt x="23" y="3"/>
                      </a:lnTo>
                      <a:lnTo>
                        <a:pt x="26" y="1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1"/>
                      </a:lnTo>
                      <a:lnTo>
                        <a:pt x="28" y="1"/>
                      </a:lnTo>
                      <a:lnTo>
                        <a:pt x="26" y="3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6" y="3"/>
                      </a:lnTo>
                      <a:lnTo>
                        <a:pt x="40" y="4"/>
                      </a:lnTo>
                      <a:lnTo>
                        <a:pt x="42" y="3"/>
                      </a:lnTo>
                      <a:lnTo>
                        <a:pt x="47" y="3"/>
                      </a:lnTo>
                      <a:lnTo>
                        <a:pt x="50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73852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1296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9244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7590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78460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97120" y="6145200"/>
                  <a:ext cx="87840" cy="60840"/>
                </a:xfrm>
                <a:custGeom>
                  <a:avLst/>
                  <a:gdLst/>
                  <a:ahLst/>
                  <a:rect l="0" t="0" r="r" b="b"/>
                  <a:pathLst>
                    <a:path w="244" h="169">
                      <a:moveTo>
                        <a:pt x="0" y="0"/>
                      </a:moveTo>
                      <a:lnTo>
                        <a:pt x="244" y="0"/>
                      </a:lnTo>
                      <a:lnTo>
                        <a:pt x="244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70360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70180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70180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70180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7488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2490840" y="5843520"/>
                <a:ext cx="152640" cy="126000"/>
                <a:chOff x="2490840" y="5843520"/>
                <a:chExt cx="152640" cy="12600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2490840" y="5843520"/>
                  <a:ext cx="28800" cy="122760"/>
                  <a:chOff x="2490840" y="5843520"/>
                  <a:chExt cx="28800" cy="1227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2516040" y="5845320"/>
                    <a:ext cx="36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336">
                        <a:moveTo>
                          <a:pt x="10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490840" y="584352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508120" y="584820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>
                  <a:off x="2498760" y="5942160"/>
                  <a:ext cx="144720" cy="22680"/>
                </a:xfrm>
                <a:custGeom>
                  <a:avLst/>
                  <a:gdLst/>
                  <a:ahLst/>
                  <a:rect l="0" t="0" r="r" b="b"/>
                  <a:pathLst>
                    <a:path w="402" h="63">
                      <a:moveTo>
                        <a:pt x="25" y="0"/>
                      </a:moveTo>
                      <a:lnTo>
                        <a:pt x="371" y="0"/>
                      </a:lnTo>
                      <a:lnTo>
                        <a:pt x="402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498760" y="5965920"/>
                  <a:ext cx="144720" cy="3600"/>
                </a:xfrm>
                <a:custGeom>
                  <a:avLst/>
                  <a:gdLst/>
                  <a:ahLst/>
                  <a:rect l="0" t="0" r="r" b="b"/>
                  <a:pathLst>
                    <a:path w="402" h="10">
                      <a:moveTo>
                        <a:pt x="0" y="0"/>
                      </a:moveTo>
                      <a:lnTo>
                        <a:pt x="402" y="0"/>
                      </a:lnTo>
                      <a:lnTo>
                        <a:pt x="402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51460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08120" y="59547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508120" y="595800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1316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522520" y="5954760"/>
                  <a:ext cx="47880" cy="6840"/>
                </a:xfrm>
                <a:custGeom>
                  <a:avLst/>
                  <a:gdLst/>
                  <a:ahLst/>
                  <a:rect l="0" t="0" r="r" b="b"/>
                  <a:pathLst>
                    <a:path w="13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6" y="9"/>
                      </a:lnTo>
                      <a:lnTo>
                        <a:pt x="11" y="13"/>
                      </a:lnTo>
                      <a:lnTo>
                        <a:pt x="129" y="13"/>
                      </a:lnTo>
                      <a:lnTo>
                        <a:pt x="133" y="19"/>
                      </a:lnTo>
                      <a:lnTo>
                        <a:pt x="5" y="19"/>
                      </a:lnTo>
                      <a:lnTo>
                        <a:pt x="5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52576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52900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53512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53512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5383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54484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54952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552760" y="594828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5606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565360" y="594828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4" y="7"/>
                      </a:lnTo>
                      <a:lnTo>
                        <a:pt x="10" y="7"/>
                      </a:lnTo>
                      <a:lnTo>
                        <a:pt x="11" y="10"/>
                      </a:lnTo>
                      <a:lnTo>
                        <a:pt x="6" y="10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3" y="15"/>
                      </a:lnTo>
                      <a:lnTo>
                        <a:pt x="14" y="17"/>
                      </a:lnTo>
                      <a:lnTo>
                        <a:pt x="11" y="17"/>
                      </a:lnTo>
                      <a:lnTo>
                        <a:pt x="10" y="19"/>
                      </a:lnTo>
                      <a:lnTo>
                        <a:pt x="8" y="17"/>
                      </a:lnTo>
                      <a:lnTo>
                        <a:pt x="5" y="17"/>
                      </a:lnTo>
                      <a:lnTo>
                        <a:pt x="3" y="9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57004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571840" y="594828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8" y="1"/>
                      </a:lnTo>
                      <a:lnTo>
                        <a:pt x="5" y="4"/>
                      </a:lnTo>
                      <a:lnTo>
                        <a:pt x="11" y="4"/>
                      </a:lnTo>
                      <a:lnTo>
                        <a:pt x="20" y="4"/>
                      </a:lnTo>
                      <a:lnTo>
                        <a:pt x="22" y="6"/>
                      </a:lnTo>
                      <a:lnTo>
                        <a:pt x="12" y="6"/>
                      </a:lnTo>
                      <a:lnTo>
                        <a:pt x="11" y="8"/>
                      </a:lnTo>
                      <a:lnTo>
                        <a:pt x="26" y="8"/>
                      </a:lnTo>
                      <a:lnTo>
                        <a:pt x="27" y="10"/>
                      </a:lnTo>
                      <a:lnTo>
                        <a:pt x="12" y="10"/>
                      </a:lnTo>
                      <a:lnTo>
                        <a:pt x="9" y="9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570040" y="5948280"/>
                  <a:ext cx="16200" cy="11520"/>
                </a:xfrm>
                <a:custGeom>
                  <a:avLst/>
                  <a:gdLst/>
                  <a:ahLst/>
                  <a:rect l="0" t="0" r="r" b="b"/>
                  <a:pathLst>
                    <a:path w="45" h="32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3"/>
                      </a:lnTo>
                      <a:lnTo>
                        <a:pt x="29" y="3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2" y="13"/>
                      </a:lnTo>
                      <a:lnTo>
                        <a:pt x="40" y="13"/>
                      </a:lnTo>
                      <a:lnTo>
                        <a:pt x="41" y="7"/>
                      </a:lnTo>
                      <a:lnTo>
                        <a:pt x="45" y="19"/>
                      </a:lnTo>
                      <a:lnTo>
                        <a:pt x="37" y="19"/>
                      </a:lnTo>
                      <a:lnTo>
                        <a:pt x="37" y="29"/>
                      </a:lnTo>
                      <a:lnTo>
                        <a:pt x="3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8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4" y="19"/>
                      </a:lnTo>
                      <a:lnTo>
                        <a:pt x="34" y="17"/>
                      </a:lnTo>
                      <a:lnTo>
                        <a:pt x="29" y="13"/>
                      </a:lnTo>
                      <a:lnTo>
                        <a:pt x="29" y="11"/>
                      </a:lnTo>
                      <a:lnTo>
                        <a:pt x="26" y="6"/>
                      </a:lnTo>
                      <a:lnTo>
                        <a:pt x="24" y="3"/>
                      </a:lnTo>
                      <a:lnTo>
                        <a:pt x="20" y="3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592360" y="594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592360" y="59500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593800" y="595476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1468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617920" y="594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614680" y="59500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61792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1792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57004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541600" y="59436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51604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5909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16120" y="59436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52720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53512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53512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535120" y="5867280"/>
                  <a:ext cx="0" cy="60120"/>
                </a:xfrm>
                <a:custGeom>
                  <a:avLst/>
                  <a:gdLst/>
                  <a:ahLst/>
                  <a:rect l="0" t="0" r="r" b="b"/>
                  <a:pathLst>
                    <a:path w="0" h="16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56"/>
                      </a:lnTo>
                      <a:lnTo>
                        <a:pt x="0" y="1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53512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60820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541600" y="587232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>
                <a:off x="2270160" y="6049800"/>
                <a:ext cx="5954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036800" y="5843520"/>
              <a:ext cx="595080" cy="408240"/>
              <a:chOff x="1036800" y="5843520"/>
              <a:chExt cx="595080" cy="408240"/>
            </a:xfrm>
          </p:grpSpPr>
          <p:sp>
            <p:nvSpPr>
              <p:cNvPr id="622" name=""/>
              <p:cNvSpPr/>
              <p:nvPr/>
            </p:nvSpPr>
            <p:spPr>
              <a:xfrm flipV="1">
                <a:off x="116064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1506600" y="6051600"/>
                <a:ext cx="0" cy="982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1335240" y="595620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1092240" y="6145200"/>
                <a:ext cx="135360" cy="106560"/>
                <a:chOff x="1092240" y="6145200"/>
                <a:chExt cx="135360" cy="10656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11744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111320" y="6226200"/>
                  <a:ext cx="96480" cy="0"/>
                </a:xfrm>
                <a:custGeom>
                  <a:avLst/>
                  <a:gdLst/>
                  <a:ahLst/>
                  <a:rect l="0" t="0" r="r" b="b"/>
                  <a:pathLst>
                    <a:path w="26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112760" y="621036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179360" y="621828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092240" y="623088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1092240" y="624996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10952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100160" y="623880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1001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108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114560" y="62388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11744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1192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112716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11271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184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113508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3" y="15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3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1415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144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1494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115416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064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163520" y="62355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160640" y="6235560"/>
                  <a:ext cx="12960" cy="9720"/>
                </a:xfrm>
                <a:custGeom>
                  <a:avLst/>
                  <a:gdLst/>
                  <a:ahLst/>
                  <a:rect l="0" t="0" r="r" b="b"/>
                  <a:pathLst>
                    <a:path w="36" h="27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33" y="6"/>
                      </a:lnTo>
                      <a:lnTo>
                        <a:pt x="36" y="16"/>
                      </a:lnTo>
                      <a:lnTo>
                        <a:pt x="29" y="16"/>
                      </a:lnTo>
                      <a:lnTo>
                        <a:pt x="29" y="24"/>
                      </a:lnTo>
                      <a:lnTo>
                        <a:pt x="3" y="24"/>
                      </a:lnTo>
                      <a:lnTo>
                        <a:pt x="2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6" y="16"/>
                      </a:lnTo>
                      <a:lnTo>
                        <a:pt x="9" y="21"/>
                      </a:lnTo>
                      <a:lnTo>
                        <a:pt x="10" y="16"/>
                      </a:lnTo>
                      <a:lnTo>
                        <a:pt x="28" y="16"/>
                      </a:lnTo>
                      <a:lnTo>
                        <a:pt x="28" y="15"/>
                      </a:lnTo>
                      <a:lnTo>
                        <a:pt x="23" y="10"/>
                      </a:lnTo>
                      <a:lnTo>
                        <a:pt x="23" y="8"/>
                      </a:lnTo>
                      <a:lnTo>
                        <a:pt x="21" y="5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18260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18260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184400" y="62388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20168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20492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20168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20168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203480" y="624348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16064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131840" y="6232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10952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179360" y="62326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01680" y="6232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11744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125360" y="6151680"/>
                  <a:ext cx="71640" cy="46440"/>
                </a:xfrm>
                <a:custGeom>
                  <a:avLst/>
                  <a:gdLst/>
                  <a:ahLst/>
                  <a:rect l="0" t="0" r="r" b="b"/>
                  <a:pathLst>
                    <a:path w="199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120680" y="614988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12068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20680" y="619776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19232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265400" y="6145200"/>
                <a:ext cx="138600" cy="106560"/>
                <a:chOff x="1265400" y="6145200"/>
                <a:chExt cx="138600" cy="1065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292400" y="620712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284120" y="62262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284120" y="621036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35396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265400" y="6230880"/>
                  <a:ext cx="138600" cy="16200"/>
                </a:xfrm>
                <a:custGeom>
                  <a:avLst/>
                  <a:gdLst/>
                  <a:ahLst/>
                  <a:rect l="0" t="0" r="r" b="b"/>
                  <a:pathLst>
                    <a:path w="385" h="45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45"/>
                      </a:lnTo>
                      <a:lnTo>
                        <a:pt x="0" y="45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265400" y="624996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2812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276200" y="62388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27476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128124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2891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12924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295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3003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301760" y="62373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303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13096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314360" y="623556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3176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132228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28760" y="62355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133200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33812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33344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5576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55760" y="62373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55760" y="62388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730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78080" y="62355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73040" y="623736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74840" y="62406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3748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333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305000" y="62326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26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35396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3748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292400" y="614520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2970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29528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295280" y="6149880"/>
                  <a:ext cx="5040" cy="49680"/>
                </a:xfrm>
                <a:custGeom>
                  <a:avLst/>
                  <a:gdLst/>
                  <a:ahLst/>
                  <a:rect l="0" t="0" r="r" b="b"/>
                  <a:pathLst>
                    <a:path w="14" h="138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29528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68360" y="614988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40000" y="6145200"/>
                <a:ext cx="136800" cy="106560"/>
                <a:chOff x="1440000" y="6145200"/>
                <a:chExt cx="136800" cy="10656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620712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459080" y="62262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460520" y="621036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528920" y="621828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440000" y="623088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440000" y="624996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455840" y="62355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447920" y="62388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1447920" y="624348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4558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461960" y="623880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65200" y="623556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467000" y="623556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2"/>
                      </a:lnTo>
                      <a:lnTo>
                        <a:pt x="6" y="2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9"/>
                      </a:lnTo>
                      <a:lnTo>
                        <a:pt x="9" y="9"/>
                      </a:lnTo>
                      <a:lnTo>
                        <a:pt x="9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5" y="13"/>
                      </a:lnTo>
                      <a:lnTo>
                        <a:pt x="15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4" y="19"/>
                      </a:lnTo>
                      <a:lnTo>
                        <a:pt x="14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4" y="6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147492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1476360" y="62373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4778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6" y="13"/>
                      </a:lnTo>
                      <a:lnTo>
                        <a:pt x="14" y="13"/>
                      </a:lnTo>
                      <a:lnTo>
                        <a:pt x="12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5" y="9"/>
                      </a:lnTo>
                      <a:lnTo>
                        <a:pt x="5" y="7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1481040" y="623556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1" y="15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48752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49220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1495440" y="623556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1500120" y="62355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1504800" y="62355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1511280" y="62355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506600" y="6235560"/>
                  <a:ext cx="16200" cy="9720"/>
                </a:xfrm>
                <a:custGeom>
                  <a:avLst/>
                  <a:gdLst/>
                  <a:ahLst/>
                  <a:rect l="0" t="0" r="r" b="b"/>
                  <a:pathLst>
                    <a:path w="45" h="27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5"/>
                      </a:lnTo>
                      <a:lnTo>
                        <a:pt x="30" y="5"/>
                      </a:lnTo>
                      <a:lnTo>
                        <a:pt x="32" y="10"/>
                      </a:lnTo>
                      <a:lnTo>
                        <a:pt x="40" y="10"/>
                      </a:lnTo>
                      <a:lnTo>
                        <a:pt x="41" y="6"/>
                      </a:lnTo>
                      <a:lnTo>
                        <a:pt x="45" y="16"/>
                      </a:lnTo>
                      <a:lnTo>
                        <a:pt x="37" y="16"/>
                      </a:lnTo>
                      <a:lnTo>
                        <a:pt x="37" y="24"/>
                      </a:lnTo>
                      <a:lnTo>
                        <a:pt x="3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8" y="16"/>
                      </a:lnTo>
                      <a:lnTo>
                        <a:pt x="11" y="21"/>
                      </a:lnTo>
                      <a:lnTo>
                        <a:pt x="13" y="16"/>
                      </a:lnTo>
                      <a:lnTo>
                        <a:pt x="34" y="16"/>
                      </a:lnTo>
                      <a:lnTo>
                        <a:pt x="34" y="15"/>
                      </a:lnTo>
                      <a:lnTo>
                        <a:pt x="29" y="10"/>
                      </a:lnTo>
                      <a:lnTo>
                        <a:pt x="29" y="8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53036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1530360" y="62373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531800" y="6238800"/>
                  <a:ext cx="11520" cy="6840"/>
                </a:xfrm>
                <a:custGeom>
                  <a:avLst/>
                  <a:gdLst/>
                  <a:ahLst/>
                  <a:rect l="0" t="0" r="r" b="b"/>
                  <a:pathLst>
                    <a:path w="32" h="19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4"/>
                      </a:lnTo>
                      <a:lnTo>
                        <a:pt x="13" y="4"/>
                      </a:lnTo>
                      <a:lnTo>
                        <a:pt x="14" y="11"/>
                      </a:lnTo>
                      <a:lnTo>
                        <a:pt x="19" y="11"/>
                      </a:lnTo>
                      <a:lnTo>
                        <a:pt x="22" y="13"/>
                      </a:lnTo>
                      <a:lnTo>
                        <a:pt x="23" y="11"/>
                      </a:lnTo>
                      <a:lnTo>
                        <a:pt x="30" y="11"/>
                      </a:lnTo>
                      <a:lnTo>
                        <a:pt x="32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11" y="11"/>
                      </a:lnTo>
                      <a:lnTo>
                        <a:pt x="10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547640" y="62355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552680" y="62355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549440" y="623736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549440" y="62406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549440" y="6243480"/>
                  <a:ext cx="20880" cy="1800"/>
                </a:xfrm>
                <a:custGeom>
                  <a:avLst/>
                  <a:gdLst/>
                  <a:ahLst/>
                  <a:rect l="0" t="0" r="r" b="b"/>
                  <a:pathLst>
                    <a:path w="58" h="5">
                      <a:moveTo>
                        <a:pt x="1" y="3"/>
                      </a:moveTo>
                      <a:lnTo>
                        <a:pt x="26" y="3"/>
                      </a:lnTo>
                      <a:lnTo>
                        <a:pt x="30" y="1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1"/>
                      </a:lnTo>
                      <a:lnTo>
                        <a:pt x="33" y="1"/>
                      </a:lnTo>
                      <a:lnTo>
                        <a:pt x="30" y="3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42" y="3"/>
                      </a:lnTo>
                      <a:lnTo>
                        <a:pt x="46" y="4"/>
                      </a:lnTo>
                      <a:lnTo>
                        <a:pt x="49" y="3"/>
                      </a:lnTo>
                      <a:lnTo>
                        <a:pt x="55" y="3"/>
                      </a:lnTo>
                      <a:lnTo>
                        <a:pt x="58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50660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48104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1457280" y="6232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1528920" y="62326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549440" y="62326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465200" y="614520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469880" y="6151680"/>
                  <a:ext cx="73440" cy="46440"/>
                </a:xfrm>
                <a:custGeom>
                  <a:avLst/>
                  <a:gdLst/>
                  <a:ahLst/>
                  <a:rect l="0" t="0" r="r" b="b"/>
                  <a:pathLst>
                    <a:path w="204" h="129">
                      <a:moveTo>
                        <a:pt x="0" y="129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9"/>
                      </a:lnTo>
                      <a:lnTo>
                        <a:pt x="0" y="129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468440" y="6149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468440" y="614988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1468440" y="619776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539720" y="614988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258920" y="5843520"/>
                <a:ext cx="151200" cy="126000"/>
                <a:chOff x="1258920" y="5843520"/>
                <a:chExt cx="151200" cy="126000"/>
              </a:xfrm>
            </p:grpSpPr>
            <p:grpSp>
              <p:nvGrpSpPr>
                <p:cNvPr id="758" name=""/>
                <p:cNvGrpSpPr/>
                <p:nvPr/>
              </p:nvGrpSpPr>
              <p:grpSpPr>
                <a:xfrm>
                  <a:off x="1258920" y="5843520"/>
                  <a:ext cx="25560" cy="122760"/>
                  <a:chOff x="1258920" y="5843520"/>
                  <a:chExt cx="25560" cy="1227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1282680" y="5845320"/>
                    <a:ext cx="180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36">
                        <a:moveTo>
                          <a:pt x="5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258920" y="5843520"/>
                    <a:ext cx="2268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336">
                        <a:moveTo>
                          <a:pt x="63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273320" y="584820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1263600" y="594216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63600" y="5965920"/>
                  <a:ext cx="146520" cy="3600"/>
                </a:xfrm>
                <a:custGeom>
                  <a:avLst/>
                  <a:gdLst/>
                  <a:ahLst/>
                  <a:rect l="0" t="0" r="r" b="b"/>
                  <a:pathLst>
                    <a:path w="407" h="10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281240" y="594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276200" y="59547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273320" y="5958000"/>
                  <a:ext cx="16200" cy="3600"/>
                </a:xfrm>
                <a:custGeom>
                  <a:avLst/>
                  <a:gdLst/>
                  <a:ahLst/>
                  <a:rect l="0" t="0" r="r" b="b"/>
                  <a:pathLst>
                    <a:path w="45" h="10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5"/>
                      </a:lnTo>
                      <a:lnTo>
                        <a:pt x="44" y="5"/>
                      </a:lnTo>
                      <a:lnTo>
                        <a:pt x="45" y="10"/>
                      </a:lnTo>
                      <a:lnTo>
                        <a:pt x="16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1281240" y="594828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1290600" y="595476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292400" y="594828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29528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301760" y="594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1301760" y="595008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13" y="7"/>
                      </a:lnTo>
                      <a:lnTo>
                        <a:pt x="13" y="11"/>
                      </a:lnTo>
                      <a:lnTo>
                        <a:pt x="9" y="11"/>
                      </a:lnTo>
                      <a:lnTo>
                        <a:pt x="8" y="12"/>
                      </a:lnTo>
                      <a:lnTo>
                        <a:pt x="9" y="13"/>
                      </a:lnTo>
                      <a:lnTo>
                        <a:pt x="19" y="13"/>
                      </a:lnTo>
                      <a:lnTo>
                        <a:pt x="19" y="19"/>
                      </a:lnTo>
                      <a:lnTo>
                        <a:pt x="8" y="19"/>
                      </a:lnTo>
                      <a:lnTo>
                        <a:pt x="8" y="17"/>
                      </a:lnTo>
                      <a:lnTo>
                        <a:pt x="4" y="11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130320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6" y="3"/>
                      </a:lnTo>
                      <a:lnTo>
                        <a:pt x="5" y="6"/>
                      </a:lnTo>
                      <a:lnTo>
                        <a:pt x="7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19" y="12"/>
                      </a:lnTo>
                      <a:lnTo>
                        <a:pt x="19" y="16"/>
                      </a:lnTo>
                      <a:lnTo>
                        <a:pt x="17" y="16"/>
                      </a:lnTo>
                      <a:lnTo>
                        <a:pt x="15" y="19"/>
                      </a:lnTo>
                      <a:lnTo>
                        <a:pt x="25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20"/>
                      </a:lnTo>
                      <a:lnTo>
                        <a:pt x="11" y="16"/>
                      </a:lnTo>
                      <a:lnTo>
                        <a:pt x="7" y="16"/>
                      </a:lnTo>
                      <a:lnTo>
                        <a:pt x="6" y="10"/>
                      </a:lnTo>
                      <a:lnTo>
                        <a:pt x="6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13111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131616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4" y="19"/>
                      </a:lnTo>
                      <a:lnTo>
                        <a:pt x="16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7" y="16"/>
                      </a:lnTo>
                      <a:lnTo>
                        <a:pt x="5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319040" y="594828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8" y="12"/>
                      </a:lnTo>
                      <a:lnTo>
                        <a:pt x="19" y="12"/>
                      </a:lnTo>
                      <a:lnTo>
                        <a:pt x="20" y="16"/>
                      </a:lnTo>
                      <a:lnTo>
                        <a:pt x="17" y="16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27" y="19"/>
                      </a:lnTo>
                      <a:lnTo>
                        <a:pt x="27" y="23"/>
                      </a:lnTo>
                      <a:lnTo>
                        <a:pt x="17" y="23"/>
                      </a:lnTo>
                      <a:lnTo>
                        <a:pt x="14" y="19"/>
                      </a:lnTo>
                      <a:lnTo>
                        <a:pt x="10" y="16"/>
                      </a:lnTo>
                      <a:lnTo>
                        <a:pt x="6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327320" y="594828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0200" y="594828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6680" y="5948280"/>
                  <a:ext cx="3600" cy="8280"/>
                </a:xfrm>
                <a:custGeom>
                  <a:avLst/>
                  <a:gdLst/>
                  <a:ahLst/>
                  <a:rect l="0" t="0" r="r" b="b"/>
                  <a:pathLst>
                    <a:path w="10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6" y="7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4" y="14"/>
                      </a:lnTo>
                      <a:lnTo>
                        <a:pt x="10" y="14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8" y="23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0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338120" y="594828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338120" y="594828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36368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363680" y="59500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363680" y="59547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380960" y="594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386000" y="594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382760" y="59500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84200" y="59547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4200" y="595800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33812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308240" y="59436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282680" y="59436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357200" y="59436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1384200" y="59436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1295280" y="586116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01760" y="5867280"/>
                  <a:ext cx="76680" cy="59040"/>
                </a:xfrm>
                <a:custGeom>
                  <a:avLst/>
                  <a:gdLst/>
                  <a:ahLst/>
                  <a:rect l="0" t="0" r="r" b="b"/>
                  <a:pathLst>
                    <a:path w="213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3" y="0"/>
                      </a:lnTo>
                      <a:lnTo>
                        <a:pt x="213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301760" y="586728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4" y="5"/>
                      </a:lnTo>
                      <a:lnTo>
                        <a:pt x="207" y="5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01760" y="5867280"/>
                  <a:ext cx="1800" cy="60840"/>
                </a:xfrm>
                <a:custGeom>
                  <a:avLst/>
                  <a:gdLst/>
                  <a:ahLst/>
                  <a:rect l="0" t="0" r="r" b="b"/>
                  <a:pathLst>
                    <a:path w="5" h="169">
                      <a:moveTo>
                        <a:pt x="0" y="0"/>
                      </a:moveTo>
                      <a:lnTo>
                        <a:pt x="5" y="10"/>
                      </a:lnTo>
                      <a:lnTo>
                        <a:pt x="5" y="158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01760" y="5925960"/>
                  <a:ext cx="79560" cy="1800"/>
                </a:xfrm>
                <a:custGeom>
                  <a:avLst/>
                  <a:gdLst/>
                  <a:ahLst/>
                  <a:rect l="0" t="0" r="r" b="b"/>
                  <a:pathLst>
                    <a:path w="221" h="5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374840" y="5867280"/>
                  <a:ext cx="6840" cy="60840"/>
                </a:xfrm>
                <a:custGeom>
                  <a:avLst/>
                  <a:gdLst/>
                  <a:ahLst/>
                  <a:rect l="0" t="0" r="r" b="b"/>
                  <a:pathLst>
                    <a:path w="19" h="169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58"/>
                      </a:lnTo>
                      <a:lnTo>
                        <a:pt x="19" y="16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305000" y="58723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1036800" y="6049800"/>
                <a:ext cx="5950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28600" y="4881600"/>
              <a:ext cx="593640" cy="409680"/>
              <a:chOff x="228600" y="4881600"/>
              <a:chExt cx="593640" cy="40968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35244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00200" y="50911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27040" y="49942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284040" y="5183280"/>
                <a:ext cx="135360" cy="108000"/>
                <a:chOff x="284040" y="5183280"/>
                <a:chExt cx="135360" cy="1080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309600" y="5248440"/>
                  <a:ext cx="86040" cy="20880"/>
                </a:xfrm>
                <a:custGeom>
                  <a:avLst/>
                  <a:gdLst/>
                  <a:ahLst/>
                  <a:rect l="0" t="0" r="r" b="b"/>
                  <a:pathLst>
                    <a:path w="239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0312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031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72960" y="5259240"/>
                  <a:ext cx="22680" cy="3600"/>
                </a:xfrm>
                <a:custGeom>
                  <a:avLst/>
                  <a:gdLst/>
                  <a:ahLst/>
                  <a:rect l="0" t="0" r="r" b="b"/>
                  <a:pathLst>
                    <a:path w="63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8404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8404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9988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295200" y="527832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2919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984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9"/>
                      </a:lnTo>
                      <a:lnTo>
                        <a:pt x="18" y="9"/>
                      </a:lnTo>
                      <a:lnTo>
                        <a:pt x="16" y="11"/>
                      </a:lnTo>
                      <a:lnTo>
                        <a:pt x="15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7" y="19"/>
                      </a:lnTo>
                      <a:lnTo>
                        <a:pt x="7" y="19"/>
                      </a:lnTo>
                      <a:lnTo>
                        <a:pt x="9" y="16"/>
                      </a:lnTo>
                      <a:lnTo>
                        <a:pt x="7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06360" y="527832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07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5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1608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4" y="10"/>
                      </a:lnTo>
                      <a:lnTo>
                        <a:pt x="8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17520" y="52754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189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2400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8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8" y="19"/>
                      </a:lnTo>
                      <a:lnTo>
                        <a:pt x="6" y="17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3" y="9"/>
                      </a:lnTo>
                      <a:lnTo>
                        <a:pt x="3" y="7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254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333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3804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9" y="16"/>
                      </a:lnTo>
                      <a:lnTo>
                        <a:pt x="14" y="16"/>
                      </a:lnTo>
                      <a:lnTo>
                        <a:pt x="14" y="19"/>
                      </a:lnTo>
                      <a:lnTo>
                        <a:pt x="9" y="19"/>
                      </a:lnTo>
                      <a:lnTo>
                        <a:pt x="6" y="16"/>
                      </a:lnTo>
                      <a:lnTo>
                        <a:pt x="5" y="13"/>
                      </a:lnTo>
                      <a:lnTo>
                        <a:pt x="3" y="13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4128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5" y="6"/>
                      </a:lnTo>
                      <a:lnTo>
                        <a:pt x="16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6" y="13"/>
                      </a:lnTo>
                      <a:lnTo>
                        <a:pt x="17" y="16"/>
                      </a:lnTo>
                      <a:lnTo>
                        <a:pt x="25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2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45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5100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55680" y="527544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5244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74760" y="52754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74760" y="5276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7620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9204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9528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93840" y="52768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9528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9528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24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254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0312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7296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9528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09600" y="5183280"/>
                  <a:ext cx="86040" cy="62280"/>
                </a:xfrm>
                <a:custGeom>
                  <a:avLst/>
                  <a:gdLst/>
                  <a:ahLst/>
                  <a:rect l="0" t="0" r="r" b="b"/>
                  <a:pathLst>
                    <a:path w="239" h="173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6080" y="519120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608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1608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608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8736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0" y="138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457200" y="5183280"/>
                <a:ext cx="136800" cy="108000"/>
                <a:chOff x="457200" y="5183280"/>
                <a:chExt cx="136800" cy="108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484200" y="52484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76280" y="5265720"/>
                  <a:ext cx="98640" cy="1800"/>
                </a:xfrm>
                <a:custGeom>
                  <a:avLst/>
                  <a:gdLst/>
                  <a:ahLst/>
                  <a:rect l="0" t="0" r="r" b="b"/>
                  <a:pathLst>
                    <a:path w="27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79520" y="525132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4680" y="52592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57200" y="5270400"/>
                  <a:ext cx="136800" cy="16200"/>
                </a:xfrm>
                <a:custGeom>
                  <a:avLst/>
                  <a:gdLst/>
                  <a:ahLst/>
                  <a:rect l="0" t="0" r="r" b="b"/>
                  <a:pathLst>
                    <a:path w="380" h="45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57200" y="528948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4748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468360" y="52783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66560" y="5283360"/>
                  <a:ext cx="14760" cy="1800"/>
                </a:xfrm>
                <a:custGeom>
                  <a:avLst/>
                  <a:gdLst/>
                  <a:ahLst/>
                  <a:rect l="0" t="0" r="r" b="b"/>
                  <a:pathLst>
                    <a:path w="41" h="5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1"/>
                      </a:lnTo>
                      <a:lnTo>
                        <a:pt x="19" y="1"/>
                      </a:lnTo>
                      <a:lnTo>
                        <a:pt x="18" y="3"/>
                      </a:lnTo>
                      <a:lnTo>
                        <a:pt x="40" y="3"/>
                      </a:lnTo>
                      <a:lnTo>
                        <a:pt x="41" y="5"/>
                      </a:lnTo>
                      <a:lnTo>
                        <a:pt x="15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73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2"/>
                      </a:lnTo>
                      <a:lnTo>
                        <a:pt x="20" y="2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9"/>
                      </a:lnTo>
                      <a:lnTo>
                        <a:pt x="21" y="9"/>
                      </a:lnTo>
                      <a:lnTo>
                        <a:pt x="20" y="11"/>
                      </a:lnTo>
                      <a:lnTo>
                        <a:pt x="17" y="9"/>
                      </a:lnTo>
                      <a:lnTo>
                        <a:pt x="3" y="9"/>
                      </a:lnTo>
                      <a:lnTo>
                        <a:pt x="2" y="10"/>
                      </a:lnTo>
                      <a:lnTo>
                        <a:pt x="15" y="10"/>
                      </a:lnTo>
                      <a:lnTo>
                        <a:pt x="16" y="13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20" y="16"/>
                      </a:lnTo>
                      <a:lnTo>
                        <a:pt x="20" y="19"/>
                      </a:lnTo>
                      <a:lnTo>
                        <a:pt x="9" y="19"/>
                      </a:lnTo>
                      <a:lnTo>
                        <a:pt x="11" y="16"/>
                      </a:lnTo>
                      <a:lnTo>
                        <a:pt x="8" y="13"/>
                      </a:lnTo>
                      <a:lnTo>
                        <a:pt x="1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8096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2760" y="5275440"/>
                  <a:ext cx="5040" cy="6840"/>
                </a:xfrm>
                <a:custGeom>
                  <a:avLst/>
                  <a:gdLst/>
                  <a:ahLst/>
                  <a:rect l="0" t="0" r="r" b="b"/>
                  <a:pathLst>
                    <a:path w="14" h="19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9"/>
                      </a:lnTo>
                      <a:lnTo>
                        <a:pt x="5" y="9"/>
                      </a:lnTo>
                      <a:lnTo>
                        <a:pt x="4" y="10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16"/>
                      </a:lnTo>
                      <a:lnTo>
                        <a:pt x="13" y="16"/>
                      </a:lnTo>
                      <a:lnTo>
                        <a:pt x="14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874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0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7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9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90680" y="52754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493560" y="52768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9680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50004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52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6" y="10"/>
                      </a:lnTo>
                      <a:lnTo>
                        <a:pt x="13" y="10"/>
                      </a:lnTo>
                      <a:lnTo>
                        <a:pt x="15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1" y="16"/>
                      </a:lnTo>
                      <a:lnTo>
                        <a:pt x="19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10" y="16"/>
                      </a:lnTo>
                      <a:lnTo>
                        <a:pt x="7" y="13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50976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17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19" y="10"/>
                      </a:lnTo>
                      <a:lnTo>
                        <a:pt x="20" y="13"/>
                      </a:lnTo>
                      <a:lnTo>
                        <a:pt x="17" y="13"/>
                      </a:lnTo>
                      <a:lnTo>
                        <a:pt x="17" y="15"/>
                      </a:lnTo>
                      <a:lnTo>
                        <a:pt x="17" y="16"/>
                      </a:lnTo>
                      <a:lnTo>
                        <a:pt x="27" y="16"/>
                      </a:lnTo>
                      <a:lnTo>
                        <a:pt x="27" y="19"/>
                      </a:lnTo>
                      <a:lnTo>
                        <a:pt x="17" y="19"/>
                      </a:lnTo>
                      <a:lnTo>
                        <a:pt x="14" y="16"/>
                      </a:lnTo>
                      <a:lnTo>
                        <a:pt x="10" y="13"/>
                      </a:lnTo>
                      <a:lnTo>
                        <a:pt x="6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1588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2" y="13"/>
                      </a:lnTo>
                      <a:lnTo>
                        <a:pt x="11" y="13"/>
                      </a:lnTo>
                      <a:lnTo>
                        <a:pt x="12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1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3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2056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523800" y="52754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527040" y="5275440"/>
                  <a:ext cx="8280" cy="3600"/>
                </a:xfrm>
                <a:custGeom>
                  <a:avLst/>
                  <a:gdLst/>
                  <a:ahLst/>
                  <a:rect l="0" t="0" r="r" b="b"/>
                  <a:pathLst>
                    <a:path w="23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7" y="4"/>
                      </a:lnTo>
                      <a:lnTo>
                        <a:pt x="19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10" y="10"/>
                      </a:lnTo>
                      <a:lnTo>
                        <a:pt x="7" y="9"/>
                      </a:lnTo>
                      <a:lnTo>
                        <a:pt x="6" y="5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25600" y="527544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46120" y="527544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46120" y="52768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25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47560" y="527832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666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7168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3" y="0"/>
                      </a:move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666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66640" y="5280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5666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52560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0040" y="52722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74840" y="52722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4468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666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84200" y="5183280"/>
                  <a:ext cx="82800" cy="62280"/>
                </a:xfrm>
                <a:custGeom>
                  <a:avLst/>
                  <a:gdLst/>
                  <a:ahLst/>
                  <a:rect l="0" t="0" r="r" b="b"/>
                  <a:pathLst>
                    <a:path w="230" h="173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888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7440" y="51894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7440" y="5189400"/>
                  <a:ext cx="3600" cy="49680"/>
                </a:xfrm>
                <a:custGeom>
                  <a:avLst/>
                  <a:gdLst/>
                  <a:ahLst/>
                  <a:rect l="0" t="0" r="r" b="b"/>
                  <a:pathLst>
                    <a:path w="10" h="138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7440" y="523548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0520" y="5189400"/>
                  <a:ext cx="1800" cy="49680"/>
                </a:xfrm>
                <a:custGeom>
                  <a:avLst/>
                  <a:gdLst/>
                  <a:ahLst/>
                  <a:rect l="0" t="0" r="r" b="b"/>
                  <a:pathLst>
                    <a:path w="5" h="138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5" y="138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31800" y="5183280"/>
                <a:ext cx="135360" cy="108000"/>
                <a:chOff x="631800" y="5183280"/>
                <a:chExt cx="135360" cy="10800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57360" y="52484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0880" y="52657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52320" y="525132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19280" y="52592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31800" y="5270400"/>
                  <a:ext cx="135360" cy="16200"/>
                </a:xfrm>
                <a:custGeom>
                  <a:avLst/>
                  <a:gdLst/>
                  <a:ahLst/>
                  <a:rect l="0" t="0" r="r" b="b"/>
                  <a:pathLst>
                    <a:path w="376" h="45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45"/>
                      </a:lnTo>
                      <a:lnTo>
                        <a:pt x="0" y="45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31800" y="5289480"/>
                  <a:ext cx="135360" cy="1800"/>
                </a:xfrm>
                <a:custGeom>
                  <a:avLst/>
                  <a:gdLst/>
                  <a:ahLst/>
                  <a:rect l="0" t="0" r="r" b="b"/>
                  <a:pathLst>
                    <a:path w="376" h="5">
                      <a:moveTo>
                        <a:pt x="0" y="0"/>
                      </a:moveTo>
                      <a:lnTo>
                        <a:pt x="376" y="0"/>
                      </a:lnTo>
                      <a:lnTo>
                        <a:pt x="37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494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39720" y="5278320"/>
                  <a:ext cx="6840" cy="1800"/>
                </a:xfrm>
                <a:custGeom>
                  <a:avLst/>
                  <a:gdLst/>
                  <a:ahLst/>
                  <a:rect l="0" t="0" r="r" b="b"/>
                  <a:pathLst>
                    <a:path w="19" h="5">
                      <a:moveTo>
                        <a:pt x="2" y="5"/>
                      </a:moveTo>
                      <a:lnTo>
                        <a:pt x="17" y="5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38280" y="5283360"/>
                  <a:ext cx="16200" cy="1800"/>
                </a:xfrm>
                <a:custGeom>
                  <a:avLst/>
                  <a:gdLst/>
                  <a:ahLst/>
                  <a:rect l="0" t="0" r="r" b="b"/>
                  <a:pathLst>
                    <a:path w="45" h="5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1"/>
                      </a:lnTo>
                      <a:lnTo>
                        <a:pt x="20" y="1"/>
                      </a:lnTo>
                      <a:lnTo>
                        <a:pt x="19" y="3"/>
                      </a:lnTo>
                      <a:lnTo>
                        <a:pt x="44" y="3"/>
                      </a:lnTo>
                      <a:lnTo>
                        <a:pt x="45" y="5"/>
                      </a:lnTo>
                      <a:lnTo>
                        <a:pt x="16" y="5"/>
                      </a:lnTo>
                      <a:lnTo>
                        <a:pt x="17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4764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2"/>
                      </a:lnTo>
                      <a:lnTo>
                        <a:pt x="13" y="2"/>
                      </a:lnTo>
                      <a:lnTo>
                        <a:pt x="13" y="6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2" y="9"/>
                      </a:lnTo>
                      <a:lnTo>
                        <a:pt x="2" y="9"/>
                      </a:lnTo>
                      <a:lnTo>
                        <a:pt x="1" y="10"/>
                      </a:lnTo>
                      <a:lnTo>
                        <a:pt x="10" y="1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9" y="16"/>
                      </a:lnTo>
                      <a:lnTo>
                        <a:pt x="13" y="16"/>
                      </a:lnTo>
                      <a:lnTo>
                        <a:pt x="15" y="19"/>
                      </a:lnTo>
                      <a:lnTo>
                        <a:pt x="7" y="19"/>
                      </a:lnTo>
                      <a:lnTo>
                        <a:pt x="8" y="16"/>
                      </a:lnTo>
                      <a:lnTo>
                        <a:pt x="6" y="13"/>
                      </a:lnTo>
                      <a:lnTo>
                        <a:pt x="0" y="13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11" y="6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54120" y="5278320"/>
                  <a:ext cx="43200" cy="6840"/>
                </a:xfrm>
                <a:custGeom>
                  <a:avLst/>
                  <a:gdLst/>
                  <a:ahLst/>
                  <a:rect l="0" t="0" r="r" b="b"/>
                  <a:pathLst>
                    <a:path w="120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9"/>
                      </a:lnTo>
                      <a:lnTo>
                        <a:pt x="6" y="9"/>
                      </a:lnTo>
                      <a:lnTo>
                        <a:pt x="9" y="13"/>
                      </a:lnTo>
                      <a:lnTo>
                        <a:pt x="116" y="13"/>
                      </a:lnTo>
                      <a:lnTo>
                        <a:pt x="120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57360" y="5275440"/>
                  <a:ext cx="3600" cy="6840"/>
                </a:xfrm>
                <a:custGeom>
                  <a:avLst/>
                  <a:gdLst/>
                  <a:ahLst/>
                  <a:rect l="0" t="0" r="r" b="b"/>
                  <a:pathLst>
                    <a:path w="10" h="1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6" y="9"/>
                      </a:lnTo>
                      <a:lnTo>
                        <a:pt x="4" y="9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5880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3" y="16"/>
                      </a:lnTo>
                      <a:lnTo>
                        <a:pt x="22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7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6672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66720" y="5276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69960" y="527544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13" y="10"/>
                      </a:lnTo>
                      <a:lnTo>
                        <a:pt x="13" y="13"/>
                      </a:lnTo>
                      <a:lnTo>
                        <a:pt x="11" y="13"/>
                      </a:lnTo>
                      <a:lnTo>
                        <a:pt x="10" y="16"/>
                      </a:lnTo>
                      <a:lnTo>
                        <a:pt x="18" y="16"/>
                      </a:lnTo>
                      <a:lnTo>
                        <a:pt x="19" y="19"/>
                      </a:lnTo>
                      <a:lnTo>
                        <a:pt x="10" y="19"/>
                      </a:lnTo>
                      <a:lnTo>
                        <a:pt x="9" y="17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9"/>
                      </a:lnTo>
                      <a:lnTo>
                        <a:pt x="4" y="7"/>
                      </a:lnTo>
                      <a:lnTo>
                        <a:pt x="2" y="6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73200" y="527544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2"/>
                      </a:lnTo>
                      <a:lnTo>
                        <a:pt x="6" y="2"/>
                      </a:lnTo>
                      <a:lnTo>
                        <a:pt x="5" y="3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9"/>
                      </a:lnTo>
                      <a:lnTo>
                        <a:pt x="10" y="9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20" y="10"/>
                      </a:lnTo>
                      <a:lnTo>
                        <a:pt x="21" y="13"/>
                      </a:lnTo>
                      <a:lnTo>
                        <a:pt x="17" y="13"/>
                      </a:lnTo>
                      <a:lnTo>
                        <a:pt x="16" y="15"/>
                      </a:lnTo>
                      <a:lnTo>
                        <a:pt x="16" y="16"/>
                      </a:lnTo>
                      <a:lnTo>
                        <a:pt x="26" y="16"/>
                      </a:lnTo>
                      <a:lnTo>
                        <a:pt x="27" y="19"/>
                      </a:lnTo>
                      <a:lnTo>
                        <a:pt x="15" y="19"/>
                      </a:lnTo>
                      <a:lnTo>
                        <a:pt x="14" y="17"/>
                      </a:lnTo>
                      <a:lnTo>
                        <a:pt x="11" y="13"/>
                      </a:lnTo>
                      <a:lnTo>
                        <a:pt x="8" y="13"/>
                      </a:lnTo>
                      <a:lnTo>
                        <a:pt x="6" y="9"/>
                      </a:lnTo>
                      <a:lnTo>
                        <a:pt x="3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7788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6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3" y="13"/>
                      </a:lnTo>
                      <a:lnTo>
                        <a:pt x="12" y="16"/>
                      </a:lnTo>
                      <a:lnTo>
                        <a:pt x="13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2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4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8436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9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4" y="13"/>
                      </a:lnTo>
                      <a:lnTo>
                        <a:pt x="14" y="15"/>
                      </a:lnTo>
                      <a:lnTo>
                        <a:pt x="14" y="16"/>
                      </a:lnTo>
                      <a:lnTo>
                        <a:pt x="23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2" y="16"/>
                      </a:lnTo>
                      <a:lnTo>
                        <a:pt x="8" y="13"/>
                      </a:lnTo>
                      <a:lnTo>
                        <a:pt x="5" y="13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87240" y="52754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9"/>
                      </a:lnTo>
                      <a:lnTo>
                        <a:pt x="8" y="9"/>
                      </a:lnTo>
                      <a:lnTo>
                        <a:pt x="8" y="10"/>
                      </a:lnTo>
                      <a:lnTo>
                        <a:pt x="16" y="10"/>
                      </a:lnTo>
                      <a:lnTo>
                        <a:pt x="17" y="13"/>
                      </a:lnTo>
                      <a:lnTo>
                        <a:pt x="15" y="13"/>
                      </a:lnTo>
                      <a:lnTo>
                        <a:pt x="13" y="13"/>
                      </a:lnTo>
                      <a:lnTo>
                        <a:pt x="15" y="16"/>
                      </a:lnTo>
                      <a:lnTo>
                        <a:pt x="21" y="16"/>
                      </a:lnTo>
                      <a:lnTo>
                        <a:pt x="23" y="19"/>
                      </a:lnTo>
                      <a:lnTo>
                        <a:pt x="14" y="19"/>
                      </a:lnTo>
                      <a:lnTo>
                        <a:pt x="10" y="17"/>
                      </a:lnTo>
                      <a:lnTo>
                        <a:pt x="9" y="13"/>
                      </a:lnTo>
                      <a:lnTo>
                        <a:pt x="6" y="13"/>
                      </a:lnTo>
                      <a:lnTo>
                        <a:pt x="4" y="6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9372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96960" y="527544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03440" y="527544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00200" y="5275440"/>
                  <a:ext cx="12960" cy="8280"/>
                </a:xfrm>
                <a:custGeom>
                  <a:avLst/>
                  <a:gdLst/>
                  <a:ahLst/>
                  <a:rect l="0" t="0" r="r" b="b"/>
                  <a:pathLst>
                    <a:path w="36" h="23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2"/>
                      </a:lnTo>
                      <a:lnTo>
                        <a:pt x="23" y="2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6" y="8"/>
                      </a:lnTo>
                      <a:lnTo>
                        <a:pt x="32" y="8"/>
                      </a:lnTo>
                      <a:lnTo>
                        <a:pt x="33" y="5"/>
                      </a:lnTo>
                      <a:lnTo>
                        <a:pt x="36" y="14"/>
                      </a:lnTo>
                      <a:lnTo>
                        <a:pt x="29" y="14"/>
                      </a:lnTo>
                      <a:lnTo>
                        <a:pt x="29" y="20"/>
                      </a:lnTo>
                      <a:lnTo>
                        <a:pt x="3" y="20"/>
                      </a:lnTo>
                      <a:lnTo>
                        <a:pt x="2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6" y="14"/>
                      </a:lnTo>
                      <a:lnTo>
                        <a:pt x="9" y="17"/>
                      </a:lnTo>
                      <a:lnTo>
                        <a:pt x="10" y="14"/>
                      </a:lnTo>
                      <a:lnTo>
                        <a:pt x="28" y="14"/>
                      </a:lnTo>
                      <a:lnTo>
                        <a:pt x="28" y="12"/>
                      </a:lnTo>
                      <a:lnTo>
                        <a:pt x="23" y="8"/>
                      </a:lnTo>
                      <a:lnTo>
                        <a:pt x="23" y="7"/>
                      </a:lnTo>
                      <a:lnTo>
                        <a:pt x="21" y="4"/>
                      </a:lnTo>
                      <a:lnTo>
                        <a:pt x="19" y="2"/>
                      </a:lnTo>
                      <a:lnTo>
                        <a:pt x="16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2160" y="527544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2160" y="527688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22160" y="527832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8"/>
                      </a:lnTo>
                      <a:lnTo>
                        <a:pt x="24" y="8"/>
                      </a:lnTo>
                      <a:lnTo>
                        <a:pt x="28" y="10"/>
                      </a:lnTo>
                      <a:lnTo>
                        <a:pt x="29" y="8"/>
                      </a:lnTo>
                      <a:lnTo>
                        <a:pt x="39" y="8"/>
                      </a:lnTo>
                      <a:lnTo>
                        <a:pt x="41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2" y="8"/>
                      </a:lnTo>
                      <a:lnTo>
                        <a:pt x="13" y="12"/>
                      </a:lnTo>
                      <a:lnTo>
                        <a:pt x="14" y="8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741240" y="527544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44480" y="5275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41240" y="52768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41240" y="528012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741240" y="5283360"/>
                  <a:ext cx="19440" cy="1800"/>
                </a:xfrm>
                <a:custGeom>
                  <a:avLst/>
                  <a:gdLst/>
                  <a:ahLst/>
                  <a:rect l="0" t="0" r="r" b="b"/>
                  <a:pathLst>
                    <a:path w="54" h="5">
                      <a:moveTo>
                        <a:pt x="1" y="3"/>
                      </a:moveTo>
                      <a:lnTo>
                        <a:pt x="25" y="3"/>
                      </a:lnTo>
                      <a:lnTo>
                        <a:pt x="28" y="1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8" y="3"/>
                      </a:lnTo>
                      <a:lnTo>
                        <a:pt x="30" y="4"/>
                      </a:lnTo>
                      <a:lnTo>
                        <a:pt x="34" y="3"/>
                      </a:lnTo>
                      <a:lnTo>
                        <a:pt x="39" y="3"/>
                      </a:lnTo>
                      <a:lnTo>
                        <a:pt x="44" y="4"/>
                      </a:lnTo>
                      <a:lnTo>
                        <a:pt x="46" y="3"/>
                      </a:lnTo>
                      <a:lnTo>
                        <a:pt x="51" y="3"/>
                      </a:lnTo>
                      <a:lnTo>
                        <a:pt x="54" y="5"/>
                      </a:lnTo>
                      <a:lnTo>
                        <a:pt x="0" y="5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700200" y="5272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71400" y="52722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49440" y="52722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719280" y="52722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41240" y="52722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7360" y="5183280"/>
                  <a:ext cx="84600" cy="62280"/>
                </a:xfrm>
                <a:custGeom>
                  <a:avLst/>
                  <a:gdLst/>
                  <a:ahLst/>
                  <a:rect l="0" t="0" r="r" b="b"/>
                  <a:pathLst>
                    <a:path w="235" h="173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73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65280" y="519120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60240" y="518940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80" y="5"/>
                      </a:lnTo>
                      <a:lnTo>
                        <a:pt x="203" y="5"/>
                      </a:lnTo>
                      <a:lnTo>
                        <a:pt x="2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6024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9"/>
                      </a:lnTo>
                      <a:lnTo>
                        <a:pt x="0" y="1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60240" y="5235480"/>
                  <a:ext cx="78120" cy="3600"/>
                </a:xfrm>
                <a:custGeom>
                  <a:avLst/>
                  <a:gdLst/>
                  <a:ahLst/>
                  <a:rect l="0" t="0" r="r" b="b"/>
                  <a:pathLst>
                    <a:path w="217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31880" y="5189400"/>
                  <a:ext cx="6840" cy="49680"/>
                </a:xfrm>
                <a:custGeom>
                  <a:avLst/>
                  <a:gdLst/>
                  <a:ahLst/>
                  <a:rect l="0" t="0" r="r" b="b"/>
                  <a:pathLst>
                    <a:path w="19" h="138">
                      <a:moveTo>
                        <a:pt x="19" y="0"/>
                      </a:moveTo>
                      <a:lnTo>
                        <a:pt x="0" y="8"/>
                      </a:lnTo>
                      <a:lnTo>
                        <a:pt x="0" y="129"/>
                      </a:lnTo>
                      <a:lnTo>
                        <a:pt x="19" y="13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449280" y="4881600"/>
                <a:ext cx="153000" cy="125640"/>
                <a:chOff x="449280" y="4881600"/>
                <a:chExt cx="153000" cy="125640"/>
              </a:xfrm>
            </p:grpSpPr>
            <p:grpSp>
              <p:nvGrpSpPr>
                <p:cNvPr id="940" name=""/>
                <p:cNvGrpSpPr/>
                <p:nvPr/>
              </p:nvGrpSpPr>
              <p:grpSpPr>
                <a:xfrm>
                  <a:off x="449280" y="4881600"/>
                  <a:ext cx="30600" cy="122400"/>
                  <a:chOff x="449280" y="4881600"/>
                  <a:chExt cx="30600" cy="12240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>
                    <a:off x="474840" y="4883040"/>
                    <a:ext cx="504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336">
                        <a:moveTo>
                          <a:pt x="14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33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49280" y="4881600"/>
                    <a:ext cx="25920" cy="120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">
                        <a:moveTo>
                          <a:pt x="72" y="336"/>
                        </a:moveTo>
                        <a:lnTo>
                          <a:pt x="0" y="336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65120" y="488628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4" name=""/>
                <p:cNvSpPr/>
                <p:nvPr/>
              </p:nvSpPr>
              <p:spPr>
                <a:xfrm>
                  <a:off x="455760" y="4981680"/>
                  <a:ext cx="146520" cy="20880"/>
                </a:xfrm>
                <a:custGeom>
                  <a:avLst/>
                  <a:gdLst/>
                  <a:ahLst/>
                  <a:rect l="0" t="0" r="r" b="b"/>
                  <a:pathLst>
                    <a:path w="407" h="58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58"/>
                      </a:lnTo>
                      <a:lnTo>
                        <a:pt x="0" y="5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55760" y="500544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4840" y="49878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68360" y="49928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65120" y="4995720"/>
                  <a:ext cx="16200" cy="5040"/>
                </a:xfrm>
                <a:custGeom>
                  <a:avLst/>
                  <a:gdLst/>
                  <a:ahLst/>
                  <a:rect l="0" t="0" r="r" b="b"/>
                  <a:pathLst>
                    <a:path w="45" h="14">
                      <a:moveTo>
                        <a:pt x="2" y="0"/>
                      </a:moveTo>
                      <a:lnTo>
                        <a:pt x="26" y="0"/>
                      </a:lnTo>
                      <a:lnTo>
                        <a:pt x="27" y="3"/>
                      </a:lnTo>
                      <a:lnTo>
                        <a:pt x="20" y="3"/>
                      </a:lnTo>
                      <a:lnTo>
                        <a:pt x="19" y="8"/>
                      </a:lnTo>
                      <a:lnTo>
                        <a:pt x="44" y="8"/>
                      </a:lnTo>
                      <a:lnTo>
                        <a:pt x="45" y="14"/>
                      </a:lnTo>
                      <a:lnTo>
                        <a:pt x="16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73040" y="49878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20" y="6"/>
                      </a:lnTo>
                      <a:lnTo>
                        <a:pt x="26" y="6"/>
                      </a:lnTo>
                      <a:lnTo>
                        <a:pt x="27" y="10"/>
                      </a:lnTo>
                      <a:lnTo>
                        <a:pt x="21" y="10"/>
                      </a:lnTo>
                      <a:lnTo>
                        <a:pt x="20" y="13"/>
                      </a:lnTo>
                      <a:lnTo>
                        <a:pt x="17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5" y="12"/>
                      </a:lnTo>
                      <a:lnTo>
                        <a:pt x="16" y="16"/>
                      </a:lnTo>
                      <a:lnTo>
                        <a:pt x="12" y="16"/>
                      </a:lnTo>
                      <a:lnTo>
                        <a:pt x="12" y="19"/>
                      </a:lnTo>
                      <a:lnTo>
                        <a:pt x="20" y="19"/>
                      </a:lnTo>
                      <a:lnTo>
                        <a:pt x="20" y="23"/>
                      </a:lnTo>
                      <a:lnTo>
                        <a:pt x="9" y="23"/>
                      </a:lnTo>
                      <a:lnTo>
                        <a:pt x="11" y="19"/>
                      </a:lnTo>
                      <a:lnTo>
                        <a:pt x="8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6" y="6"/>
                      </a:lnTo>
                      <a:lnTo>
                        <a:pt x="17" y="3"/>
                      </a:lnTo>
                      <a:lnTo>
                        <a:pt x="14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482760" y="499284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8420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8744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20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2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9356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13" y="8"/>
                      </a:lnTo>
                      <a:lnTo>
                        <a:pt x="13" y="13"/>
                      </a:lnTo>
                      <a:lnTo>
                        <a:pt x="9" y="13"/>
                      </a:lnTo>
                      <a:lnTo>
                        <a:pt x="8" y="15"/>
                      </a:lnTo>
                      <a:lnTo>
                        <a:pt x="9" y="16"/>
                      </a:lnTo>
                      <a:lnTo>
                        <a:pt x="19" y="16"/>
                      </a:lnTo>
                      <a:lnTo>
                        <a:pt x="19" y="23"/>
                      </a:lnTo>
                      <a:lnTo>
                        <a:pt x="8" y="23"/>
                      </a:lnTo>
                      <a:lnTo>
                        <a:pt x="8" y="20"/>
                      </a:lnTo>
                      <a:lnTo>
                        <a:pt x="4" y="13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00040" y="49878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20"/>
                      </a:lnTo>
                      <a:lnTo>
                        <a:pt x="5" y="16"/>
                      </a:lnTo>
                      <a:lnTo>
                        <a:pt x="3" y="16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1" y="7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0328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8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10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0976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12640" y="49878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9120" y="49878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6"/>
                      </a:lnTo>
                      <a:lnTo>
                        <a:pt x="10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2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22360" y="498780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10" y="4"/>
                      </a:lnTo>
                      <a:lnTo>
                        <a:pt x="11" y="8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13" y="11"/>
                      </a:lnTo>
                      <a:lnTo>
                        <a:pt x="14" y="12"/>
                      </a:lnTo>
                      <a:lnTo>
                        <a:pt x="11" y="12"/>
                      </a:lnTo>
                      <a:lnTo>
                        <a:pt x="10" y="14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27040" y="498780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4960" y="4987800"/>
                  <a:ext cx="1800" cy="3600"/>
                </a:xfrm>
                <a:custGeom>
                  <a:avLst/>
                  <a:gdLst/>
                  <a:ahLst/>
                  <a:rect l="0" t="0" r="r" b="b"/>
                  <a:pathLst>
                    <a:path w="5" h="1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8"/>
                      </a:lnTo>
                      <a:lnTo>
                        <a:pt x="5" y="8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7040" y="4987800"/>
                  <a:ext cx="18000" cy="11520"/>
                </a:xfrm>
                <a:custGeom>
                  <a:avLst/>
                  <a:gdLst/>
                  <a:ahLst/>
                  <a:rect l="0" t="0" r="r" b="b"/>
                  <a:pathLst>
                    <a:path w="50" h="32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2" y="3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5" y="13"/>
                      </a:lnTo>
                      <a:lnTo>
                        <a:pt x="45" y="13"/>
                      </a:lnTo>
                      <a:lnTo>
                        <a:pt x="47" y="7"/>
                      </a:lnTo>
                      <a:lnTo>
                        <a:pt x="50" y="19"/>
                      </a:lnTo>
                      <a:lnTo>
                        <a:pt x="41" y="19"/>
                      </a:lnTo>
                      <a:lnTo>
                        <a:pt x="41" y="29"/>
                      </a:lnTo>
                      <a:lnTo>
                        <a:pt x="4" y="29"/>
                      </a:lnTo>
                      <a:lnTo>
                        <a:pt x="3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9" y="19"/>
                      </a:lnTo>
                      <a:lnTo>
                        <a:pt x="13" y="25"/>
                      </a:lnTo>
                      <a:lnTo>
                        <a:pt x="15" y="19"/>
                      </a:lnTo>
                      <a:lnTo>
                        <a:pt x="39" y="19"/>
                      </a:lnTo>
                      <a:lnTo>
                        <a:pt x="39" y="17"/>
                      </a:lnTo>
                      <a:lnTo>
                        <a:pt x="32" y="13"/>
                      </a:lnTo>
                      <a:lnTo>
                        <a:pt x="32" y="11"/>
                      </a:lnTo>
                      <a:lnTo>
                        <a:pt x="28" y="6"/>
                      </a:lnTo>
                      <a:lnTo>
                        <a:pt x="26" y="3"/>
                      </a:lnTo>
                      <a:lnTo>
                        <a:pt x="23" y="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55480" y="498780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5548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3120" y="49878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77800" y="49878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74560" y="4987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74560" y="499284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560" y="49975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2704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0040" y="498168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840" y="49816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5493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574560" y="49816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487440" y="4898880"/>
                  <a:ext cx="90720" cy="78120"/>
                </a:xfrm>
                <a:custGeom>
                  <a:avLst/>
                  <a:gdLst/>
                  <a:ahLst/>
                  <a:rect l="0" t="0" r="r" b="b"/>
                  <a:pathLst>
                    <a:path w="252" h="217">
                      <a:moveTo>
                        <a:pt x="0" y="0"/>
                      </a:moveTo>
                      <a:lnTo>
                        <a:pt x="252" y="0"/>
                      </a:lnTo>
                      <a:lnTo>
                        <a:pt x="252" y="217"/>
                      </a:lnTo>
                      <a:lnTo>
                        <a:pt x="0" y="2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493560" y="4905360"/>
                  <a:ext cx="78120" cy="59040"/>
                </a:xfrm>
                <a:custGeom>
                  <a:avLst/>
                  <a:gdLst/>
                  <a:ahLst/>
                  <a:rect l="0" t="0" r="r" b="b"/>
                  <a:pathLst>
                    <a:path w="217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17" y="0"/>
                      </a:lnTo>
                      <a:lnTo>
                        <a:pt x="217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92120" y="4905360"/>
                  <a:ext cx="81360" cy="1800"/>
                </a:xfrm>
                <a:custGeom>
                  <a:avLst/>
                  <a:gdLst/>
                  <a:ahLst/>
                  <a:rect l="0" t="0" r="r" b="b"/>
                  <a:pathLst>
                    <a:path w="226" h="5">
                      <a:moveTo>
                        <a:pt x="0" y="0"/>
                      </a:moveTo>
                      <a:lnTo>
                        <a:pt x="13" y="5"/>
                      </a:lnTo>
                      <a:lnTo>
                        <a:pt x="188" y="5"/>
                      </a:lnTo>
                      <a:lnTo>
                        <a:pt x="212" y="5"/>
                      </a:lnTo>
                      <a:lnTo>
                        <a:pt x="2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2120" y="490536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14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92120" y="4964040"/>
                  <a:ext cx="81360" cy="3600"/>
                </a:xfrm>
                <a:custGeom>
                  <a:avLst/>
                  <a:gdLst/>
                  <a:ahLst/>
                  <a:rect l="0" t="0" r="r" b="b"/>
                  <a:pathLst>
                    <a:path w="226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8" y="0"/>
                      </a:lnTo>
                      <a:lnTo>
                        <a:pt x="213" y="0"/>
                      </a:lnTo>
                      <a:lnTo>
                        <a:pt x="22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6640" y="4905360"/>
                  <a:ext cx="6840" cy="62280"/>
                </a:xfrm>
                <a:custGeom>
                  <a:avLst/>
                  <a:gdLst/>
                  <a:ahLst/>
                  <a:rect l="0" t="0" r="r" b="b"/>
                  <a:pathLst>
                    <a:path w="19" h="173">
                      <a:moveTo>
                        <a:pt x="19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9" y="17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00040" y="4910040"/>
                  <a:ext cx="6660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228600" y="508968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970440" y="6094440"/>
              <a:ext cx="596880" cy="407880"/>
              <a:chOff x="3970440" y="6094440"/>
              <a:chExt cx="596880" cy="407880"/>
            </a:xfrm>
          </p:grpSpPr>
          <p:sp>
            <p:nvSpPr>
              <p:cNvPr id="986" name=""/>
              <p:cNvSpPr/>
              <p:nvPr/>
            </p:nvSpPr>
            <p:spPr>
              <a:xfrm flipV="1">
                <a:off x="40942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4441680" y="630252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4267080" y="6205680"/>
                <a:ext cx="0" cy="1936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4025880" y="6396120"/>
                <a:ext cx="138600" cy="106200"/>
                <a:chOff x="4025880" y="6396120"/>
                <a:chExt cx="138600" cy="1062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054320" y="6458040"/>
                  <a:ext cx="81360" cy="20880"/>
                </a:xfrm>
                <a:custGeom>
                  <a:avLst/>
                  <a:gdLst/>
                  <a:ahLst/>
                  <a:rect l="0" t="0" r="r" b="b"/>
                  <a:pathLst>
                    <a:path w="226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26" y="0"/>
                      </a:lnTo>
                      <a:lnTo>
                        <a:pt x="226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04496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044960" y="6461280"/>
                  <a:ext cx="95760" cy="14760"/>
                </a:xfrm>
                <a:custGeom>
                  <a:avLst/>
                  <a:gdLst/>
                  <a:ahLst/>
                  <a:rect l="0" t="0" r="r" b="b"/>
                  <a:pathLst>
                    <a:path w="266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113360" y="6470640"/>
                  <a:ext cx="24120" cy="3600"/>
                </a:xfrm>
                <a:custGeom>
                  <a:avLst/>
                  <a:gdLst/>
                  <a:ahLst/>
                  <a:rect l="0" t="0" r="r" b="b"/>
                  <a:pathLst>
                    <a:path w="67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67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025880" y="6480000"/>
                  <a:ext cx="138600" cy="19440"/>
                </a:xfrm>
                <a:custGeom>
                  <a:avLst/>
                  <a:gdLst/>
                  <a:ahLst/>
                  <a:rect l="0" t="0" r="r" b="b"/>
                  <a:pathLst>
                    <a:path w="385" h="54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025880" y="6502320"/>
                  <a:ext cx="137880" cy="0"/>
                </a:xfrm>
                <a:custGeom>
                  <a:avLst/>
                  <a:gdLst/>
                  <a:ahLst/>
                  <a:rect l="0" t="0" r="r" b="b"/>
                  <a:pathLst>
                    <a:path w="383" h="0">
                      <a:moveTo>
                        <a:pt x="0" y="0"/>
                      </a:moveTo>
                      <a:lnTo>
                        <a:pt x="383" y="0"/>
                      </a:lnTo>
                      <a:lnTo>
                        <a:pt x="3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0435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0356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0356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041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046400" y="6491160"/>
                  <a:ext cx="44640" cy="8280"/>
                </a:xfrm>
                <a:custGeom>
                  <a:avLst/>
                  <a:gdLst/>
                  <a:ahLst/>
                  <a:rect l="0" t="0" r="r" b="b"/>
                  <a:pathLst>
                    <a:path w="124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12"/>
                      </a:lnTo>
                      <a:lnTo>
                        <a:pt x="6" y="12"/>
                      </a:lnTo>
                      <a:lnTo>
                        <a:pt x="10" y="16"/>
                      </a:lnTo>
                      <a:lnTo>
                        <a:pt x="121" y="16"/>
                      </a:lnTo>
                      <a:lnTo>
                        <a:pt x="124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05288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6" y="8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0561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059360" y="648828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06224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06404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0672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0734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0784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08132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6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2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08924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09104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09716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09248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1624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11624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1804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1353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137120" y="64882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135320" y="6489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13532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1353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9248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65480" y="648180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0435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133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3532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054320" y="6396120"/>
                  <a:ext cx="81360" cy="59040"/>
                </a:xfrm>
                <a:custGeom>
                  <a:avLst/>
                  <a:gdLst/>
                  <a:ahLst/>
                  <a:rect l="0" t="0" r="r" b="b"/>
                  <a:pathLst>
                    <a:path w="226" h="164">
                      <a:moveTo>
                        <a:pt x="0" y="0"/>
                      </a:moveTo>
                      <a:lnTo>
                        <a:pt x="226" y="0"/>
                      </a:lnTo>
                      <a:lnTo>
                        <a:pt x="226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05756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61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0561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0561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12740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4200480" y="6396120"/>
                <a:ext cx="135360" cy="106200"/>
                <a:chOff x="4200480" y="6396120"/>
                <a:chExt cx="135360" cy="10620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4226040" y="6458040"/>
                  <a:ext cx="84600" cy="20880"/>
                </a:xfrm>
                <a:custGeom>
                  <a:avLst/>
                  <a:gdLst/>
                  <a:ahLst/>
                  <a:rect l="0" t="0" r="r" b="b"/>
                  <a:pathLst>
                    <a:path w="235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219560" y="6475320"/>
                  <a:ext cx="97200" cy="1800"/>
                </a:xfrm>
                <a:custGeom>
                  <a:avLst/>
                  <a:gdLst/>
                  <a:ahLst/>
                  <a:rect l="0" t="0" r="r" b="b"/>
                  <a:pathLst>
                    <a:path w="27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19560" y="6461280"/>
                  <a:ext cx="97200" cy="14760"/>
                </a:xfrm>
                <a:custGeom>
                  <a:avLst/>
                  <a:gdLst/>
                  <a:ahLst/>
                  <a:rect l="0" t="0" r="r" b="b"/>
                  <a:pathLst>
                    <a:path w="270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70" y="0"/>
                      </a:lnTo>
                      <a:lnTo>
                        <a:pt x="270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160" y="6470640"/>
                  <a:ext cx="25920" cy="3600"/>
                </a:xfrm>
                <a:custGeom>
                  <a:avLst/>
                  <a:gdLst/>
                  <a:ahLst/>
                  <a:rect l="0" t="0" r="r" b="b"/>
                  <a:pathLst>
                    <a:path w="72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20048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20048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21812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210200" y="649116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208400" y="649440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8"/>
                      </a:lnTo>
                      <a:lnTo>
                        <a:pt x="40" y="8"/>
                      </a:lnTo>
                      <a:lnTo>
                        <a:pt x="41" y="14"/>
                      </a:lnTo>
                      <a:lnTo>
                        <a:pt x="15" y="14"/>
                      </a:lnTo>
                      <a:lnTo>
                        <a:pt x="17" y="5"/>
                      </a:lnTo>
                      <a:lnTo>
                        <a:pt x="0" y="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2163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222800" y="6491160"/>
                  <a:ext cx="43200" cy="8280"/>
                </a:xfrm>
                <a:custGeom>
                  <a:avLst/>
                  <a:gdLst/>
                  <a:ahLst/>
                  <a:rect l="0" t="0" r="r" b="b"/>
                  <a:pathLst>
                    <a:path w="120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4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4" y="12"/>
                      </a:lnTo>
                      <a:lnTo>
                        <a:pt x="6" y="12"/>
                      </a:lnTo>
                      <a:lnTo>
                        <a:pt x="9" y="16"/>
                      </a:lnTo>
                      <a:lnTo>
                        <a:pt x="116" y="16"/>
                      </a:lnTo>
                      <a:lnTo>
                        <a:pt x="120" y="23"/>
                      </a:lnTo>
                      <a:lnTo>
                        <a:pt x="4" y="23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22424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2274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4" y="14"/>
                      </a:lnTo>
                      <a:lnTo>
                        <a:pt x="14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32160" y="6488280"/>
                  <a:ext cx="4680" cy="0"/>
                </a:xfrm>
                <a:custGeom>
                  <a:avLst/>
                  <a:gdLst/>
                  <a:ahLst/>
                  <a:rect l="0" t="0" r="r" b="b"/>
                  <a:pathLst>
                    <a:path w="13" h="0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237200" y="648972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8" y="4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4" y="10"/>
                      </a:lnTo>
                      <a:lnTo>
                        <a:pt x="4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238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241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7" y="8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4" y="10"/>
                      </a:lnTo>
                      <a:lnTo>
                        <a:pt x="13" y="11"/>
                      </a:lnTo>
                      <a:lnTo>
                        <a:pt x="13" y="11"/>
                      </a:lnTo>
                      <a:lnTo>
                        <a:pt x="22" y="11"/>
                      </a:lnTo>
                      <a:lnTo>
                        <a:pt x="23" y="14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2480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24980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5" y="1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8" y="8"/>
                      </a:lnTo>
                      <a:lnTo>
                        <a:pt x="19" y="8"/>
                      </a:lnTo>
                      <a:lnTo>
                        <a:pt x="20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11"/>
                      </a:lnTo>
                      <a:lnTo>
                        <a:pt x="27" y="11"/>
                      </a:lnTo>
                      <a:lnTo>
                        <a:pt x="27" y="14"/>
                      </a:lnTo>
                      <a:lnTo>
                        <a:pt x="17" y="14"/>
                      </a:lnTo>
                      <a:lnTo>
                        <a:pt x="14" y="11"/>
                      </a:lnTo>
                      <a:lnTo>
                        <a:pt x="10" y="10"/>
                      </a:lnTo>
                      <a:lnTo>
                        <a:pt x="6" y="10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772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62400" y="648828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2656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6"/>
                      </a:lnTo>
                      <a:lnTo>
                        <a:pt x="8" y="8"/>
                      </a:lnTo>
                      <a:lnTo>
                        <a:pt x="18" y="8"/>
                      </a:lnTo>
                      <a:lnTo>
                        <a:pt x="19" y="11"/>
                      </a:lnTo>
                      <a:lnTo>
                        <a:pt x="16" y="11"/>
                      </a:lnTo>
                      <a:lnTo>
                        <a:pt x="15" y="14"/>
                      </a:lnTo>
                      <a:lnTo>
                        <a:pt x="11" y="11"/>
                      </a:lnTo>
                      <a:lnTo>
                        <a:pt x="8" y="11"/>
                      </a:ln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272120" y="648828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265640" y="6488280"/>
                  <a:ext cx="18000" cy="8280"/>
                </a:xfrm>
                <a:custGeom>
                  <a:avLst/>
                  <a:gdLst/>
                  <a:ahLst/>
                  <a:rect l="0" t="0" r="r" b="b"/>
                  <a:pathLst>
                    <a:path w="50" h="23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4"/>
                      </a:lnTo>
                      <a:lnTo>
                        <a:pt x="33" y="4"/>
                      </a:lnTo>
                      <a:lnTo>
                        <a:pt x="35" y="8"/>
                      </a:lnTo>
                      <a:lnTo>
                        <a:pt x="45" y="8"/>
                      </a:lnTo>
                      <a:lnTo>
                        <a:pt x="47" y="5"/>
                      </a:lnTo>
                      <a:lnTo>
                        <a:pt x="50" y="14"/>
                      </a:lnTo>
                      <a:lnTo>
                        <a:pt x="41" y="14"/>
                      </a:lnTo>
                      <a:lnTo>
                        <a:pt x="41" y="20"/>
                      </a:lnTo>
                      <a:lnTo>
                        <a:pt x="4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9" y="14"/>
                      </a:lnTo>
                      <a:lnTo>
                        <a:pt x="13" y="17"/>
                      </a:lnTo>
                      <a:lnTo>
                        <a:pt x="15" y="14"/>
                      </a:lnTo>
                      <a:lnTo>
                        <a:pt x="39" y="14"/>
                      </a:lnTo>
                      <a:lnTo>
                        <a:pt x="39" y="12"/>
                      </a:lnTo>
                      <a:lnTo>
                        <a:pt x="32" y="8"/>
                      </a:lnTo>
                      <a:lnTo>
                        <a:pt x="32" y="7"/>
                      </a:lnTo>
                      <a:lnTo>
                        <a:pt x="28" y="4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29084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290840" y="648972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0840" y="6491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1" y="0"/>
                      </a:moveTo>
                      <a:lnTo>
                        <a:pt x="18" y="0"/>
                      </a:lnTo>
                      <a:lnTo>
                        <a:pt x="18" y="3"/>
                      </a:lnTo>
                      <a:lnTo>
                        <a:pt x="13" y="3"/>
                      </a:lnTo>
                      <a:lnTo>
                        <a:pt x="14" y="8"/>
                      </a:lnTo>
                      <a:lnTo>
                        <a:pt x="19" y="8"/>
                      </a:lnTo>
                      <a:lnTo>
                        <a:pt x="22" y="10"/>
                      </a:lnTo>
                      <a:lnTo>
                        <a:pt x="23" y="8"/>
                      </a:lnTo>
                      <a:lnTo>
                        <a:pt x="30" y="8"/>
                      </a:lnTo>
                      <a:lnTo>
                        <a:pt x="32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0" y="12"/>
                      </a:lnTo>
                      <a:lnTo>
                        <a:pt x="11" y="8"/>
                      </a:lnTo>
                      <a:lnTo>
                        <a:pt x="10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30992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3117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309920" y="6489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309920" y="6492960"/>
                  <a:ext cx="9720" cy="3600"/>
                </a:xfrm>
                <a:custGeom>
                  <a:avLst/>
                  <a:gdLst/>
                  <a:ahLst/>
                  <a:rect l="0" t="0" r="r" b="b"/>
                  <a:pathLst>
                    <a:path w="27" h="10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1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1" y="5"/>
                      </a:lnTo>
                      <a:lnTo>
                        <a:pt x="23" y="8"/>
                      </a:lnTo>
                      <a:lnTo>
                        <a:pt x="2" y="8"/>
                      </a:lnTo>
                      <a:lnTo>
                        <a:pt x="0" y="10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2" y="6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18" y="1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309920" y="6494400"/>
                  <a:ext cx="20880" cy="5040"/>
                </a:xfrm>
                <a:custGeom>
                  <a:avLst/>
                  <a:gdLst/>
                  <a:ahLst/>
                  <a:rect l="0" t="0" r="r" b="b"/>
                  <a:pathLst>
                    <a:path w="58" h="14">
                      <a:moveTo>
                        <a:pt x="1" y="6"/>
                      </a:moveTo>
                      <a:lnTo>
                        <a:pt x="26" y="6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6"/>
                      </a:lnTo>
                      <a:lnTo>
                        <a:pt x="33" y="11"/>
                      </a:lnTo>
                      <a:lnTo>
                        <a:pt x="37" y="6"/>
                      </a:lnTo>
                      <a:lnTo>
                        <a:pt x="42" y="6"/>
                      </a:lnTo>
                      <a:lnTo>
                        <a:pt x="46" y="11"/>
                      </a:lnTo>
                      <a:lnTo>
                        <a:pt x="49" y="6"/>
                      </a:lnTo>
                      <a:lnTo>
                        <a:pt x="55" y="6"/>
                      </a:lnTo>
                      <a:lnTo>
                        <a:pt x="58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26564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240080" y="648180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218120" y="648180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28616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309920" y="648180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226040" y="6396120"/>
                  <a:ext cx="84600" cy="59040"/>
                </a:xfrm>
                <a:custGeom>
                  <a:avLst/>
                  <a:gdLst/>
                  <a:ahLst/>
                  <a:rect l="0" t="0" r="r" b="b"/>
                  <a:pathLst>
                    <a:path w="235" h="164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230720" y="64022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22892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228920" y="640080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22892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3020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4373640" y="6396120"/>
                <a:ext cx="135360" cy="106200"/>
                <a:chOff x="4373640" y="6396120"/>
                <a:chExt cx="135360" cy="106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400640" y="6458040"/>
                  <a:ext cx="82800" cy="20880"/>
                </a:xfrm>
                <a:custGeom>
                  <a:avLst/>
                  <a:gdLst/>
                  <a:ahLst/>
                  <a:rect l="0" t="0" r="r" b="b"/>
                  <a:pathLst>
                    <a:path w="230" h="58">
                      <a:moveTo>
                        <a:pt x="0" y="58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392720" y="6475320"/>
                  <a:ext cx="95760" cy="1800"/>
                </a:xfrm>
                <a:custGeom>
                  <a:avLst/>
                  <a:gdLst/>
                  <a:ahLst/>
                  <a:rect l="0" t="0" r="r" b="b"/>
                  <a:pathLst>
                    <a:path w="266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394160" y="6461280"/>
                  <a:ext cx="93960" cy="14760"/>
                </a:xfrm>
                <a:custGeom>
                  <a:avLst/>
                  <a:gdLst/>
                  <a:ahLst/>
                  <a:rect l="0" t="0" r="r" b="b"/>
                  <a:pathLst>
                    <a:path w="261" h="41">
                      <a:moveTo>
                        <a:pt x="0" y="41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1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59320" y="6470640"/>
                  <a:ext cx="27360" cy="3600"/>
                </a:xfrm>
                <a:custGeom>
                  <a:avLst/>
                  <a:gdLst/>
                  <a:ahLst/>
                  <a:rect l="0" t="0" r="r" b="b"/>
                  <a:pathLst>
                    <a:path w="76" h="10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76" y="0"/>
                      </a:lnTo>
                      <a:lnTo>
                        <a:pt x="76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373640" y="6480000"/>
                  <a:ext cx="135360" cy="19440"/>
                </a:xfrm>
                <a:custGeom>
                  <a:avLst/>
                  <a:gdLst/>
                  <a:ahLst/>
                  <a:rect l="0" t="0" r="r" b="b"/>
                  <a:pathLst>
                    <a:path w="376" h="54">
                      <a:moveTo>
                        <a:pt x="23" y="0"/>
                      </a:moveTo>
                      <a:lnTo>
                        <a:pt x="347" y="0"/>
                      </a:lnTo>
                      <a:lnTo>
                        <a:pt x="376" y="54"/>
                      </a:lnTo>
                      <a:lnTo>
                        <a:pt x="0" y="54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373640" y="6502320"/>
                  <a:ext cx="134640" cy="0"/>
                </a:xfrm>
                <a:custGeom>
                  <a:avLst/>
                  <a:gdLst/>
                  <a:ahLst/>
                  <a:rect l="0" t="0" r="r" b="b"/>
                  <a:pathLst>
                    <a:path w="374" h="0">
                      <a:moveTo>
                        <a:pt x="0" y="0"/>
                      </a:move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389480" y="648648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383000" y="649116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383000" y="64944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8"/>
                      </a:lnTo>
                      <a:lnTo>
                        <a:pt x="32" y="8"/>
                      </a:lnTo>
                      <a:lnTo>
                        <a:pt x="32" y="14"/>
                      </a:lnTo>
                      <a:lnTo>
                        <a:pt x="12" y="14"/>
                      </a:lnTo>
                      <a:lnTo>
                        <a:pt x="13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3894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394160" y="6491160"/>
                  <a:ext cx="47880" cy="8280"/>
                </a:xfrm>
                <a:custGeom>
                  <a:avLst/>
                  <a:gdLst/>
                  <a:ahLst/>
                  <a:rect l="0" t="0" r="r" b="b"/>
                  <a:pathLst>
                    <a:path w="13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6" y="12"/>
                      </a:lnTo>
                      <a:lnTo>
                        <a:pt x="6" y="12"/>
                      </a:lnTo>
                      <a:lnTo>
                        <a:pt x="11" y="16"/>
                      </a:lnTo>
                      <a:lnTo>
                        <a:pt x="129" y="16"/>
                      </a:lnTo>
                      <a:lnTo>
                        <a:pt x="133" y="23"/>
                      </a:lnTo>
                      <a:lnTo>
                        <a:pt x="5" y="23"/>
                      </a:lnTo>
                      <a:lnTo>
                        <a:pt x="5" y="16"/>
                      </a:lnTo>
                      <a:lnTo>
                        <a:pt x="2" y="12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39740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0208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08560" y="648828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08560" y="648972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6" y="8"/>
                      </a:lnTo>
                      <a:lnTo>
                        <a:pt x="14" y="8"/>
                      </a:lnTo>
                      <a:lnTo>
                        <a:pt x="14" y="10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1180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5" y="1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14" y="3"/>
                      </a:lnTo>
                      <a:lnTo>
                        <a:pt x="15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0"/>
                      </a:lnTo>
                      <a:lnTo>
                        <a:pt x="14" y="10"/>
                      </a:lnTo>
                      <a:lnTo>
                        <a:pt x="12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14680" y="648828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260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8" y="3"/>
                      </a:lnTo>
                      <a:lnTo>
                        <a:pt x="8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8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5840" y="648828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3088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33760" y="648828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7" y="2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16" y="4"/>
                      </a:lnTo>
                      <a:lnTo>
                        <a:pt x="18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1" y="11"/>
                      </a:lnTo>
                      <a:lnTo>
                        <a:pt x="23" y="12"/>
                      </a:lnTo>
                      <a:lnTo>
                        <a:pt x="19" y="12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9" y="12"/>
                      </a:lnTo>
                      <a:lnTo>
                        <a:pt x="6" y="6"/>
                      </a:lnTo>
                      <a:lnTo>
                        <a:pt x="4" y="5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41680" y="64882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44920" y="648828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41680" y="6488280"/>
                  <a:ext cx="16200" cy="8280"/>
                </a:xfrm>
                <a:custGeom>
                  <a:avLst/>
                  <a:gdLst/>
                  <a:ahLst/>
                  <a:rect l="0" t="0" r="r" b="b"/>
                  <a:pathLst>
                    <a:path w="45" h="23">
                      <a:moveTo>
                        <a:pt x="23" y="0"/>
                      </a:move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9" y="2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8"/>
                      </a:lnTo>
                      <a:lnTo>
                        <a:pt x="40" y="8"/>
                      </a:lnTo>
                      <a:lnTo>
                        <a:pt x="41" y="5"/>
                      </a:lnTo>
                      <a:lnTo>
                        <a:pt x="45" y="14"/>
                      </a:lnTo>
                      <a:lnTo>
                        <a:pt x="37" y="14"/>
                      </a:lnTo>
                      <a:lnTo>
                        <a:pt x="37" y="20"/>
                      </a:lnTo>
                      <a:lnTo>
                        <a:pt x="3" y="20"/>
                      </a:lnTo>
                      <a:lnTo>
                        <a:pt x="3" y="23"/>
                      </a:lnTo>
                      <a:lnTo>
                        <a:pt x="0" y="18"/>
                      </a:lnTo>
                      <a:lnTo>
                        <a:pt x="1" y="14"/>
                      </a:lnTo>
                      <a:lnTo>
                        <a:pt x="8" y="14"/>
                      </a:lnTo>
                      <a:lnTo>
                        <a:pt x="11" y="17"/>
                      </a:lnTo>
                      <a:lnTo>
                        <a:pt x="13" y="14"/>
                      </a:lnTo>
                      <a:lnTo>
                        <a:pt x="34" y="14"/>
                      </a:lnTo>
                      <a:lnTo>
                        <a:pt x="34" y="12"/>
                      </a:lnTo>
                      <a:lnTo>
                        <a:pt x="29" y="8"/>
                      </a:lnTo>
                      <a:lnTo>
                        <a:pt x="29" y="7"/>
                      </a:lnTo>
                      <a:lnTo>
                        <a:pt x="26" y="4"/>
                      </a:lnTo>
                      <a:lnTo>
                        <a:pt x="24" y="2"/>
                      </a:lnTo>
                      <a:lnTo>
                        <a:pt x="20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64000" y="648828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64000" y="648972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65800" y="649116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81640" y="64882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86320" y="64882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81640" y="6489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83080" y="649296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84520" y="6494400"/>
                  <a:ext cx="19440" cy="5040"/>
                </a:xfrm>
                <a:custGeom>
                  <a:avLst/>
                  <a:gdLst/>
                  <a:ahLst/>
                  <a:rect l="0" t="0" r="r" b="b"/>
                  <a:pathLst>
                    <a:path w="54" h="14">
                      <a:moveTo>
                        <a:pt x="1" y="6"/>
                      </a:moveTo>
                      <a:lnTo>
                        <a:pt x="25" y="6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6"/>
                      </a:lnTo>
                      <a:lnTo>
                        <a:pt x="30" y="11"/>
                      </a:lnTo>
                      <a:lnTo>
                        <a:pt x="34" y="6"/>
                      </a:lnTo>
                      <a:lnTo>
                        <a:pt x="39" y="6"/>
                      </a:lnTo>
                      <a:lnTo>
                        <a:pt x="44" y="11"/>
                      </a:lnTo>
                      <a:lnTo>
                        <a:pt x="46" y="6"/>
                      </a:lnTo>
                      <a:lnTo>
                        <a:pt x="51" y="6"/>
                      </a:lnTo>
                      <a:lnTo>
                        <a:pt x="54" y="14"/>
                      </a:lnTo>
                      <a:lnTo>
                        <a:pt x="0" y="1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416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13240" y="648180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3909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59320" y="648180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83080" y="648180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00640" y="6396120"/>
                  <a:ext cx="82800" cy="59040"/>
                </a:xfrm>
                <a:custGeom>
                  <a:avLst/>
                  <a:gdLst/>
                  <a:ahLst/>
                  <a:rect l="0" t="0" r="r" b="b"/>
                  <a:pathLst>
                    <a:path w="230" h="164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4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05320" y="6402240"/>
                  <a:ext cx="73440" cy="44640"/>
                </a:xfrm>
                <a:custGeom>
                  <a:avLst/>
                  <a:gdLst/>
                  <a:ahLst/>
                  <a:rect l="0" t="0" r="r" b="b"/>
                  <a:pathLst>
                    <a:path w="204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03880" y="640080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0"/>
                      </a:moveTo>
                      <a:lnTo>
                        <a:pt x="12" y="5"/>
                      </a:lnTo>
                      <a:lnTo>
                        <a:pt x="173" y="5"/>
                      </a:lnTo>
                      <a:lnTo>
                        <a:pt x="195" y="5"/>
                      </a:lnTo>
                      <a:lnTo>
                        <a:pt x="20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03880" y="6400800"/>
                  <a:ext cx="5040" cy="47880"/>
                </a:xfrm>
                <a:custGeom>
                  <a:avLst/>
                  <a:gdLst/>
                  <a:ahLst/>
                  <a:rect l="0" t="0" r="r" b="b"/>
                  <a:pathLst>
                    <a:path w="14" h="133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03880" y="6446880"/>
                  <a:ext cx="74880" cy="1800"/>
                </a:xfrm>
                <a:custGeom>
                  <a:avLst/>
                  <a:gdLst/>
                  <a:ahLst/>
                  <a:rect l="0" t="0" r="r" b="b"/>
                  <a:pathLst>
                    <a:path w="208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76600" y="640080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4192560" y="6094440"/>
                <a:ext cx="149760" cy="124200"/>
                <a:chOff x="4192560" y="6094440"/>
                <a:chExt cx="149760" cy="124200"/>
              </a:xfrm>
            </p:grpSpPr>
            <p:grpSp>
              <p:nvGrpSpPr>
                <p:cNvPr id="1122" name=""/>
                <p:cNvGrpSpPr/>
                <p:nvPr/>
              </p:nvGrpSpPr>
              <p:grpSpPr>
                <a:xfrm>
                  <a:off x="4192560" y="6094440"/>
                  <a:ext cx="27360" cy="119160"/>
                  <a:chOff x="4192560" y="6094440"/>
                  <a:chExt cx="27360" cy="11916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218120" y="6095880"/>
                    <a:ext cx="180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327">
                        <a:moveTo>
                          <a:pt x="5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lnTo>
                          <a:pt x="5" y="327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192560" y="6094440"/>
                    <a:ext cx="25920" cy="11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">
                        <a:moveTo>
                          <a:pt x="72" y="327"/>
                        </a:moveTo>
                        <a:lnTo>
                          <a:pt x="0" y="327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27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208400" y="6099120"/>
                    <a:ext cx="360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85">
                        <a:moveTo>
                          <a:pt x="10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6" name=""/>
                <p:cNvSpPr/>
                <p:nvPr/>
              </p:nvSpPr>
              <p:spPr>
                <a:xfrm>
                  <a:off x="4199040" y="6192720"/>
                  <a:ext cx="143280" cy="19440"/>
                </a:xfrm>
                <a:custGeom>
                  <a:avLst/>
                  <a:gdLst/>
                  <a:ahLst/>
                  <a:rect l="0" t="0" r="r" b="b"/>
                  <a:pathLst>
                    <a:path w="398" h="54">
                      <a:moveTo>
                        <a:pt x="24" y="0"/>
                      </a:moveTo>
                      <a:lnTo>
                        <a:pt x="368" y="0"/>
                      </a:lnTo>
                      <a:lnTo>
                        <a:pt x="398" y="54"/>
                      </a:lnTo>
                      <a:lnTo>
                        <a:pt x="0" y="54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199040" y="6215040"/>
                  <a:ext cx="143280" cy="3600"/>
                </a:xfrm>
                <a:custGeom>
                  <a:avLst/>
                  <a:gdLst/>
                  <a:ahLst/>
                  <a:rect l="0" t="0" r="r" b="b"/>
                  <a:pathLst>
                    <a:path w="398" h="10">
                      <a:moveTo>
                        <a:pt x="0" y="0"/>
                      </a:moveTo>
                      <a:lnTo>
                        <a:pt x="398" y="0"/>
                      </a:lnTo>
                      <a:lnTo>
                        <a:pt x="398" y="1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218120" y="619920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210200" y="620388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208400" y="6207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21632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12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3" y="10"/>
                      </a:lnTo>
                      <a:lnTo>
                        <a:pt x="18" y="10"/>
                      </a:lnTo>
                      <a:lnTo>
                        <a:pt x="16" y="13"/>
                      </a:lnTo>
                      <a:lnTo>
                        <a:pt x="15" y="10"/>
                      </a:lnTo>
                      <a:lnTo>
                        <a:pt x="3" y="10"/>
                      </a:lnTo>
                      <a:lnTo>
                        <a:pt x="2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0" y="16"/>
                      </a:lnTo>
                      <a:lnTo>
                        <a:pt x="10" y="19"/>
                      </a:lnTo>
                      <a:lnTo>
                        <a:pt x="16" y="19"/>
                      </a:lnTo>
                      <a:lnTo>
                        <a:pt x="17" y="23"/>
                      </a:lnTo>
                      <a:lnTo>
                        <a:pt x="7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2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222800" y="620388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22604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228920" y="619920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3"/>
                      </a:lnTo>
                      <a:lnTo>
                        <a:pt x="6" y="3"/>
                      </a:lnTo>
                      <a:lnTo>
                        <a:pt x="6" y="6"/>
                      </a:lnTo>
                      <a:lnTo>
                        <a:pt x="17" y="6"/>
                      </a:lnTo>
                      <a:lnTo>
                        <a:pt x="18" y="10"/>
                      </a:lnTo>
                      <a:lnTo>
                        <a:pt x="9" y="10"/>
                      </a:lnTo>
                      <a:lnTo>
                        <a:pt x="9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4" y="23"/>
                      </a:lnTo>
                      <a:lnTo>
                        <a:pt x="14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235400" y="619920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238640" y="620244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24008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5" y="3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5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6" y="12"/>
                      </a:lnTo>
                      <a:lnTo>
                        <a:pt x="16" y="16"/>
                      </a:lnTo>
                      <a:lnTo>
                        <a:pt x="14" y="16"/>
                      </a:lnTo>
                      <a:lnTo>
                        <a:pt x="12" y="19"/>
                      </a:lnTo>
                      <a:lnTo>
                        <a:pt x="21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9" y="16"/>
                      </a:lnTo>
                      <a:lnTo>
                        <a:pt x="6" y="16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24512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10" y="12"/>
                      </a:lnTo>
                      <a:lnTo>
                        <a:pt x="11" y="16"/>
                      </a:lnTo>
                      <a:lnTo>
                        <a:pt x="9" y="16"/>
                      </a:lnTo>
                      <a:lnTo>
                        <a:pt x="8" y="18"/>
                      </a:lnTo>
                      <a:lnTo>
                        <a:pt x="8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8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3" y="10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249800" y="619920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255920" y="619920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3"/>
                      </a:lnTo>
                      <a:lnTo>
                        <a:pt x="3" y="3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11" y="6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12"/>
                      </a:lnTo>
                      <a:lnTo>
                        <a:pt x="13" y="12"/>
                      </a:lnTo>
                      <a:lnTo>
                        <a:pt x="15" y="16"/>
                      </a:lnTo>
                      <a:lnTo>
                        <a:pt x="11" y="16"/>
                      </a:lnTo>
                      <a:lnTo>
                        <a:pt x="11" y="17"/>
                      </a:lnTo>
                      <a:lnTo>
                        <a:pt x="11" y="19"/>
                      </a:lnTo>
                      <a:lnTo>
                        <a:pt x="19" y="19"/>
                      </a:lnTo>
                      <a:lnTo>
                        <a:pt x="19" y="23"/>
                      </a:lnTo>
                      <a:lnTo>
                        <a:pt x="11" y="23"/>
                      </a:lnTo>
                      <a:lnTo>
                        <a:pt x="9" y="19"/>
                      </a:lnTo>
                      <a:lnTo>
                        <a:pt x="7" y="16"/>
                      </a:lnTo>
                      <a:lnTo>
                        <a:pt x="4" y="1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260960" y="619920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265640" y="619920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13" y="4"/>
                      </a:lnTo>
                      <a:lnTo>
                        <a:pt x="15" y="8"/>
                      </a:lnTo>
                      <a:lnTo>
                        <a:pt x="9" y="8"/>
                      </a:lnTo>
                      <a:lnTo>
                        <a:pt x="9" y="9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2"/>
                      </a:lnTo>
                      <a:lnTo>
                        <a:pt x="16" y="12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8" y="12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268880" y="6199200"/>
                  <a:ext cx="6840" cy="6840"/>
                </a:xfrm>
                <a:custGeom>
                  <a:avLst/>
                  <a:gdLst/>
                  <a:ahLst/>
                  <a:rect l="0" t="0" r="r" b="b"/>
                  <a:pathLst>
                    <a:path w="1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4" y="2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3" y="9"/>
                      </a:lnTo>
                      <a:lnTo>
                        <a:pt x="11" y="9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18" y="11"/>
                      </a:lnTo>
                      <a:lnTo>
                        <a:pt x="19" y="15"/>
                      </a:lnTo>
                      <a:lnTo>
                        <a:pt x="16" y="15"/>
                      </a:lnTo>
                      <a:lnTo>
                        <a:pt x="15" y="19"/>
                      </a:lnTo>
                      <a:lnTo>
                        <a:pt x="11" y="15"/>
                      </a:lnTo>
                      <a:lnTo>
                        <a:pt x="8" y="15"/>
                      </a:lnTo>
                      <a:lnTo>
                        <a:pt x="4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275000" y="619920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272120" y="6199200"/>
                  <a:ext cx="12960" cy="11520"/>
                </a:xfrm>
                <a:custGeom>
                  <a:avLst/>
                  <a:gdLst/>
                  <a:ahLst/>
                  <a:rect l="0" t="0" r="r" b="b"/>
                  <a:pathLst>
                    <a:path w="36" h="32">
                      <a:moveTo>
                        <a:pt x="17" y="0"/>
                      </a:moveTo>
                      <a:lnTo>
                        <a:pt x="29" y="0"/>
                      </a:lnTo>
                      <a:lnTo>
                        <a:pt x="29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24" y="6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3" y="7"/>
                      </a:lnTo>
                      <a:lnTo>
                        <a:pt x="36" y="19"/>
                      </a:lnTo>
                      <a:lnTo>
                        <a:pt x="29" y="19"/>
                      </a:lnTo>
                      <a:lnTo>
                        <a:pt x="29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6" y="19"/>
                      </a:lnTo>
                      <a:lnTo>
                        <a:pt x="9" y="25"/>
                      </a:lnTo>
                      <a:lnTo>
                        <a:pt x="10" y="19"/>
                      </a:lnTo>
                      <a:lnTo>
                        <a:pt x="28" y="19"/>
                      </a:lnTo>
                      <a:lnTo>
                        <a:pt x="28" y="17"/>
                      </a:lnTo>
                      <a:lnTo>
                        <a:pt x="23" y="13"/>
                      </a:lnTo>
                      <a:lnTo>
                        <a:pt x="23" y="11"/>
                      </a:lnTo>
                      <a:lnTo>
                        <a:pt x="21" y="6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297320" y="6199200"/>
                  <a:ext cx="7920" cy="0"/>
                </a:xfrm>
                <a:custGeom>
                  <a:avLst/>
                  <a:gdLst/>
                  <a:ahLst/>
                  <a:rect l="0" t="0" r="r" b="b"/>
                  <a:pathLst>
                    <a:path w="22" h="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6" y="0"/>
                      </a:lnTo>
                      <a:lnTo>
                        <a:pt x="15" y="0"/>
                      </a:lnTo>
                      <a:lnTo>
                        <a:pt x="13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297320" y="62024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97320" y="620388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3"/>
                      </a:lnTo>
                      <a:lnTo>
                        <a:pt x="14" y="3"/>
                      </a:lnTo>
                      <a:lnTo>
                        <a:pt x="15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8"/>
                      </a:lnTo>
                      <a:lnTo>
                        <a:pt x="34" y="8"/>
                      </a:lnTo>
                      <a:lnTo>
                        <a:pt x="36" y="1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10" y="8"/>
                      </a:lnTo>
                      <a:lnTo>
                        <a:pt x="11" y="12"/>
                      </a:ln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314960" y="619920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319640" y="619920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316400" y="620244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316400" y="6203880"/>
                  <a:ext cx="14760" cy="5040"/>
                </a:xfrm>
                <a:custGeom>
                  <a:avLst/>
                  <a:gdLst/>
                  <a:ahLst/>
                  <a:rect l="0" t="0" r="r" b="b"/>
                  <a:pathLst>
                    <a:path w="41" h="14">
                      <a:moveTo>
                        <a:pt x="3" y="0"/>
                      </a:moveTo>
                      <a:lnTo>
                        <a:pt x="12" y="0"/>
                      </a:lnTo>
                      <a:lnTo>
                        <a:pt x="16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32" y="2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2"/>
                      </a:lnTo>
                      <a:lnTo>
                        <a:pt x="32" y="6"/>
                      </a:lnTo>
                      <a:lnTo>
                        <a:pt x="36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6" y="6"/>
                      </a:lnTo>
                      <a:lnTo>
                        <a:pt x="20" y="9"/>
                      </a:lnTo>
                      <a:lnTo>
                        <a:pt x="24" y="6"/>
                      </a:lnTo>
                      <a:lnTo>
                        <a:pt x="32" y="6"/>
                      </a:lnTo>
                      <a:lnTo>
                        <a:pt x="27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316400" y="620712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272120" y="61927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241880" y="619272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218120" y="619272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92640" y="61927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316400" y="61927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227480" y="611172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238640" y="6118200"/>
                  <a:ext cx="73440" cy="59040"/>
                </a:xfrm>
                <a:custGeom>
                  <a:avLst/>
                  <a:gdLst/>
                  <a:ahLst/>
                  <a:rect l="0" t="0" r="r" b="b"/>
                  <a:pathLst>
                    <a:path w="204" h="164">
                      <a:moveTo>
                        <a:pt x="0" y="164"/>
                      </a:moveTo>
                      <a:lnTo>
                        <a:pt x="0" y="0"/>
                      </a:lnTo>
                      <a:lnTo>
                        <a:pt x="204" y="0"/>
                      </a:lnTo>
                      <a:lnTo>
                        <a:pt x="204" y="164"/>
                      </a:lnTo>
                      <a:lnTo>
                        <a:pt x="0" y="16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235400" y="611820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0"/>
                      </a:moveTo>
                      <a:lnTo>
                        <a:pt x="13" y="10"/>
                      </a:lnTo>
                      <a:lnTo>
                        <a:pt x="184" y="10"/>
                      </a:lnTo>
                      <a:lnTo>
                        <a:pt x="207" y="10"/>
                      </a:lnTo>
                      <a:lnTo>
                        <a:pt x="22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235400" y="6118200"/>
                  <a:ext cx="3600" cy="62280"/>
                </a:xfrm>
                <a:custGeom>
                  <a:avLst/>
                  <a:gdLst/>
                  <a:ahLst/>
                  <a:rect l="0" t="0" r="r" b="b"/>
                  <a:pathLst>
                    <a:path w="10" h="173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62"/>
                      </a:lnTo>
                      <a:lnTo>
                        <a:pt x="0" y="17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235400" y="6176880"/>
                  <a:ext cx="79560" cy="3600"/>
                </a:xfrm>
                <a:custGeom>
                  <a:avLst/>
                  <a:gdLst/>
                  <a:ahLst/>
                  <a:rect l="0" t="0" r="r" b="b"/>
                  <a:pathLst>
                    <a:path w="221" h="10">
                      <a:moveTo>
                        <a:pt x="0" y="10"/>
                      </a:moveTo>
                      <a:lnTo>
                        <a:pt x="13" y="0"/>
                      </a:lnTo>
                      <a:lnTo>
                        <a:pt x="184" y="0"/>
                      </a:lnTo>
                      <a:lnTo>
                        <a:pt x="208" y="0"/>
                      </a:lnTo>
                      <a:lnTo>
                        <a:pt x="221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309920" y="6118200"/>
                  <a:ext cx="5040" cy="62280"/>
                </a:xfrm>
                <a:custGeom>
                  <a:avLst/>
                  <a:gdLst/>
                  <a:ahLst/>
                  <a:rect l="0" t="0" r="r" b="b"/>
                  <a:pathLst>
                    <a:path w="14" h="173">
                      <a:moveTo>
                        <a:pt x="14" y="0"/>
                      </a:moveTo>
                      <a:lnTo>
                        <a:pt x="0" y="10"/>
                      </a:lnTo>
                      <a:lnTo>
                        <a:pt x="0" y="162"/>
                      </a:lnTo>
                      <a:lnTo>
                        <a:pt x="14" y="17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240080" y="612288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"/>
              <p:cNvSpPr/>
              <p:nvPr/>
            </p:nvSpPr>
            <p:spPr>
              <a:xfrm>
                <a:off x="3970440" y="6300720"/>
                <a:ext cx="59688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84480" y="5008680"/>
              <a:ext cx="593640" cy="408240"/>
              <a:chOff x="2184480" y="5008680"/>
              <a:chExt cx="593640" cy="408240"/>
            </a:xfrm>
          </p:grpSpPr>
          <p:sp>
            <p:nvSpPr>
              <p:cNvPr id="1168" name=""/>
              <p:cNvSpPr/>
              <p:nvPr/>
            </p:nvSpPr>
            <p:spPr>
              <a:xfrm flipV="1">
                <a:off x="23083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V="1">
                <a:off x="2655720" y="5216400"/>
                <a:ext cx="0" cy="968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V="1">
                <a:off x="2479680" y="5118120"/>
                <a:ext cx="0" cy="19512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2239920" y="5308560"/>
                <a:ext cx="136800" cy="108360"/>
                <a:chOff x="2239920" y="5308560"/>
                <a:chExt cx="136800" cy="10836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2266920" y="5373720"/>
                  <a:ext cx="84600" cy="18000"/>
                </a:xfrm>
                <a:custGeom>
                  <a:avLst/>
                  <a:gdLst/>
                  <a:ahLst/>
                  <a:rect l="0" t="0" r="r" b="b"/>
                  <a:pathLst>
                    <a:path w="235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259000" y="5391000"/>
                  <a:ext cx="98280" cy="0"/>
                </a:xfrm>
                <a:custGeom>
                  <a:avLst/>
                  <a:gdLst/>
                  <a:ahLst/>
                  <a:rect l="0" t="0" r="r" b="b"/>
                  <a:pathLst>
                    <a:path w="27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73" y="0"/>
                      </a:lnTo>
                      <a:lnTo>
                        <a:pt x="27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259000" y="5373720"/>
                  <a:ext cx="98640" cy="16200"/>
                </a:xfrm>
                <a:custGeom>
                  <a:avLst/>
                  <a:gdLst/>
                  <a:ahLst/>
                  <a:rect l="0" t="0" r="r" b="b"/>
                  <a:pathLst>
                    <a:path w="274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74" y="0"/>
                      </a:lnTo>
                      <a:lnTo>
                        <a:pt x="274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328840" y="5384880"/>
                  <a:ext cx="22680" cy="1800"/>
                </a:xfrm>
                <a:custGeom>
                  <a:avLst/>
                  <a:gdLst/>
                  <a:ahLst/>
                  <a:rect l="0" t="0" r="r" b="b"/>
                  <a:pathLst>
                    <a:path w="6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3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2239920" y="5394240"/>
                  <a:ext cx="136800" cy="18000"/>
                </a:xfrm>
                <a:custGeom>
                  <a:avLst/>
                  <a:gdLst/>
                  <a:ahLst/>
                  <a:rect l="0" t="0" r="r" b="b"/>
                  <a:pathLst>
                    <a:path w="380" h="50">
                      <a:moveTo>
                        <a:pt x="23" y="0"/>
                      </a:moveTo>
                      <a:lnTo>
                        <a:pt x="350" y="0"/>
                      </a:lnTo>
                      <a:lnTo>
                        <a:pt x="380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2239920" y="5415120"/>
                  <a:ext cx="136800" cy="1800"/>
                </a:xfrm>
                <a:custGeom>
                  <a:avLst/>
                  <a:gdLst/>
                  <a:ahLst/>
                  <a:rect l="0" t="0" r="r" b="b"/>
                  <a:pathLst>
                    <a:path w="380" h="5">
                      <a:moveTo>
                        <a:pt x="0" y="0"/>
                      </a:moveTo>
                      <a:lnTo>
                        <a:pt x="380" y="0"/>
                      </a:lnTo>
                      <a:lnTo>
                        <a:pt x="380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2575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249640" y="5405400"/>
                  <a:ext cx="3600" cy="1800"/>
                </a:xfrm>
                <a:custGeom>
                  <a:avLst/>
                  <a:gdLst/>
                  <a:ahLst/>
                  <a:rect l="0" t="0" r="r" b="b"/>
                  <a:pathLst>
                    <a:path w="10" h="5">
                      <a:moveTo>
                        <a:pt x="1" y="5"/>
                      </a:moveTo>
                      <a:lnTo>
                        <a:pt x="9" y="5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2496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2557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226224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2265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2701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22734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2766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227664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9" y="8"/>
                      </a:lnTo>
                      <a:lnTo>
                        <a:pt x="19" y="10"/>
                      </a:lnTo>
                      <a:lnTo>
                        <a:pt x="17" y="10"/>
                      </a:lnTo>
                      <a:lnTo>
                        <a:pt x="15" y="11"/>
                      </a:lnTo>
                      <a:lnTo>
                        <a:pt x="25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7" y="10"/>
                      </a:lnTo>
                      <a:lnTo>
                        <a:pt x="6" y="6"/>
                      </a:lnTo>
                      <a:lnTo>
                        <a:pt x="6" y="5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228456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2287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22924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95360" y="540216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7" y="3"/>
                      </a:lnTo>
                      <a:lnTo>
                        <a:pt x="17" y="3"/>
                      </a:lnTo>
                      <a:lnTo>
                        <a:pt x="18" y="6"/>
                      </a:lnTo>
                      <a:lnTo>
                        <a:pt x="13" y="6"/>
                      </a:lnTo>
                      <a:lnTo>
                        <a:pt x="12" y="8"/>
                      </a:lnTo>
                      <a:lnTo>
                        <a:pt x="22" y="8"/>
                      </a:lnTo>
                      <a:lnTo>
                        <a:pt x="23" y="10"/>
                      </a:lnTo>
                      <a:lnTo>
                        <a:pt x="20" y="10"/>
                      </a:lnTo>
                      <a:lnTo>
                        <a:pt x="18" y="10"/>
                      </a:lnTo>
                      <a:lnTo>
                        <a:pt x="20" y="11"/>
                      </a:lnTo>
                      <a:lnTo>
                        <a:pt x="30" y="11"/>
                      </a:lnTo>
                      <a:lnTo>
                        <a:pt x="32" y="14"/>
                      </a:lnTo>
                      <a:lnTo>
                        <a:pt x="19" y="14"/>
                      </a:lnTo>
                      <a:lnTo>
                        <a:pt x="15" y="12"/>
                      </a:lnTo>
                      <a:lnTo>
                        <a:pt x="14" y="10"/>
                      </a:lnTo>
                      <a:lnTo>
                        <a:pt x="10" y="10"/>
                      </a:lnTo>
                      <a:lnTo>
                        <a:pt x="5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23036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306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3115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30652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233028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330280" y="5405400"/>
                  <a:ext cx="12960" cy="6840"/>
                </a:xfrm>
                <a:custGeom>
                  <a:avLst/>
                  <a:gdLst/>
                  <a:ahLst/>
                  <a:rect l="0" t="0" r="r" b="b"/>
                  <a:pathLst>
                    <a:path w="36" h="19">
                      <a:moveTo>
                        <a:pt x="12" y="0"/>
                      </a:moveTo>
                      <a:lnTo>
                        <a:pt x="20" y="0"/>
                      </a:lnTo>
                      <a:lnTo>
                        <a:pt x="21" y="4"/>
                      </a:lnTo>
                      <a:lnTo>
                        <a:pt x="14" y="4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5" y="13"/>
                      </a:lnTo>
                      <a:lnTo>
                        <a:pt x="26" y="11"/>
                      </a:lnTo>
                      <a:lnTo>
                        <a:pt x="34" y="11"/>
                      </a:lnTo>
                      <a:lnTo>
                        <a:pt x="36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0" y="11"/>
                      </a:lnTo>
                      <a:lnTo>
                        <a:pt x="11" y="16"/>
                      </a:lnTo>
                      <a:lnTo>
                        <a:pt x="12" y="11"/>
                      </a:lnTo>
                      <a:lnTo>
                        <a:pt x="10" y="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349360" y="540216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1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351160" y="540216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26" y="0"/>
                      </a:lnTo>
                      <a:lnTo>
                        <a:pt x="23" y="0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3511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351160" y="5407200"/>
                  <a:ext cx="11520" cy="5040"/>
                </a:xfrm>
                <a:custGeom>
                  <a:avLst/>
                  <a:gdLst/>
                  <a:ahLst/>
                  <a:rect l="0" t="0" r="r" b="b"/>
                  <a:pathLst>
                    <a:path w="32" h="14">
                      <a:moveTo>
                        <a:pt x="2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2"/>
                      </a:lnTo>
                      <a:lnTo>
                        <a:pt x="28" y="0"/>
                      </a:lnTo>
                      <a:lnTo>
                        <a:pt x="32" y="0"/>
                      </a:lnTo>
                      <a:lnTo>
                        <a:pt x="32" y="2"/>
                      </a:lnTo>
                      <a:lnTo>
                        <a:pt x="25" y="6"/>
                      </a:lnTo>
                      <a:lnTo>
                        <a:pt x="28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3" y="6"/>
                      </a:lnTo>
                      <a:lnTo>
                        <a:pt x="16" y="9"/>
                      </a:lnTo>
                      <a:lnTo>
                        <a:pt x="18" y="6"/>
                      </a:lnTo>
                      <a:lnTo>
                        <a:pt x="25" y="6"/>
                      </a:lnTo>
                      <a:lnTo>
                        <a:pt x="2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351160" y="5408640"/>
                  <a:ext cx="18000" cy="3600"/>
                </a:xfrm>
                <a:custGeom>
                  <a:avLst/>
                  <a:gdLst/>
                  <a:ahLst/>
                  <a:rect l="0" t="0" r="r" b="b"/>
                  <a:pathLst>
                    <a:path w="50" h="10">
                      <a:moveTo>
                        <a:pt x="1" y="5"/>
                      </a:moveTo>
                      <a:lnTo>
                        <a:pt x="23" y="5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34" y="0"/>
                      </a:lnTo>
                      <a:lnTo>
                        <a:pt x="34" y="3"/>
                      </a:lnTo>
                      <a:lnTo>
                        <a:pt x="28" y="3"/>
                      </a:lnTo>
                      <a:lnTo>
                        <a:pt x="26" y="5"/>
                      </a:lnTo>
                      <a:lnTo>
                        <a:pt x="28" y="9"/>
                      </a:lnTo>
                      <a:lnTo>
                        <a:pt x="31" y="5"/>
                      </a:lnTo>
                      <a:lnTo>
                        <a:pt x="36" y="5"/>
                      </a:lnTo>
                      <a:lnTo>
                        <a:pt x="40" y="9"/>
                      </a:lnTo>
                      <a:lnTo>
                        <a:pt x="42" y="5"/>
                      </a:lnTo>
                      <a:lnTo>
                        <a:pt x="47" y="5"/>
                      </a:lnTo>
                      <a:lnTo>
                        <a:pt x="50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30652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8276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2590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32884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35116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266920" y="5308560"/>
                  <a:ext cx="84600" cy="60840"/>
                </a:xfrm>
                <a:custGeom>
                  <a:avLst/>
                  <a:gdLst/>
                  <a:ahLst/>
                  <a:rect l="0" t="0" r="r" b="b"/>
                  <a:pathLst>
                    <a:path w="235" h="169">
                      <a:moveTo>
                        <a:pt x="0" y="0"/>
                      </a:moveTo>
                      <a:lnTo>
                        <a:pt x="235" y="0"/>
                      </a:lnTo>
                      <a:lnTo>
                        <a:pt x="235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7160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71600" y="5315040"/>
                  <a:ext cx="72720" cy="0"/>
                </a:xfrm>
                <a:custGeom>
                  <a:avLst/>
                  <a:gdLst/>
                  <a:ahLst/>
                  <a:rect l="0" t="0" r="r" b="b"/>
                  <a:pathLst>
                    <a:path w="202" h="0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68" y="0"/>
                      </a:lnTo>
                      <a:lnTo>
                        <a:pt x="190" y="0"/>
                      </a:lnTo>
                      <a:lnTo>
                        <a:pt x="20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27160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5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271600" y="5359320"/>
                  <a:ext cx="73440" cy="3600"/>
                </a:xfrm>
                <a:custGeom>
                  <a:avLst/>
                  <a:gdLst/>
                  <a:ahLst/>
                  <a:rect l="0" t="0" r="r" b="b"/>
                  <a:pathLst>
                    <a:path w="204" h="10">
                      <a:moveTo>
                        <a:pt x="0" y="10"/>
                      </a:moveTo>
                      <a:lnTo>
                        <a:pt x="11" y="0"/>
                      </a:lnTo>
                      <a:lnTo>
                        <a:pt x="170" y="0"/>
                      </a:lnTo>
                      <a:lnTo>
                        <a:pt x="192" y="0"/>
                      </a:lnTo>
                      <a:lnTo>
                        <a:pt x="204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34144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10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10" y="13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2416320" y="5308560"/>
                <a:ext cx="133560" cy="108360"/>
                <a:chOff x="2416320" y="5308560"/>
                <a:chExt cx="133560" cy="10836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2440080" y="5373720"/>
                  <a:ext cx="86040" cy="18000"/>
                </a:xfrm>
                <a:custGeom>
                  <a:avLst/>
                  <a:gdLst/>
                  <a:ahLst/>
                  <a:rect l="0" t="0" r="r" b="b"/>
                  <a:pathLst>
                    <a:path w="239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9" y="0"/>
                      </a:lnTo>
                      <a:lnTo>
                        <a:pt x="239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3360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433600" y="5373720"/>
                  <a:ext cx="95760" cy="16200"/>
                </a:xfrm>
                <a:custGeom>
                  <a:avLst/>
                  <a:gdLst/>
                  <a:ahLst/>
                  <a:rect l="0" t="0" r="r" b="b"/>
                  <a:pathLst>
                    <a:path w="266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6" y="0"/>
                      </a:lnTo>
                      <a:lnTo>
                        <a:pt x="266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002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416320" y="5394240"/>
                  <a:ext cx="133560" cy="18000"/>
                </a:xfrm>
                <a:custGeom>
                  <a:avLst/>
                  <a:gdLst/>
                  <a:ahLst/>
                  <a:rect l="0" t="0" r="r" b="b"/>
                  <a:pathLst>
                    <a:path w="371" h="50">
                      <a:moveTo>
                        <a:pt x="23" y="0"/>
                      </a:moveTo>
                      <a:lnTo>
                        <a:pt x="342" y="0"/>
                      </a:lnTo>
                      <a:lnTo>
                        <a:pt x="371" y="50"/>
                      </a:lnTo>
                      <a:lnTo>
                        <a:pt x="0" y="5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416320" y="5415120"/>
                  <a:ext cx="133560" cy="1800"/>
                </a:xfrm>
                <a:custGeom>
                  <a:avLst/>
                  <a:gdLst/>
                  <a:ahLst/>
                  <a:rect l="0" t="0" r="r" b="b"/>
                  <a:pathLst>
                    <a:path w="371" h="5">
                      <a:moveTo>
                        <a:pt x="0" y="0"/>
                      </a:moveTo>
                      <a:lnTo>
                        <a:pt x="371" y="0"/>
                      </a:lnTo>
                      <a:lnTo>
                        <a:pt x="37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430360" y="540072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4242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2422440" y="540864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2" y="0"/>
                      </a:moveTo>
                      <a:lnTo>
                        <a:pt x="21" y="0"/>
                      </a:lnTo>
                      <a:lnTo>
                        <a:pt x="22" y="3"/>
                      </a:lnTo>
                      <a:lnTo>
                        <a:pt x="16" y="3"/>
                      </a:lnTo>
                      <a:lnTo>
                        <a:pt x="15" y="5"/>
                      </a:lnTo>
                      <a:lnTo>
                        <a:pt x="35" y="5"/>
                      </a:lnTo>
                      <a:lnTo>
                        <a:pt x="36" y="10"/>
                      </a:lnTo>
                      <a:lnTo>
                        <a:pt x="12" y="10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4271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0" y="1"/>
                      </a:lnTo>
                      <a:lnTo>
                        <a:pt x="20" y="3"/>
                      </a:lnTo>
                      <a:lnTo>
                        <a:pt x="26" y="3"/>
                      </a:lnTo>
                      <a:lnTo>
                        <a:pt x="27" y="6"/>
                      </a:lnTo>
                      <a:lnTo>
                        <a:pt x="21" y="6"/>
                      </a:lnTo>
                      <a:lnTo>
                        <a:pt x="20" y="8"/>
                      </a:lnTo>
                      <a:lnTo>
                        <a:pt x="17" y="6"/>
                      </a:lnTo>
                      <a:lnTo>
                        <a:pt x="3" y="6"/>
                      </a:lnTo>
                      <a:lnTo>
                        <a:pt x="2" y="8"/>
                      </a:lnTo>
                      <a:lnTo>
                        <a:pt x="15" y="8"/>
                      </a:lnTo>
                      <a:lnTo>
                        <a:pt x="16" y="10"/>
                      </a:lnTo>
                      <a:lnTo>
                        <a:pt x="12" y="10"/>
                      </a:lnTo>
                      <a:lnTo>
                        <a:pt x="12" y="11"/>
                      </a:lnTo>
                      <a:lnTo>
                        <a:pt x="20" y="11"/>
                      </a:lnTo>
                      <a:lnTo>
                        <a:pt x="20" y="14"/>
                      </a:lnTo>
                      <a:lnTo>
                        <a:pt x="9" y="14"/>
                      </a:lnTo>
                      <a:lnTo>
                        <a:pt x="11" y="11"/>
                      </a:lnTo>
                      <a:lnTo>
                        <a:pt x="8" y="10"/>
                      </a:lnTo>
                      <a:lnTo>
                        <a:pt x="1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2435400" y="5405400"/>
                  <a:ext cx="44640" cy="6840"/>
                </a:xfrm>
                <a:custGeom>
                  <a:avLst/>
                  <a:gdLst/>
                  <a:ahLst/>
                  <a:rect l="0" t="0" r="r" b="b"/>
                  <a:pathLst>
                    <a:path w="124" h="19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2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1" y="13"/>
                      </a:lnTo>
                      <a:lnTo>
                        <a:pt x="124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438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9" y="8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6" y="12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4433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44944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449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3" y="8"/>
                      </a:lnTo>
                      <a:lnTo>
                        <a:pt x="9" y="8"/>
                      </a:lnTo>
                      <a:lnTo>
                        <a:pt x="8" y="9"/>
                      </a:lnTo>
                      <a:lnTo>
                        <a:pt x="9" y="10"/>
                      </a:lnTo>
                      <a:lnTo>
                        <a:pt x="19" y="10"/>
                      </a:lnTo>
                      <a:lnTo>
                        <a:pt x="19" y="14"/>
                      </a:lnTo>
                      <a:lnTo>
                        <a:pt x="8" y="14"/>
                      </a:lnTo>
                      <a:lnTo>
                        <a:pt x="8" y="12"/>
                      </a:lnTo>
                      <a:lnTo>
                        <a:pt x="4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4526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455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8" y="6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2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46060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3" y="10"/>
                      </a:lnTo>
                      <a:lnTo>
                        <a:pt x="12" y="11"/>
                      </a:lnTo>
                      <a:lnTo>
                        <a:pt x="13" y="11"/>
                      </a:lnTo>
                      <a:lnTo>
                        <a:pt x="23" y="11"/>
                      </a:lnTo>
                      <a:lnTo>
                        <a:pt x="23" y="14"/>
                      </a:lnTo>
                      <a:lnTo>
                        <a:pt x="12" y="14"/>
                      </a:lnTo>
                      <a:lnTo>
                        <a:pt x="12" y="11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46852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9" y="3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9" y="14"/>
                      </a:lnTo>
                      <a:lnTo>
                        <a:pt x="6" y="11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703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24764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247968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4"/>
                      </a:lnTo>
                      <a:lnTo>
                        <a:pt x="14" y="4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22" y="8"/>
                      </a:lnTo>
                      <a:lnTo>
                        <a:pt x="23" y="11"/>
                      </a:lnTo>
                      <a:lnTo>
                        <a:pt x="19" y="11"/>
                      </a:lnTo>
                      <a:lnTo>
                        <a:pt x="18" y="14"/>
                      </a:lnTo>
                      <a:lnTo>
                        <a:pt x="14" y="11"/>
                      </a:lnTo>
                      <a:lnTo>
                        <a:pt x="9" y="11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2486160" y="5402160"/>
                  <a:ext cx="5040" cy="3600"/>
                </a:xfrm>
                <a:custGeom>
                  <a:avLst/>
                  <a:gdLst/>
                  <a:ahLst/>
                  <a:rect l="0" t="0" r="r" b="b"/>
                  <a:pathLst>
                    <a:path w="14" h="10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6" y="10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24796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50524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2506680" y="5405400"/>
                  <a:ext cx="9720" cy="6840"/>
                </a:xfrm>
                <a:custGeom>
                  <a:avLst/>
                  <a:gdLst/>
                  <a:ahLst/>
                  <a:rect l="0" t="0" r="r" b="b"/>
                  <a:pathLst>
                    <a:path w="27" h="19">
                      <a:moveTo>
                        <a:pt x="9" y="0"/>
                      </a:moveTo>
                      <a:lnTo>
                        <a:pt x="15" y="0"/>
                      </a:lnTo>
                      <a:lnTo>
                        <a:pt x="16" y="4"/>
                      </a:lnTo>
                      <a:lnTo>
                        <a:pt x="10" y="4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9" y="13"/>
                      </a:lnTo>
                      <a:lnTo>
                        <a:pt x="20" y="11"/>
                      </a:lnTo>
                      <a:lnTo>
                        <a:pt x="25" y="11"/>
                      </a:lnTo>
                      <a:lnTo>
                        <a:pt x="27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7" y="11"/>
                      </a:lnTo>
                      <a:lnTo>
                        <a:pt x="8" y="16"/>
                      </a:lnTo>
                      <a:lnTo>
                        <a:pt x="9" y="11"/>
                      </a:lnTo>
                      <a:lnTo>
                        <a:pt x="7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252252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25257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252396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2525760" y="540720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2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12" y="0"/>
                      </a:lnTo>
                      <a:lnTo>
                        <a:pt x="18" y="0"/>
                      </a:lnTo>
                      <a:lnTo>
                        <a:pt x="21" y="2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7" y="2"/>
                      </a:lnTo>
                      <a:lnTo>
                        <a:pt x="21" y="6"/>
                      </a:lnTo>
                      <a:lnTo>
                        <a:pt x="23" y="11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2" y="6"/>
                      </a:lnTo>
                      <a:lnTo>
                        <a:pt x="10" y="6"/>
                      </a:lnTo>
                      <a:lnTo>
                        <a:pt x="12" y="9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18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525760" y="5408640"/>
                  <a:ext cx="19440" cy="3600"/>
                </a:xfrm>
                <a:custGeom>
                  <a:avLst/>
                  <a:gdLst/>
                  <a:ahLst/>
                  <a:rect l="0" t="0" r="r" b="b"/>
                  <a:pathLst>
                    <a:path w="54" h="10">
                      <a:moveTo>
                        <a:pt x="1" y="5"/>
                      </a:moveTo>
                      <a:lnTo>
                        <a:pt x="25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37" y="0"/>
                      </a:lnTo>
                      <a:lnTo>
                        <a:pt x="37" y="3"/>
                      </a:lnTo>
                      <a:lnTo>
                        <a:pt x="30" y="3"/>
                      </a:lnTo>
                      <a:lnTo>
                        <a:pt x="28" y="5"/>
                      </a:lnTo>
                      <a:lnTo>
                        <a:pt x="30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4" y="9"/>
                      </a:lnTo>
                      <a:lnTo>
                        <a:pt x="46" y="5"/>
                      </a:lnTo>
                      <a:lnTo>
                        <a:pt x="51" y="5"/>
                      </a:lnTo>
                      <a:lnTo>
                        <a:pt x="54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4796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455920" y="5397480"/>
                  <a:ext cx="20520" cy="0"/>
                </a:xfrm>
                <a:custGeom>
                  <a:avLst/>
                  <a:gdLst/>
                  <a:ahLst/>
                  <a:rect l="0" t="0" r="r" b="b"/>
                  <a:pathLst>
                    <a:path w="57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4336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1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2500200" y="539748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525760" y="5397480"/>
                  <a:ext cx="12600" cy="0"/>
                </a:xfrm>
                <a:custGeom>
                  <a:avLst/>
                  <a:gdLst/>
                  <a:ahLst/>
                  <a:rect l="0" t="0" r="r" b="b"/>
                  <a:pathLst>
                    <a:path w="35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2440080" y="5308560"/>
                  <a:ext cx="86040" cy="60840"/>
                </a:xfrm>
                <a:custGeom>
                  <a:avLst/>
                  <a:gdLst/>
                  <a:ahLst/>
                  <a:rect l="0" t="0" r="r" b="b"/>
                  <a:pathLst>
                    <a:path w="239" h="169">
                      <a:moveTo>
                        <a:pt x="0" y="0"/>
                      </a:moveTo>
                      <a:lnTo>
                        <a:pt x="239" y="0"/>
                      </a:lnTo>
                      <a:lnTo>
                        <a:pt x="239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444760" y="5315040"/>
                  <a:ext cx="71640" cy="44640"/>
                </a:xfrm>
                <a:custGeom>
                  <a:avLst/>
                  <a:gdLst/>
                  <a:ahLst/>
                  <a:rect l="0" t="0" r="r" b="b"/>
                  <a:pathLst>
                    <a:path w="199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199" y="0"/>
                      </a:lnTo>
                      <a:lnTo>
                        <a:pt x="199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4433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2443320" y="5315040"/>
                  <a:ext cx="6840" cy="47880"/>
                </a:xfrm>
                <a:custGeom>
                  <a:avLst/>
                  <a:gdLst/>
                  <a:ahLst/>
                  <a:rect l="0" t="0" r="r" b="b"/>
                  <a:pathLst>
                    <a:path w="19" h="133">
                      <a:moveTo>
                        <a:pt x="0" y="0"/>
                      </a:moveTo>
                      <a:lnTo>
                        <a:pt x="19" y="8"/>
                      </a:lnTo>
                      <a:lnTo>
                        <a:pt x="19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24433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25160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2587680" y="5308560"/>
                <a:ext cx="138600" cy="108360"/>
                <a:chOff x="2587680" y="5308560"/>
                <a:chExt cx="138600" cy="10836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2614680" y="5373720"/>
                  <a:ext cx="82800" cy="18000"/>
                </a:xfrm>
                <a:custGeom>
                  <a:avLst/>
                  <a:gdLst/>
                  <a:ahLst/>
                  <a:rect l="0" t="0" r="r" b="b"/>
                  <a:pathLst>
                    <a:path w="230" h="50">
                      <a:moveTo>
                        <a:pt x="0" y="50"/>
                      </a:moveTo>
                      <a:lnTo>
                        <a:pt x="0" y="0"/>
                      </a:lnTo>
                      <a:lnTo>
                        <a:pt x="230" y="0"/>
                      </a:lnTo>
                      <a:lnTo>
                        <a:pt x="230" y="5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606760" y="5391000"/>
                  <a:ext cx="95040" cy="0"/>
                </a:xfrm>
                <a:custGeom>
                  <a:avLst/>
                  <a:gdLst/>
                  <a:ahLst/>
                  <a:rect l="0" t="0" r="r" b="b"/>
                  <a:pathLst>
                    <a:path w="264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64" y="0"/>
                      </a:lnTo>
                      <a:lnTo>
                        <a:pt x="26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2608200" y="5373720"/>
                  <a:ext cx="93960" cy="16200"/>
                </a:xfrm>
                <a:custGeom>
                  <a:avLst/>
                  <a:gdLst/>
                  <a:ahLst/>
                  <a:rect l="0" t="0" r="r" b="b"/>
                  <a:pathLst>
                    <a:path w="261" h="45">
                      <a:moveTo>
                        <a:pt x="0" y="45"/>
                      </a:moveTo>
                      <a:lnTo>
                        <a:pt x="0" y="0"/>
                      </a:lnTo>
                      <a:lnTo>
                        <a:pt x="261" y="0"/>
                      </a:lnTo>
                      <a:lnTo>
                        <a:pt x="261" y="45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2674800" y="5384880"/>
                  <a:ext cx="25920" cy="1800"/>
                </a:xfrm>
                <a:custGeom>
                  <a:avLst/>
                  <a:gdLst/>
                  <a:ahLst/>
                  <a:rect l="0" t="0" r="r" b="b"/>
                  <a:pathLst>
                    <a:path w="7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2587680" y="5394240"/>
                  <a:ext cx="138600" cy="18000"/>
                </a:xfrm>
                <a:custGeom>
                  <a:avLst/>
                  <a:gdLst/>
                  <a:ahLst/>
                  <a:rect l="0" t="0" r="r" b="b"/>
                  <a:pathLst>
                    <a:path w="385" h="50">
                      <a:moveTo>
                        <a:pt x="24" y="0"/>
                      </a:moveTo>
                      <a:lnTo>
                        <a:pt x="355" y="0"/>
                      </a:lnTo>
                      <a:lnTo>
                        <a:pt x="385" y="50"/>
                      </a:lnTo>
                      <a:lnTo>
                        <a:pt x="0" y="5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587680" y="5415120"/>
                  <a:ext cx="138600" cy="1800"/>
                </a:xfrm>
                <a:custGeom>
                  <a:avLst/>
                  <a:gdLst/>
                  <a:ahLst/>
                  <a:rect l="0" t="0" r="r" b="b"/>
                  <a:pathLst>
                    <a:path w="385" h="5">
                      <a:moveTo>
                        <a:pt x="0" y="0"/>
                      </a:moveTo>
                      <a:lnTo>
                        <a:pt x="385" y="0"/>
                      </a:lnTo>
                      <a:lnTo>
                        <a:pt x="38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2604960" y="5400720"/>
                  <a:ext cx="0" cy="1440"/>
                </a:xfrm>
                <a:custGeom>
                  <a:avLst/>
                  <a:gdLst/>
                  <a:ahLst/>
                  <a:rect l="0" t="0" r="r" b="b"/>
                  <a:pathLst>
                    <a:path w="0" h="4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2598840" y="5405400"/>
                  <a:ext cx="1800" cy="1800"/>
                </a:xfrm>
                <a:custGeom>
                  <a:avLst/>
                  <a:gdLst/>
                  <a:ahLst/>
                  <a:rect l="0" t="0" r="r" b="b"/>
                  <a:pathLst>
                    <a:path w="5" h="5">
                      <a:moveTo>
                        <a:pt x="0" y="5"/>
                      </a:moveTo>
                      <a:lnTo>
                        <a:pt x="4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597040" y="5408640"/>
                  <a:ext cx="11520" cy="3600"/>
                </a:xfrm>
                <a:custGeom>
                  <a:avLst/>
                  <a:gdLst/>
                  <a:ahLst/>
                  <a:rect l="0" t="0" r="r" b="b"/>
                  <a:pathLst>
                    <a:path w="32" h="10">
                      <a:moveTo>
                        <a:pt x="1" y="0"/>
                      </a:moveTo>
                      <a:lnTo>
                        <a:pt x="18" y="0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4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12" y="10"/>
                      </a:lnTo>
                      <a:lnTo>
                        <a:pt x="13" y="4"/>
                      </a:lnTo>
                      <a:lnTo>
                        <a:pt x="0" y="4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26035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9" y="3"/>
                      </a:lnTo>
                      <a:lnTo>
                        <a:pt x="19" y="6"/>
                      </a:lnTo>
                      <a:lnTo>
                        <a:pt x="15" y="6"/>
                      </a:lnTo>
                      <a:lnTo>
                        <a:pt x="13" y="8"/>
                      </a:lnTo>
                      <a:lnTo>
                        <a:pt x="12" y="6"/>
                      </a:lnTo>
                      <a:lnTo>
                        <a:pt x="2" y="6"/>
                      </a:lnTo>
                      <a:lnTo>
                        <a:pt x="1" y="8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9" y="10"/>
                      </a:lnTo>
                      <a:lnTo>
                        <a:pt x="9" y="11"/>
                      </a:lnTo>
                      <a:lnTo>
                        <a:pt x="13" y="11"/>
                      </a:lnTo>
                      <a:lnTo>
                        <a:pt x="15" y="14"/>
                      </a:lnTo>
                      <a:lnTo>
                        <a:pt x="7" y="14"/>
                      </a:lnTo>
                      <a:lnTo>
                        <a:pt x="8" y="11"/>
                      </a:lnTo>
                      <a:lnTo>
                        <a:pt x="6" y="10"/>
                      </a:lnTo>
                      <a:lnTo>
                        <a:pt x="0" y="10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9" y="1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2608200" y="540540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61144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8" y="6"/>
                      </a:lnTo>
                      <a:lnTo>
                        <a:pt x="6" y="8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3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61792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2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0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2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620800" y="540216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624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6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8" y="5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6272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6"/>
                      </a:lnTo>
                      <a:lnTo>
                        <a:pt x="7" y="6"/>
                      </a:lnTo>
                      <a:lnTo>
                        <a:pt x="7" y="8"/>
                      </a:lnTo>
                      <a:lnTo>
                        <a:pt x="13" y="8"/>
                      </a:lnTo>
                      <a:lnTo>
                        <a:pt x="13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9" y="12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628720" y="5402160"/>
                  <a:ext cx="9720" cy="5040"/>
                </a:xfrm>
                <a:custGeom>
                  <a:avLst/>
                  <a:gdLst/>
                  <a:ahLst/>
                  <a:rect l="0" t="0" r="r" b="b"/>
                  <a:pathLst>
                    <a:path w="27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16" y="3"/>
                      </a:lnTo>
                      <a:lnTo>
                        <a:pt x="17" y="6"/>
                      </a:lnTo>
                      <a:lnTo>
                        <a:pt x="10" y="6"/>
                      </a:lnTo>
                      <a:lnTo>
                        <a:pt x="9" y="8"/>
                      </a:lnTo>
                      <a:lnTo>
                        <a:pt x="10" y="8"/>
                      </a:lnTo>
                      <a:lnTo>
                        <a:pt x="20" y="8"/>
                      </a:lnTo>
                      <a:lnTo>
                        <a:pt x="21" y="10"/>
                      </a:lnTo>
                      <a:lnTo>
                        <a:pt x="17" y="10"/>
                      </a:lnTo>
                      <a:lnTo>
                        <a:pt x="16" y="11"/>
                      </a:lnTo>
                      <a:lnTo>
                        <a:pt x="16" y="11"/>
                      </a:lnTo>
                      <a:lnTo>
                        <a:pt x="26" y="11"/>
                      </a:lnTo>
                      <a:lnTo>
                        <a:pt x="27" y="14"/>
                      </a:lnTo>
                      <a:lnTo>
                        <a:pt x="15" y="14"/>
                      </a:lnTo>
                      <a:lnTo>
                        <a:pt x="14" y="12"/>
                      </a:lnTo>
                      <a:lnTo>
                        <a:pt x="11" y="10"/>
                      </a:lnTo>
                      <a:lnTo>
                        <a:pt x="8" y="10"/>
                      </a:lnTo>
                      <a:lnTo>
                        <a:pt x="6" y="6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63700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4" y="1"/>
                      </a:lnTo>
                      <a:lnTo>
                        <a:pt x="4" y="3"/>
                      </a:lnTo>
                      <a:lnTo>
                        <a:pt x="10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0" y="11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0" y="14"/>
                      </a:lnTo>
                      <a:lnTo>
                        <a:pt x="10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3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639880" y="5402160"/>
                  <a:ext cx="6840" cy="5040"/>
                </a:xfrm>
                <a:custGeom>
                  <a:avLst/>
                  <a:gdLst/>
                  <a:ahLst/>
                  <a:rect l="0" t="0" r="r" b="b"/>
                  <a:pathLst>
                    <a:path w="19" h="1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11" y="3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1" y="11"/>
                      </a:lnTo>
                      <a:lnTo>
                        <a:pt x="19" y="11"/>
                      </a:lnTo>
                      <a:lnTo>
                        <a:pt x="19" y="14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4" y="10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644920" y="5402160"/>
                  <a:ext cx="8280" cy="5040"/>
                </a:xfrm>
                <a:custGeom>
                  <a:avLst/>
                  <a:gdLst/>
                  <a:ahLst/>
                  <a:rect l="0" t="0" r="r" b="b"/>
                  <a:pathLst>
                    <a:path w="23" h="14">
                      <a:moveTo>
                        <a:pt x="1" y="0"/>
                      </a:move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5" y="3"/>
                      </a:ln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8" y="6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7" y="10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5" y="11"/>
                      </a:lnTo>
                      <a:lnTo>
                        <a:pt x="21" y="11"/>
                      </a:lnTo>
                      <a:lnTo>
                        <a:pt x="23" y="14"/>
                      </a:lnTo>
                      <a:lnTo>
                        <a:pt x="14" y="14"/>
                      </a:lnTo>
                      <a:lnTo>
                        <a:pt x="10" y="12"/>
                      </a:lnTo>
                      <a:lnTo>
                        <a:pt x="9" y="10"/>
                      </a:lnTo>
                      <a:lnTo>
                        <a:pt x="6" y="10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651040" y="5402160"/>
                  <a:ext cx="3600" cy="5040"/>
                </a:xfrm>
                <a:custGeom>
                  <a:avLst/>
                  <a:gdLst/>
                  <a:ahLst/>
                  <a:rect l="0" t="0" r="r" b="b"/>
                  <a:pathLst>
                    <a:path w="10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8" y="8"/>
                      </a:lnTo>
                      <a:lnTo>
                        <a:pt x="5" y="8"/>
                      </a:lnTo>
                      <a:lnTo>
                        <a:pt x="5" y="9"/>
                      </a:lnTo>
                      <a:lnTo>
                        <a:pt x="9" y="9"/>
                      </a:lnTo>
                      <a:lnTo>
                        <a:pt x="10" y="11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4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654280" y="540216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9" y="4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6" y="6"/>
                      </a:lnTo>
                      <a:lnTo>
                        <a:pt x="5" y="8"/>
                      </a:lnTo>
                      <a:lnTo>
                        <a:pt x="13" y="8"/>
                      </a:lnTo>
                      <a:lnTo>
                        <a:pt x="14" y="11"/>
                      </a:lnTo>
                      <a:lnTo>
                        <a:pt x="11" y="11"/>
                      </a:lnTo>
                      <a:lnTo>
                        <a:pt x="11" y="14"/>
                      </a:lnTo>
                      <a:lnTo>
                        <a:pt x="9" y="11"/>
                      </a:lnTo>
                      <a:lnTo>
                        <a:pt x="5" y="11"/>
                      </a:ln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658960" y="5402160"/>
                  <a:ext cx="3600" cy="3600"/>
                </a:xfrm>
                <a:custGeom>
                  <a:avLst/>
                  <a:gdLst/>
                  <a:ahLst/>
                  <a:rect l="0" t="0" r="r" b="b"/>
                  <a:pathLst>
                    <a:path w="10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8" y="4"/>
                      </a:lnTo>
                      <a:lnTo>
                        <a:pt x="9" y="6"/>
                      </a:lnTo>
                      <a:lnTo>
                        <a:pt x="5" y="6"/>
                      </a:lnTo>
                      <a:lnTo>
                        <a:pt x="4" y="8"/>
                      </a:lnTo>
                      <a:lnTo>
                        <a:pt x="10" y="8"/>
                      </a:lnTo>
                      <a:lnTo>
                        <a:pt x="10" y="10"/>
                      </a:lnTo>
                      <a:lnTo>
                        <a:pt x="5" y="10"/>
                      </a:lnTo>
                      <a:lnTo>
                        <a:pt x="4" y="9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654280" y="5402160"/>
                  <a:ext cx="18000" cy="9720"/>
                </a:xfrm>
                <a:custGeom>
                  <a:avLst/>
                  <a:gdLst/>
                  <a:ahLst/>
                  <a:rect l="0" t="0" r="r" b="b"/>
                  <a:pathLst>
                    <a:path w="50" h="27">
                      <a:moveTo>
                        <a:pt x="25" y="0"/>
                      </a:moveTo>
                      <a:lnTo>
                        <a:pt x="40" y="0"/>
                      </a:lnTo>
                      <a:lnTo>
                        <a:pt x="40" y="2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3" y="5"/>
                      </a:lnTo>
                      <a:lnTo>
                        <a:pt x="35" y="10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50" y="16"/>
                      </a:lnTo>
                      <a:lnTo>
                        <a:pt x="41" y="16"/>
                      </a:lnTo>
                      <a:lnTo>
                        <a:pt x="41" y="24"/>
                      </a:lnTo>
                      <a:lnTo>
                        <a:pt x="4" y="24"/>
                      </a:lnTo>
                      <a:lnTo>
                        <a:pt x="3" y="27"/>
                      </a:lnTo>
                      <a:lnTo>
                        <a:pt x="0" y="21"/>
                      </a:lnTo>
                      <a:lnTo>
                        <a:pt x="1" y="16"/>
                      </a:lnTo>
                      <a:lnTo>
                        <a:pt x="9" y="16"/>
                      </a:lnTo>
                      <a:lnTo>
                        <a:pt x="13" y="21"/>
                      </a:lnTo>
                      <a:lnTo>
                        <a:pt x="15" y="16"/>
                      </a:lnTo>
                      <a:lnTo>
                        <a:pt x="39" y="16"/>
                      </a:lnTo>
                      <a:lnTo>
                        <a:pt x="39" y="15"/>
                      </a:lnTo>
                      <a:lnTo>
                        <a:pt x="32" y="10"/>
                      </a:lnTo>
                      <a:lnTo>
                        <a:pt x="32" y="8"/>
                      </a:lnTo>
                      <a:lnTo>
                        <a:pt x="28" y="5"/>
                      </a:lnTo>
                      <a:lnTo>
                        <a:pt x="26" y="2"/>
                      </a:lnTo>
                      <a:lnTo>
                        <a:pt x="23" y="2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1" y="0"/>
                      </a:lnTo>
                      <a:lnTo>
                        <a:pt x="18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678040" y="540216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2" y="0"/>
                      </a:lnTo>
                      <a:lnTo>
                        <a:pt x="17" y="0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678040" y="5405400"/>
                  <a:ext cx="14760" cy="6840"/>
                </a:xfrm>
                <a:custGeom>
                  <a:avLst/>
                  <a:gdLst/>
                  <a:ahLst/>
                  <a:rect l="0" t="0" r="r" b="b"/>
                  <a:pathLst>
                    <a:path w="41" h="19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4"/>
                      </a:lnTo>
                      <a:lnTo>
                        <a:pt x="17" y="4"/>
                      </a:lnTo>
                      <a:lnTo>
                        <a:pt x="17" y="11"/>
                      </a:lnTo>
                      <a:lnTo>
                        <a:pt x="24" y="11"/>
                      </a:lnTo>
                      <a:lnTo>
                        <a:pt x="28" y="13"/>
                      </a:lnTo>
                      <a:lnTo>
                        <a:pt x="29" y="11"/>
                      </a:lnTo>
                      <a:lnTo>
                        <a:pt x="39" y="11"/>
                      </a:lnTo>
                      <a:lnTo>
                        <a:pt x="41" y="19"/>
                      </a:lnTo>
                      <a:lnTo>
                        <a:pt x="0" y="19"/>
                      </a:lnTo>
                      <a:lnTo>
                        <a:pt x="0" y="11"/>
                      </a:lnTo>
                      <a:lnTo>
                        <a:pt x="12" y="11"/>
                      </a:lnTo>
                      <a:lnTo>
                        <a:pt x="13" y="16"/>
                      </a:lnTo>
                      <a:lnTo>
                        <a:pt x="14" y="11"/>
                      </a:lnTo>
                      <a:lnTo>
                        <a:pt x="12" y="4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2697120" y="5402160"/>
                  <a:ext cx="0" cy="0"/>
                </a:xfrm>
                <a:custGeom>
                  <a:avLst/>
                  <a:gdLst/>
                  <a:ahLst/>
                  <a:rect l="0" t="0" r="r" b="b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2700360" y="540216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3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697120" y="540216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8" y="0"/>
                      </a:lnTo>
                      <a:lnTo>
                        <a:pt x="30" y="0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697120" y="5407200"/>
                  <a:ext cx="12960" cy="5040"/>
                </a:xfrm>
                <a:custGeom>
                  <a:avLst/>
                  <a:gdLst/>
                  <a:ahLst/>
                  <a:rect l="0" t="0" r="r" b="b"/>
                  <a:pathLst>
                    <a:path w="36" h="14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2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2"/>
                      </a:lnTo>
                      <a:lnTo>
                        <a:pt x="28" y="6"/>
                      </a:lnTo>
                      <a:lnTo>
                        <a:pt x="31" y="11"/>
                      </a:lnTo>
                      <a:lnTo>
                        <a:pt x="3" y="11"/>
                      </a:lnTo>
                      <a:lnTo>
                        <a:pt x="0" y="14"/>
                      </a:lnTo>
                      <a:lnTo>
                        <a:pt x="3" y="6"/>
                      </a:lnTo>
                      <a:lnTo>
                        <a:pt x="13" y="6"/>
                      </a:lnTo>
                      <a:lnTo>
                        <a:pt x="17" y="9"/>
                      </a:lnTo>
                      <a:lnTo>
                        <a:pt x="21" y="6"/>
                      </a:lnTo>
                      <a:lnTo>
                        <a:pt x="28" y="6"/>
                      </a:lnTo>
                      <a:lnTo>
                        <a:pt x="24" y="2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2697120" y="540864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65428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627280" y="5397480"/>
                  <a:ext cx="23760" cy="0"/>
                </a:xfrm>
                <a:custGeom>
                  <a:avLst/>
                  <a:gdLst/>
                  <a:ahLst/>
                  <a:rect l="0" t="0" r="r" b="b"/>
                  <a:pathLst>
                    <a:path w="66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63" y="0"/>
                      </a:lnTo>
                      <a:lnTo>
                        <a:pt x="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604960" y="53974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674800" y="539748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697120" y="539748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614680" y="5308560"/>
                  <a:ext cx="82800" cy="60840"/>
                </a:xfrm>
                <a:custGeom>
                  <a:avLst/>
                  <a:gdLst/>
                  <a:ahLst/>
                  <a:rect l="0" t="0" r="r" b="b"/>
                  <a:pathLst>
                    <a:path w="230" h="169">
                      <a:moveTo>
                        <a:pt x="0" y="0"/>
                      </a:moveTo>
                      <a:lnTo>
                        <a:pt x="230" y="0"/>
                      </a:lnTo>
                      <a:lnTo>
                        <a:pt x="230" y="169"/>
                      </a:lnTo>
                      <a:lnTo>
                        <a:pt x="0" y="1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617920" y="5315040"/>
                  <a:ext cx="74880" cy="44640"/>
                </a:xfrm>
                <a:custGeom>
                  <a:avLst/>
                  <a:gdLst/>
                  <a:ahLst/>
                  <a:rect l="0" t="0" r="r" b="b"/>
                  <a:pathLst>
                    <a:path w="208" h="124">
                      <a:moveTo>
                        <a:pt x="0" y="124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617920" y="5315040"/>
                  <a:ext cx="74520" cy="0"/>
                </a:xfrm>
                <a:custGeom>
                  <a:avLst/>
                  <a:gdLst/>
                  <a:ahLst/>
                  <a:rect l="0" t="0" r="r" b="b"/>
                  <a:pathLst>
                    <a:path w="207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2" y="0"/>
                      </a:lnTo>
                      <a:lnTo>
                        <a:pt x="194" y="0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617920" y="5315040"/>
                  <a:ext cx="3600" cy="47880"/>
                </a:xfrm>
                <a:custGeom>
                  <a:avLst/>
                  <a:gdLst/>
                  <a:ahLst/>
                  <a:rect l="0" t="0" r="r" b="b"/>
                  <a:pathLst>
                    <a:path w="10" h="133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24"/>
                      </a:lnTo>
                      <a:lnTo>
                        <a:pt x="0" y="13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617920" y="5359320"/>
                  <a:ext cx="74880" cy="3600"/>
                </a:xfrm>
                <a:custGeom>
                  <a:avLst/>
                  <a:gdLst/>
                  <a:ahLst/>
                  <a:rect l="0" t="0" r="r" b="b"/>
                  <a:pathLst>
                    <a:path w="208" h="10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173" y="0"/>
                      </a:lnTo>
                      <a:lnTo>
                        <a:pt x="196" y="0"/>
                      </a:lnTo>
                      <a:lnTo>
                        <a:pt x="20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690640" y="5315040"/>
                  <a:ext cx="1800" cy="47880"/>
                </a:xfrm>
                <a:custGeom>
                  <a:avLst/>
                  <a:gdLst/>
                  <a:ahLst/>
                  <a:rect l="0" t="0" r="r" b="b"/>
                  <a:pathLst>
                    <a:path w="5" h="133">
                      <a:moveTo>
                        <a:pt x="5" y="0"/>
                      </a:moveTo>
                      <a:lnTo>
                        <a:pt x="0" y="8"/>
                      </a:lnTo>
                      <a:lnTo>
                        <a:pt x="0" y="124"/>
                      </a:lnTo>
                      <a:lnTo>
                        <a:pt x="5" y="13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3" name=""/>
              <p:cNvGrpSpPr/>
              <p:nvPr/>
            </p:nvGrpSpPr>
            <p:grpSpPr>
              <a:xfrm>
                <a:off x="2406600" y="5008680"/>
                <a:ext cx="154440" cy="122400"/>
                <a:chOff x="2406600" y="5008680"/>
                <a:chExt cx="154440" cy="122400"/>
              </a:xfrm>
            </p:grpSpPr>
            <p:grpSp>
              <p:nvGrpSpPr>
                <p:cNvPr id="1304" name=""/>
                <p:cNvGrpSpPr/>
                <p:nvPr/>
              </p:nvGrpSpPr>
              <p:grpSpPr>
                <a:xfrm>
                  <a:off x="2406600" y="5008680"/>
                  <a:ext cx="27000" cy="120240"/>
                  <a:chOff x="2406600" y="5008680"/>
                  <a:chExt cx="27000" cy="12024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2433600" y="5010120"/>
                    <a:ext cx="0" cy="11880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330">
                        <a:moveTo>
                          <a:pt x="0" y="330"/>
                        </a:moveTo>
                        <a:lnTo>
                          <a:pt x="0" y="33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3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406600" y="5008680"/>
                    <a:ext cx="25920" cy="119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2">
                        <a:moveTo>
                          <a:pt x="72" y="332"/>
                        </a:moveTo>
                        <a:lnTo>
                          <a:pt x="0" y="332"/>
                        </a:ln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332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421000" y="5011560"/>
                    <a:ext cx="504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85">
                        <a:moveTo>
                          <a:pt x="14" y="85"/>
                        </a:moveTo>
                        <a:lnTo>
                          <a:pt x="0" y="85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lnTo>
                          <a:pt x="14" y="8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8" name=""/>
                <p:cNvSpPr/>
                <p:nvPr/>
              </p:nvSpPr>
              <p:spPr>
                <a:xfrm>
                  <a:off x="2414520" y="5105520"/>
                  <a:ext cx="146520" cy="22680"/>
                </a:xfrm>
                <a:custGeom>
                  <a:avLst/>
                  <a:gdLst/>
                  <a:ahLst/>
                  <a:rect l="0" t="0" r="r" b="b"/>
                  <a:pathLst>
                    <a:path w="407" h="63">
                      <a:moveTo>
                        <a:pt x="25" y="0"/>
                      </a:moveTo>
                      <a:lnTo>
                        <a:pt x="376" y="0"/>
                      </a:lnTo>
                      <a:lnTo>
                        <a:pt x="407" y="63"/>
                      </a:lnTo>
                      <a:lnTo>
                        <a:pt x="0" y="63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414520" y="5129280"/>
                  <a:ext cx="146520" cy="1800"/>
                </a:xfrm>
                <a:custGeom>
                  <a:avLst/>
                  <a:gdLst/>
                  <a:ahLst/>
                  <a:rect l="0" t="0" r="r" b="b"/>
                  <a:pathLst>
                    <a:path w="407" h="5">
                      <a:moveTo>
                        <a:pt x="0" y="0"/>
                      </a:moveTo>
                      <a:lnTo>
                        <a:pt x="407" y="0"/>
                      </a:lnTo>
                      <a:lnTo>
                        <a:pt x="40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43036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2424240" y="511812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2421000" y="512136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2" y="0"/>
                      </a:moveTo>
                      <a:lnTo>
                        <a:pt x="23" y="0"/>
                      </a:lnTo>
                      <a:lnTo>
                        <a:pt x="25" y="3"/>
                      </a:lnTo>
                      <a:lnTo>
                        <a:pt x="19" y="3"/>
                      </a:lnTo>
                      <a:lnTo>
                        <a:pt x="18" y="5"/>
                      </a:lnTo>
                      <a:lnTo>
                        <a:pt x="40" y="5"/>
                      </a:lnTo>
                      <a:lnTo>
                        <a:pt x="41" y="10"/>
                      </a:lnTo>
                      <a:lnTo>
                        <a:pt x="15" y="10"/>
                      </a:lnTo>
                      <a:lnTo>
                        <a:pt x="17" y="4"/>
                      </a:lnTo>
                      <a:lnTo>
                        <a:pt x="0" y="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2427120" y="5111640"/>
                  <a:ext cx="11520" cy="8280"/>
                </a:xfrm>
                <a:custGeom>
                  <a:avLst/>
                  <a:gdLst/>
                  <a:ahLst/>
                  <a:rect l="0" t="0" r="r" b="b"/>
                  <a:pathLst>
                    <a:path w="32" h="23">
                      <a:moveTo>
                        <a:pt x="17" y="0"/>
                      </a:moveTo>
                      <a:lnTo>
                        <a:pt x="26" y="0"/>
                      </a:lnTo>
                      <a:lnTo>
                        <a:pt x="28" y="3"/>
                      </a:lnTo>
                      <a:lnTo>
                        <a:pt x="23" y="3"/>
                      </a:lnTo>
                      <a:lnTo>
                        <a:pt x="23" y="6"/>
                      </a:lnTo>
                      <a:lnTo>
                        <a:pt x="32" y="6"/>
                      </a:lnTo>
                      <a:lnTo>
                        <a:pt x="32" y="10"/>
                      </a:lnTo>
                      <a:lnTo>
                        <a:pt x="26" y="10"/>
                      </a:lnTo>
                      <a:lnTo>
                        <a:pt x="23" y="13"/>
                      </a:lnTo>
                      <a:lnTo>
                        <a:pt x="20" y="10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18" y="12"/>
                      </a:lnTo>
                      <a:lnTo>
                        <a:pt x="19" y="16"/>
                      </a:lnTo>
                      <a:lnTo>
                        <a:pt x="15" y="16"/>
                      </a:lnTo>
                      <a:lnTo>
                        <a:pt x="15" y="19"/>
                      </a:lnTo>
                      <a:lnTo>
                        <a:pt x="23" y="19"/>
                      </a:lnTo>
                      <a:lnTo>
                        <a:pt x="25" y="23"/>
                      </a:lnTo>
                      <a:lnTo>
                        <a:pt x="12" y="23"/>
                      </a:lnTo>
                      <a:lnTo>
                        <a:pt x="13" y="19"/>
                      </a:lnTo>
                      <a:lnTo>
                        <a:pt x="11" y="16"/>
                      </a:lnTo>
                      <a:lnTo>
                        <a:pt x="1" y="16"/>
                      </a:ln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9" y="6"/>
                      </a:lnTo>
                      <a:lnTo>
                        <a:pt x="20" y="3"/>
                      </a:lnTo>
                      <a:lnTo>
                        <a:pt x="16" y="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2436840" y="5118120"/>
                  <a:ext cx="46440" cy="6840"/>
                </a:xfrm>
                <a:custGeom>
                  <a:avLst/>
                  <a:gdLst/>
                  <a:ahLst/>
                  <a:rect l="0" t="0" r="r" b="b"/>
                  <a:pathLst>
                    <a:path w="129" h="19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9" y="3"/>
                      </a:lnTo>
                      <a:lnTo>
                        <a:pt x="4" y="3"/>
                      </a:lnTo>
                      <a:lnTo>
                        <a:pt x="4" y="6"/>
                      </a:lnTo>
                      <a:lnTo>
                        <a:pt x="13" y="6"/>
                      </a:lnTo>
                      <a:lnTo>
                        <a:pt x="15" y="9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26" y="13"/>
                      </a:lnTo>
                      <a:lnTo>
                        <a:pt x="129" y="19"/>
                      </a:lnTo>
                      <a:lnTo>
                        <a:pt x="4" y="19"/>
                      </a:lnTo>
                      <a:lnTo>
                        <a:pt x="4" y="13"/>
                      </a:lnTo>
                      <a:lnTo>
                        <a:pt x="2" y="9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4008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9" y="6"/>
                      </a:lnTo>
                      <a:lnTo>
                        <a:pt x="9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6" y="23"/>
                      </a:lnTo>
                      <a:lnTo>
                        <a:pt x="6" y="20"/>
                      </a:lnTo>
                      <a:lnTo>
                        <a:pt x="4" y="16"/>
                      </a:lnTo>
                      <a:lnTo>
                        <a:pt x="3" y="16"/>
                      </a:lnTo>
                      <a:lnTo>
                        <a:pt x="2" y="12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4433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5" y="6"/>
                      </a:lnTo>
                      <a:lnTo>
                        <a:pt x="15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3" y="19"/>
                      </a:lnTo>
                      <a:lnTo>
                        <a:pt x="22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20"/>
                      </a:lnTo>
                      <a:lnTo>
                        <a:pt x="7" y="16"/>
                      </a:lnTo>
                      <a:lnTo>
                        <a:pt x="5" y="16"/>
                      </a:lnTo>
                      <a:lnTo>
                        <a:pt x="4" y="10"/>
                      </a:lnTo>
                      <a:lnTo>
                        <a:pt x="3" y="6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2449440" y="5111640"/>
                  <a:ext cx="1440" cy="0"/>
                </a:xfrm>
                <a:custGeom>
                  <a:avLst/>
                  <a:gdLst/>
                  <a:ahLst/>
                  <a:rect l="0" t="0" r="r" b="b"/>
                  <a:pathLst>
                    <a:path w="4" h="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451240" y="511488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0" y="5"/>
                      </a:lnTo>
                      <a:lnTo>
                        <a:pt x="10" y="8"/>
                      </a:lnTo>
                      <a:lnTo>
                        <a:pt x="6" y="8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14" y="10"/>
                      </a:lnTo>
                      <a:lnTo>
                        <a:pt x="14" y="14"/>
                      </a:lnTo>
                      <a:lnTo>
                        <a:pt x="5" y="14"/>
                      </a:lnTo>
                      <a:lnTo>
                        <a:pt x="5" y="12"/>
                      </a:lnTo>
                      <a:lnTo>
                        <a:pt x="3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454120" y="5111640"/>
                  <a:ext cx="6840" cy="8280"/>
                </a:xfrm>
                <a:custGeom>
                  <a:avLst/>
                  <a:gdLst/>
                  <a:ahLst/>
                  <a:rect l="0" t="0" r="r" b="b"/>
                  <a:pathLst>
                    <a:path w="19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3" y="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12" y="10"/>
                      </a:lnTo>
                      <a:lnTo>
                        <a:pt x="7" y="10"/>
                      </a:lnTo>
                      <a:lnTo>
                        <a:pt x="7" y="12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0" y="19"/>
                      </a:lnTo>
                      <a:lnTo>
                        <a:pt x="18" y="19"/>
                      </a:lnTo>
                      <a:lnTo>
                        <a:pt x="19" y="23"/>
                      </a:lnTo>
                      <a:lnTo>
                        <a:pt x="10" y="23"/>
                      </a:lnTo>
                      <a:lnTo>
                        <a:pt x="9" y="20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10"/>
                      </a:lnTo>
                      <a:lnTo>
                        <a:pt x="4" y="8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459160" y="5111640"/>
                  <a:ext cx="9720" cy="8280"/>
                </a:xfrm>
                <a:custGeom>
                  <a:avLst/>
                  <a:gdLst/>
                  <a:ahLst/>
                  <a:rect l="0" t="0" r="r" b="b"/>
                  <a:pathLst>
                    <a:path w="27" h="23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0" y="3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6" y="6"/>
                      </a:lnTo>
                      <a:lnTo>
                        <a:pt x="16" y="6"/>
                      </a:lnTo>
                      <a:lnTo>
                        <a:pt x="17" y="10"/>
                      </a:lnTo>
                      <a:lnTo>
                        <a:pt x="10" y="10"/>
                      </a:lnTo>
                      <a:lnTo>
                        <a:pt x="9" y="12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6"/>
                      </a:lnTo>
                      <a:lnTo>
                        <a:pt x="17" y="16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26" y="19"/>
                      </a:lnTo>
                      <a:lnTo>
                        <a:pt x="27" y="23"/>
                      </a:lnTo>
                      <a:lnTo>
                        <a:pt x="15" y="23"/>
                      </a:lnTo>
                      <a:lnTo>
                        <a:pt x="14" y="19"/>
                      </a:lnTo>
                      <a:lnTo>
                        <a:pt x="11" y="16"/>
                      </a:lnTo>
                      <a:lnTo>
                        <a:pt x="8" y="16"/>
                      </a:lnTo>
                      <a:lnTo>
                        <a:pt x="6" y="10"/>
                      </a:lnTo>
                      <a:lnTo>
                        <a:pt x="3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246384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8" y="3"/>
                      </a:lnTo>
                      <a:lnTo>
                        <a:pt x="5" y="3"/>
                      </a:lnTo>
                      <a:lnTo>
                        <a:pt x="5" y="6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8" y="10"/>
                      </a:lnTo>
                      <a:lnTo>
                        <a:pt x="6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3" y="16"/>
                      </a:lnTo>
                      <a:lnTo>
                        <a:pt x="12" y="19"/>
                      </a:lnTo>
                      <a:lnTo>
                        <a:pt x="13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2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4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2468520" y="5111640"/>
                  <a:ext cx="8280" cy="8280"/>
                </a:xfrm>
                <a:custGeom>
                  <a:avLst/>
                  <a:gdLst/>
                  <a:ahLst/>
                  <a:rect l="0" t="0" r="r" b="b"/>
                  <a:pathLst>
                    <a:path w="23" h="2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14" y="6"/>
                      </a:lnTo>
                      <a:lnTo>
                        <a:pt x="14" y="10"/>
                      </a:lnTo>
                      <a:lnTo>
                        <a:pt x="8" y="10"/>
                      </a:lnTo>
                      <a:lnTo>
                        <a:pt x="7" y="12"/>
                      </a:lnTo>
                      <a:lnTo>
                        <a:pt x="16" y="12"/>
                      </a:lnTo>
                      <a:lnTo>
                        <a:pt x="17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9"/>
                      </a:lnTo>
                      <a:lnTo>
                        <a:pt x="23" y="19"/>
                      </a:lnTo>
                      <a:lnTo>
                        <a:pt x="23" y="23"/>
                      </a:lnTo>
                      <a:lnTo>
                        <a:pt x="14" y="23"/>
                      </a:lnTo>
                      <a:lnTo>
                        <a:pt x="12" y="19"/>
                      </a:lnTo>
                      <a:lnTo>
                        <a:pt x="8" y="16"/>
                      </a:lnTo>
                      <a:lnTo>
                        <a:pt x="5" y="16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75000" y="5111640"/>
                  <a:ext cx="5040" cy="8280"/>
                </a:xfrm>
                <a:custGeom>
                  <a:avLst/>
                  <a:gdLst/>
                  <a:ahLst/>
                  <a:rect l="0" t="0" r="r" b="b"/>
                  <a:pathLst>
                    <a:path w="14" h="2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4" y="12"/>
                      </a:lnTo>
                      <a:lnTo>
                        <a:pt x="10" y="12"/>
                      </a:lnTo>
                      <a:lnTo>
                        <a:pt x="10" y="16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9" y="19"/>
                      </a:lnTo>
                      <a:lnTo>
                        <a:pt x="13" y="19"/>
                      </a:lnTo>
                      <a:lnTo>
                        <a:pt x="14" y="23"/>
                      </a:lnTo>
                      <a:lnTo>
                        <a:pt x="9" y="23"/>
                      </a:lnTo>
                      <a:lnTo>
                        <a:pt x="6" y="19"/>
                      </a:lnTo>
                      <a:lnTo>
                        <a:pt x="5" y="16"/>
                      </a:lnTo>
                      <a:lnTo>
                        <a:pt x="4" y="16"/>
                      </a:lnTo>
                      <a:lnTo>
                        <a:pt x="2" y="7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247824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7" y="3"/>
                      </a:lnTo>
                      <a:lnTo>
                        <a:pt x="6" y="6"/>
                      </a:lnTo>
                      <a:lnTo>
                        <a:pt x="7" y="7"/>
                      </a:lnTo>
                      <a:lnTo>
                        <a:pt x="16" y="7"/>
                      </a:lnTo>
                      <a:lnTo>
                        <a:pt x="18" y="10"/>
                      </a:lnTo>
                      <a:lnTo>
                        <a:pt x="12" y="10"/>
                      </a:lnTo>
                      <a:lnTo>
                        <a:pt x="10" y="12"/>
                      </a:lnTo>
                      <a:lnTo>
                        <a:pt x="20" y="12"/>
                      </a:lnTo>
                      <a:lnTo>
                        <a:pt x="21" y="15"/>
                      </a:lnTo>
                      <a:lnTo>
                        <a:pt x="23" y="17"/>
                      </a:lnTo>
                      <a:lnTo>
                        <a:pt x="19" y="17"/>
                      </a:lnTo>
                      <a:lnTo>
                        <a:pt x="16" y="19"/>
                      </a:lnTo>
                      <a:lnTo>
                        <a:pt x="14" y="17"/>
                      </a:lnTo>
                      <a:lnTo>
                        <a:pt x="9" y="17"/>
                      </a:lnTo>
                      <a:lnTo>
                        <a:pt x="6" y="9"/>
                      </a:lnTo>
                      <a:lnTo>
                        <a:pt x="4" y="7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2482920" y="5111640"/>
                  <a:ext cx="8280" cy="6840"/>
                </a:xfrm>
                <a:custGeom>
                  <a:avLst/>
                  <a:gdLst/>
                  <a:ahLst/>
                  <a:rect l="0" t="0" r="r" b="b"/>
                  <a:pathLst>
                    <a:path w="23" h="1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6" y="6"/>
                      </a:lnTo>
                      <a:lnTo>
                        <a:pt x="14" y="6"/>
                      </a:lnTo>
                      <a:lnTo>
                        <a:pt x="16" y="9"/>
                      </a:lnTo>
                      <a:lnTo>
                        <a:pt x="14" y="9"/>
                      </a:lnTo>
                      <a:lnTo>
                        <a:pt x="10" y="9"/>
                      </a:lnTo>
                      <a:lnTo>
                        <a:pt x="9" y="11"/>
                      </a:lnTo>
                      <a:lnTo>
                        <a:pt x="22" y="11"/>
                      </a:lnTo>
                      <a:lnTo>
                        <a:pt x="23" y="15"/>
                      </a:lnTo>
                      <a:lnTo>
                        <a:pt x="19" y="15"/>
                      </a:lnTo>
                      <a:lnTo>
                        <a:pt x="18" y="19"/>
                      </a:lnTo>
                      <a:lnTo>
                        <a:pt x="14" y="15"/>
                      </a:lnTo>
                      <a:lnTo>
                        <a:pt x="9" y="15"/>
                      </a:lnTo>
                      <a:lnTo>
                        <a:pt x="5" y="9"/>
                      </a:lnTo>
                      <a:lnTo>
                        <a:pt x="2" y="7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2489040" y="5111640"/>
                  <a:ext cx="5040" cy="5040"/>
                </a:xfrm>
                <a:custGeom>
                  <a:avLst/>
                  <a:gdLst/>
                  <a:ahLst/>
                  <a:rect l="0" t="0" r="r" b="b"/>
                  <a:pathLst>
                    <a:path w="14" h="14">
                      <a:moveTo>
                        <a:pt x="0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10" y="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5" y="11"/>
                      </a:lnTo>
                      <a:lnTo>
                        <a:pt x="13" y="11"/>
                      </a:lnTo>
                      <a:lnTo>
                        <a:pt x="14" y="14"/>
                      </a:lnTo>
                      <a:lnTo>
                        <a:pt x="6" y="14"/>
                      </a:lnTo>
                      <a:lnTo>
                        <a:pt x="4" y="12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2486160" y="5111640"/>
                  <a:ext cx="14760" cy="11520"/>
                </a:xfrm>
                <a:custGeom>
                  <a:avLst/>
                  <a:gdLst/>
                  <a:ahLst/>
                  <a:rect l="0" t="0" r="r" b="b"/>
                  <a:pathLst>
                    <a:path w="41" h="32">
                      <a:moveTo>
                        <a:pt x="20" y="0"/>
                      </a:moveTo>
                      <a:lnTo>
                        <a:pt x="33" y="0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6" y="6"/>
                      </a:lnTo>
                      <a:lnTo>
                        <a:pt x="27" y="6"/>
                      </a:lnTo>
                      <a:lnTo>
                        <a:pt x="29" y="13"/>
                      </a:lnTo>
                      <a:lnTo>
                        <a:pt x="37" y="13"/>
                      </a:lnTo>
                      <a:lnTo>
                        <a:pt x="38" y="7"/>
                      </a:lnTo>
                      <a:lnTo>
                        <a:pt x="41" y="19"/>
                      </a:lnTo>
                      <a:lnTo>
                        <a:pt x="34" y="19"/>
                      </a:lnTo>
                      <a:lnTo>
                        <a:pt x="34" y="29"/>
                      </a:lnTo>
                      <a:lnTo>
                        <a:pt x="3" y="29"/>
                      </a:lnTo>
                      <a:lnTo>
                        <a:pt x="2" y="32"/>
                      </a:lnTo>
                      <a:lnTo>
                        <a:pt x="0" y="26"/>
                      </a:lnTo>
                      <a:lnTo>
                        <a:pt x="1" y="19"/>
                      </a:lnTo>
                      <a:lnTo>
                        <a:pt x="7" y="19"/>
                      </a:lnTo>
                      <a:lnTo>
                        <a:pt x="11" y="25"/>
                      </a:lnTo>
                      <a:lnTo>
                        <a:pt x="13" y="19"/>
                      </a:lnTo>
                      <a:lnTo>
                        <a:pt x="32" y="19"/>
                      </a:lnTo>
                      <a:lnTo>
                        <a:pt x="32" y="17"/>
                      </a:lnTo>
                      <a:lnTo>
                        <a:pt x="26" y="13"/>
                      </a:lnTo>
                      <a:lnTo>
                        <a:pt x="26" y="11"/>
                      </a:lnTo>
                      <a:lnTo>
                        <a:pt x="23" y="6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509920" y="511164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509920" y="5114880"/>
                  <a:ext cx="9360" cy="0"/>
                </a:xfrm>
                <a:custGeom>
                  <a:avLst/>
                  <a:gdLst/>
                  <a:ahLst/>
                  <a:rect l="0" t="0" r="r" b="b"/>
                  <a:pathLst>
                    <a:path w="26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19" y="0"/>
                      </a:lnTo>
                      <a:lnTo>
                        <a:pt x="14" y="0"/>
                      </a:lnTo>
                      <a:lnTo>
                        <a:pt x="10" y="0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511360" y="5118120"/>
                  <a:ext cx="14760" cy="3600"/>
                </a:xfrm>
                <a:custGeom>
                  <a:avLst/>
                  <a:gdLst/>
                  <a:ahLst/>
                  <a:rect l="0" t="0" r="r" b="b"/>
                  <a:pathLst>
                    <a:path w="41" h="10">
                      <a:moveTo>
                        <a:pt x="14" y="0"/>
                      </a:moveTo>
                      <a:lnTo>
                        <a:pt x="22" y="0"/>
                      </a:lnTo>
                      <a:lnTo>
                        <a:pt x="23" y="3"/>
                      </a:lnTo>
                      <a:lnTo>
                        <a:pt x="17" y="3"/>
                      </a:lnTo>
                      <a:lnTo>
                        <a:pt x="17" y="6"/>
                      </a:lnTo>
                      <a:lnTo>
                        <a:pt x="24" y="6"/>
                      </a:lnTo>
                      <a:lnTo>
                        <a:pt x="28" y="8"/>
                      </a:lnTo>
                      <a:lnTo>
                        <a:pt x="29" y="6"/>
                      </a:lnTo>
                      <a:lnTo>
                        <a:pt x="39" y="6"/>
                      </a:lnTo>
                      <a:lnTo>
                        <a:pt x="41" y="10"/>
                      </a:lnTo>
                      <a:lnTo>
                        <a:pt x="0" y="10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13" y="9"/>
                      </a:lnTo>
                      <a:lnTo>
                        <a:pt x="14" y="6"/>
                      </a:lnTo>
                      <a:lnTo>
                        <a:pt x="12" y="3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527200" y="5111640"/>
                  <a:ext cx="2880" cy="0"/>
                </a:xfrm>
                <a:custGeom>
                  <a:avLst/>
                  <a:gdLst/>
                  <a:ahLst/>
                  <a:rect l="0" t="0" r="r" b="b"/>
                  <a:pathLst>
                    <a:path w="8" h="0">
                      <a:moveTo>
                        <a:pt x="2" y="0"/>
                      </a:move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2535120" y="5111640"/>
                  <a:ext cx="10800" cy="0"/>
                </a:xfrm>
                <a:custGeom>
                  <a:avLst/>
                  <a:gdLst/>
                  <a:ahLst/>
                  <a:rect l="0" t="0" r="r" b="b"/>
                  <a:pathLst>
                    <a:path w="30" h="0">
                      <a:moveTo>
                        <a:pt x="4" y="0"/>
                      </a:moveTo>
                      <a:lnTo>
                        <a:pt x="8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23" y="0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2529000" y="5114880"/>
                  <a:ext cx="18720" cy="0"/>
                </a:xfrm>
                <a:custGeom>
                  <a:avLst/>
                  <a:gdLst/>
                  <a:ahLst/>
                  <a:rect l="0" t="0" r="r" b="b"/>
                  <a:pathLst>
                    <a:path w="52" h="0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24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2530440" y="5118120"/>
                  <a:ext cx="12960" cy="3600"/>
                </a:xfrm>
                <a:custGeom>
                  <a:avLst/>
                  <a:gdLst/>
                  <a:ahLst/>
                  <a:rect l="0" t="0" r="r" b="b"/>
                  <a:pathLst>
                    <a:path w="36" h="10">
                      <a:moveTo>
                        <a:pt x="3" y="0"/>
                      </a:moveTo>
                      <a:lnTo>
                        <a:pt x="10" y="0"/>
                      </a:lnTo>
                      <a:lnTo>
                        <a:pt x="13" y="1"/>
                      </a:lnTo>
                      <a:lnTo>
                        <a:pt x="17" y="0"/>
                      </a:lnTo>
                      <a:lnTo>
                        <a:pt x="24" y="0"/>
                      </a:lnTo>
                      <a:lnTo>
                        <a:pt x="28" y="1"/>
                      </a:lnTo>
                      <a:lnTo>
                        <a:pt x="31" y="0"/>
                      </a:lnTo>
                      <a:lnTo>
                        <a:pt x="36" y="0"/>
                      </a:lnTo>
                      <a:lnTo>
                        <a:pt x="36" y="1"/>
                      </a:lnTo>
                      <a:lnTo>
                        <a:pt x="28" y="5"/>
                      </a:lnTo>
                      <a:lnTo>
                        <a:pt x="31" y="8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5"/>
                      </a:lnTo>
                      <a:lnTo>
                        <a:pt x="13" y="5"/>
                      </a:lnTo>
                      <a:lnTo>
                        <a:pt x="17" y="6"/>
                      </a:lnTo>
                      <a:lnTo>
                        <a:pt x="21" y="5"/>
                      </a:lnTo>
                      <a:lnTo>
                        <a:pt x="28" y="5"/>
                      </a:lnTo>
                      <a:lnTo>
                        <a:pt x="24" y="1"/>
                      </a:lnTo>
                      <a:lnTo>
                        <a:pt x="0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2530440" y="5121360"/>
                  <a:ext cx="20880" cy="3600"/>
                </a:xfrm>
                <a:custGeom>
                  <a:avLst/>
                  <a:gdLst/>
                  <a:ahLst/>
                  <a:rect l="0" t="0" r="r" b="b"/>
                  <a:pathLst>
                    <a:path w="58" h="10">
                      <a:moveTo>
                        <a:pt x="1" y="5"/>
                      </a:moveTo>
                      <a:lnTo>
                        <a:pt x="26" y="5"/>
                      </a:lnTo>
                      <a:lnTo>
                        <a:pt x="30" y="3"/>
                      </a:lnTo>
                      <a:lnTo>
                        <a:pt x="3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33" y="3"/>
                      </a:lnTo>
                      <a:lnTo>
                        <a:pt x="30" y="5"/>
                      </a:lnTo>
                      <a:lnTo>
                        <a:pt x="33" y="9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6" y="9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8" y="10"/>
                      </a:lnTo>
                      <a:lnTo>
                        <a:pt x="0" y="10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2486160" y="5105520"/>
                  <a:ext cx="14040" cy="0"/>
                </a:xfrm>
                <a:custGeom>
                  <a:avLst/>
                  <a:gdLst/>
                  <a:ahLst/>
                  <a:rect l="0" t="0" r="r" b="b"/>
                  <a:pathLst>
                    <a:path w="39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2455920" y="5105520"/>
                  <a:ext cx="21960" cy="0"/>
                </a:xfrm>
                <a:custGeom>
                  <a:avLst/>
                  <a:gdLst/>
                  <a:ahLst/>
                  <a:rect l="0" t="0" r="r" b="b"/>
                  <a:pathLst>
                    <a:path w="61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243360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6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508120" y="5105520"/>
                  <a:ext cx="15840" cy="0"/>
                </a:xfrm>
                <a:custGeom>
                  <a:avLst/>
                  <a:gdLst/>
                  <a:ahLst/>
                  <a:rect l="0" t="0" r="r" b="b"/>
                  <a:pathLst>
                    <a:path w="44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530440" y="5105520"/>
                  <a:ext cx="17280" cy="0"/>
                </a:xfrm>
                <a:custGeom>
                  <a:avLst/>
                  <a:gdLst/>
                  <a:ahLst/>
                  <a:rect l="0" t="0" r="r" b="b"/>
                  <a:pathLst>
                    <a:path w="48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43320" y="5025960"/>
                  <a:ext cx="92520" cy="76680"/>
                </a:xfrm>
                <a:custGeom>
                  <a:avLst/>
                  <a:gdLst/>
                  <a:ahLst/>
                  <a:rect l="0" t="0" r="r" b="b"/>
                  <a:pathLst>
                    <a:path w="257" h="213">
                      <a:moveTo>
                        <a:pt x="0" y="0"/>
                      </a:moveTo>
                      <a:lnTo>
                        <a:pt x="257" y="0"/>
                      </a:lnTo>
                      <a:lnTo>
                        <a:pt x="257" y="213"/>
                      </a:lnTo>
                      <a:lnTo>
                        <a:pt x="0" y="2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2451240" y="5033880"/>
                  <a:ext cx="74880" cy="57600"/>
                </a:xfrm>
                <a:custGeom>
                  <a:avLst/>
                  <a:gdLst/>
                  <a:ahLst/>
                  <a:rect l="0" t="0" r="r" b="b"/>
                  <a:pathLst>
                    <a:path w="208" h="160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208" y="0"/>
                      </a:lnTo>
                      <a:lnTo>
                        <a:pt x="208" y="160"/>
                      </a:lnTo>
                      <a:lnTo>
                        <a:pt x="0" y="160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2449440" y="5033880"/>
                  <a:ext cx="77760" cy="0"/>
                </a:xfrm>
                <a:custGeom>
                  <a:avLst/>
                  <a:gdLst/>
                  <a:ahLst/>
                  <a:rect l="0" t="0" r="r" b="b"/>
                  <a:pathLst>
                    <a:path w="216" h="0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179" y="0"/>
                      </a:lnTo>
                      <a:lnTo>
                        <a:pt x="202" y="0"/>
                      </a:lnTo>
                      <a:lnTo>
                        <a:pt x="21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2449440" y="5033880"/>
                  <a:ext cx="3600" cy="59040"/>
                </a:xfrm>
                <a:custGeom>
                  <a:avLst/>
                  <a:gdLst/>
                  <a:ahLst/>
                  <a:rect l="0" t="0" r="r" b="b"/>
                  <a:pathLst>
                    <a:path w="10" h="164">
                      <a:moveTo>
                        <a:pt x="0" y="0"/>
                      </a:moveTo>
                      <a:lnTo>
                        <a:pt x="10" y="10"/>
                      </a:lnTo>
                      <a:lnTo>
                        <a:pt x="10" y="153"/>
                      </a:lnTo>
                      <a:lnTo>
                        <a:pt x="0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2449440" y="5091120"/>
                  <a:ext cx="78120" cy="1800"/>
                </a:xfrm>
                <a:custGeom>
                  <a:avLst/>
                  <a:gdLst/>
                  <a:ahLst/>
                  <a:rect l="0" t="0" r="r" b="b"/>
                  <a:pathLst>
                    <a:path w="217" h="5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180" y="0"/>
                      </a:lnTo>
                      <a:lnTo>
                        <a:pt x="204" y="0"/>
                      </a:lnTo>
                      <a:lnTo>
                        <a:pt x="217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2525760" y="5033880"/>
                  <a:ext cx="1800" cy="59040"/>
                </a:xfrm>
                <a:custGeom>
                  <a:avLst/>
                  <a:gdLst/>
                  <a:ahLst/>
                  <a:rect l="0" t="0" r="r" b="b"/>
                  <a:pathLst>
                    <a:path w="5" h="164">
                      <a:moveTo>
                        <a:pt x="5" y="0"/>
                      </a:moveTo>
                      <a:lnTo>
                        <a:pt x="0" y="10"/>
                      </a:lnTo>
                      <a:lnTo>
                        <a:pt x="0" y="153"/>
                      </a:lnTo>
                      <a:lnTo>
                        <a:pt x="5" y="16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2455920" y="5037120"/>
                  <a:ext cx="69840" cy="54000"/>
                </a:xfrm>
                <a:prstGeom prst="rect">
                  <a:avLst/>
                </a:prstGeom>
                <a:solidFill>
                  <a:srgbClr val="00279f"/>
                </a:solidFill>
                <a:ln w="12600">
                  <a:solidFill>
                    <a:srgbClr val="333333"/>
                  </a:solidFill>
                  <a:round/>
                </a:ln>
              </p:spPr>
              <p:txBody>
                <a:bodyPr lIns="96120" rIns="9612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2184480" y="5214960"/>
                <a:ext cx="593640" cy="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 txBox="1"/>
          <p:nvPr/>
        </p:nvSpPr>
        <p:spPr>
          <a:xfrm>
            <a:off x="2651040" y="1835280"/>
            <a:ext cx="1335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2727360" y="4349880"/>
            <a:ext cx="11095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724280" y="1447920"/>
            <a:ext cx="43434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management tools emphasize network and host-centered configuration manage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ient-server systems require expanding management to the desktop and integration with traditional managemen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04920" y="4800600"/>
            <a:ext cx="5181480" cy="15742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90000"/>
              </a:lnSpc>
              <a:tabLst>
                <a:tab algn="l" pos="228600"/>
                <a:tab algn="l" pos="1371600"/>
                <a:tab algn="l" pos="16002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ering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⬧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76320" y="220680"/>
            <a:ext cx="8658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Management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304920" y="365760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5562720" y="1600200"/>
            <a:ext cx="3200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Advanced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log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87680" y="2946240"/>
            <a:ext cx="324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2590920"/>
            <a:ext cx="5181480" cy="144792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,   Resources,  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304920" y="1600200"/>
            <a:ext cx="5181480" cy="1371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4c67bb"/>
              </a:gs>
            </a:gsLst>
            <a:lin ang="5400000"/>
          </a:gra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1600200"/>
                <a:tab algn="l" pos="3200400"/>
                <a:tab algn="l" pos="4800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281160" y="774720"/>
            <a:ext cx="4924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ding Management to the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4800600" y="5908680"/>
            <a:ext cx="1981440" cy="492480"/>
            <a:chOff x="4800600" y="5908680"/>
            <a:chExt cx="1981440" cy="492480"/>
          </a:xfrm>
        </p:grpSpPr>
        <p:sp>
          <p:nvSpPr>
            <p:cNvPr id="1361" name=""/>
            <p:cNvSpPr/>
            <p:nvPr/>
          </p:nvSpPr>
          <p:spPr>
            <a:xfrm>
              <a:off x="5397480" y="5908680"/>
              <a:ext cx="1384560" cy="492480"/>
            </a:xfrm>
            <a:custGeom>
              <a:avLst/>
              <a:gdLst/>
              <a:ahLst/>
              <a:rect l="0" t="0" r="r" b="b"/>
              <a:pathLst>
                <a:path w="3846" h="1368">
                  <a:moveTo>
                    <a:pt x="1591" y="1368"/>
                  </a:moveTo>
                  <a:lnTo>
                    <a:pt x="1686" y="1368"/>
                  </a:lnTo>
                  <a:lnTo>
                    <a:pt x="1839" y="1362"/>
                  </a:lnTo>
                  <a:lnTo>
                    <a:pt x="2014" y="1346"/>
                  </a:lnTo>
                  <a:lnTo>
                    <a:pt x="2141" y="1318"/>
                  </a:lnTo>
                  <a:lnTo>
                    <a:pt x="2272" y="1285"/>
                  </a:lnTo>
                  <a:lnTo>
                    <a:pt x="2381" y="1249"/>
                  </a:lnTo>
                  <a:lnTo>
                    <a:pt x="2468" y="1210"/>
                  </a:lnTo>
                  <a:lnTo>
                    <a:pt x="2585" y="1157"/>
                  </a:lnTo>
                  <a:lnTo>
                    <a:pt x="2686" y="1102"/>
                  </a:lnTo>
                  <a:lnTo>
                    <a:pt x="2781" y="1044"/>
                  </a:lnTo>
                  <a:lnTo>
                    <a:pt x="2879" y="969"/>
                  </a:lnTo>
                  <a:lnTo>
                    <a:pt x="2974" y="885"/>
                  </a:lnTo>
                  <a:lnTo>
                    <a:pt x="3032" y="825"/>
                  </a:lnTo>
                  <a:lnTo>
                    <a:pt x="3083" y="765"/>
                  </a:lnTo>
                  <a:lnTo>
                    <a:pt x="3123" y="707"/>
                  </a:lnTo>
                  <a:lnTo>
                    <a:pt x="3155" y="654"/>
                  </a:lnTo>
                  <a:lnTo>
                    <a:pt x="3181" y="611"/>
                  </a:lnTo>
                  <a:lnTo>
                    <a:pt x="3206" y="559"/>
                  </a:lnTo>
                  <a:lnTo>
                    <a:pt x="3232" y="503"/>
                  </a:lnTo>
                  <a:lnTo>
                    <a:pt x="3253" y="434"/>
                  </a:lnTo>
                  <a:lnTo>
                    <a:pt x="3286" y="351"/>
                  </a:lnTo>
                  <a:lnTo>
                    <a:pt x="3846" y="351"/>
                  </a:lnTo>
                  <a:lnTo>
                    <a:pt x="2512" y="0"/>
                  </a:lnTo>
                  <a:lnTo>
                    <a:pt x="908" y="351"/>
                  </a:lnTo>
                  <a:lnTo>
                    <a:pt x="1537" y="351"/>
                  </a:lnTo>
                  <a:lnTo>
                    <a:pt x="1515" y="406"/>
                  </a:lnTo>
                  <a:lnTo>
                    <a:pt x="1486" y="470"/>
                  </a:lnTo>
                  <a:lnTo>
                    <a:pt x="1453" y="539"/>
                  </a:lnTo>
                  <a:lnTo>
                    <a:pt x="1424" y="608"/>
                  </a:lnTo>
                  <a:lnTo>
                    <a:pt x="1381" y="670"/>
                  </a:lnTo>
                  <a:lnTo>
                    <a:pt x="1348" y="725"/>
                  </a:lnTo>
                  <a:lnTo>
                    <a:pt x="1272" y="819"/>
                  </a:lnTo>
                  <a:lnTo>
                    <a:pt x="1195" y="900"/>
                  </a:lnTo>
                  <a:lnTo>
                    <a:pt x="1130" y="957"/>
                  </a:lnTo>
                  <a:lnTo>
                    <a:pt x="1075" y="1005"/>
                  </a:lnTo>
                  <a:lnTo>
                    <a:pt x="1010" y="1052"/>
                  </a:lnTo>
                  <a:lnTo>
                    <a:pt x="963" y="1088"/>
                  </a:lnTo>
                  <a:lnTo>
                    <a:pt x="897" y="1126"/>
                  </a:lnTo>
                  <a:lnTo>
                    <a:pt x="843" y="1157"/>
                  </a:lnTo>
                  <a:lnTo>
                    <a:pt x="781" y="1185"/>
                  </a:lnTo>
                  <a:lnTo>
                    <a:pt x="723" y="1210"/>
                  </a:lnTo>
                  <a:lnTo>
                    <a:pt x="646" y="1241"/>
                  </a:lnTo>
                  <a:lnTo>
                    <a:pt x="581" y="1264"/>
                  </a:lnTo>
                  <a:lnTo>
                    <a:pt x="508" y="1288"/>
                  </a:lnTo>
                  <a:lnTo>
                    <a:pt x="436" y="1308"/>
                  </a:lnTo>
                  <a:lnTo>
                    <a:pt x="363" y="1325"/>
                  </a:lnTo>
                  <a:lnTo>
                    <a:pt x="290" y="1338"/>
                  </a:lnTo>
                  <a:lnTo>
                    <a:pt x="214" y="1349"/>
                  </a:lnTo>
                  <a:lnTo>
                    <a:pt x="145" y="1357"/>
                  </a:lnTo>
                  <a:lnTo>
                    <a:pt x="87" y="1362"/>
                  </a:lnTo>
                  <a:lnTo>
                    <a:pt x="0" y="1368"/>
                  </a:lnTo>
                  <a:lnTo>
                    <a:pt x="1591" y="136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800600" y="6033960"/>
              <a:ext cx="1162440" cy="367200"/>
            </a:xfrm>
            <a:custGeom>
              <a:avLst/>
              <a:gdLst/>
              <a:ahLst/>
              <a:rect l="0" t="0" r="r" b="b"/>
              <a:pathLst>
                <a:path w="3229" h="1020">
                  <a:moveTo>
                    <a:pt x="1671" y="1020"/>
                  </a:moveTo>
                  <a:lnTo>
                    <a:pt x="3229" y="1020"/>
                  </a:lnTo>
                  <a:lnTo>
                    <a:pt x="2997" y="992"/>
                  </a:lnTo>
                  <a:lnTo>
                    <a:pt x="2790" y="948"/>
                  </a:lnTo>
                  <a:lnTo>
                    <a:pt x="2616" y="888"/>
                  </a:lnTo>
                  <a:lnTo>
                    <a:pt x="2449" y="821"/>
                  </a:lnTo>
                  <a:lnTo>
                    <a:pt x="2281" y="723"/>
                  </a:lnTo>
                  <a:lnTo>
                    <a:pt x="2139" y="620"/>
                  </a:lnTo>
                  <a:lnTo>
                    <a:pt x="2016" y="504"/>
                  </a:lnTo>
                  <a:lnTo>
                    <a:pt x="1903" y="357"/>
                  </a:lnTo>
                  <a:lnTo>
                    <a:pt x="1827" y="232"/>
                  </a:lnTo>
                  <a:lnTo>
                    <a:pt x="1762" y="102"/>
                  </a:lnTo>
                  <a:lnTo>
                    <a:pt x="1729" y="0"/>
                  </a:lnTo>
                  <a:lnTo>
                    <a:pt x="0" y="0"/>
                  </a:lnTo>
                  <a:lnTo>
                    <a:pt x="29" y="86"/>
                  </a:lnTo>
                  <a:lnTo>
                    <a:pt x="68" y="178"/>
                  </a:lnTo>
                  <a:lnTo>
                    <a:pt x="112" y="262"/>
                  </a:lnTo>
                  <a:lnTo>
                    <a:pt x="145" y="328"/>
                  </a:lnTo>
                  <a:lnTo>
                    <a:pt x="203" y="409"/>
                  </a:lnTo>
                  <a:lnTo>
                    <a:pt x="283" y="504"/>
                  </a:lnTo>
                  <a:lnTo>
                    <a:pt x="355" y="572"/>
                  </a:lnTo>
                  <a:lnTo>
                    <a:pt x="442" y="644"/>
                  </a:lnTo>
                  <a:lnTo>
                    <a:pt x="493" y="681"/>
                  </a:lnTo>
                  <a:lnTo>
                    <a:pt x="555" y="729"/>
                  </a:lnTo>
                  <a:lnTo>
                    <a:pt x="628" y="774"/>
                  </a:lnTo>
                  <a:lnTo>
                    <a:pt x="729" y="828"/>
                  </a:lnTo>
                  <a:lnTo>
                    <a:pt x="806" y="861"/>
                  </a:lnTo>
                  <a:lnTo>
                    <a:pt x="872" y="888"/>
                  </a:lnTo>
                  <a:lnTo>
                    <a:pt x="952" y="917"/>
                  </a:lnTo>
                  <a:lnTo>
                    <a:pt x="1043" y="945"/>
                  </a:lnTo>
                  <a:lnTo>
                    <a:pt x="1126" y="968"/>
                  </a:lnTo>
                  <a:lnTo>
                    <a:pt x="1239" y="992"/>
                  </a:lnTo>
                  <a:lnTo>
                    <a:pt x="1355" y="1008"/>
                  </a:lnTo>
                  <a:lnTo>
                    <a:pt x="1453" y="1016"/>
                  </a:lnTo>
                  <a:lnTo>
                    <a:pt x="1555" y="1020"/>
                  </a:lnTo>
                  <a:lnTo>
                    <a:pt x="1671" y="102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3" name="" descr=""/>
          <p:cNvPicPr/>
          <p:nvPr/>
        </p:nvPicPr>
        <p:blipFill>
          <a:blip r:embed="rId1"/>
          <a:stretch/>
        </p:blipFill>
        <p:spPr>
          <a:xfrm>
            <a:off x="5713560" y="5181480"/>
            <a:ext cx="604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152280" y="958680"/>
            <a:ext cx="8763120" cy="551808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 txBox="1"/>
          <p:nvPr/>
        </p:nvSpPr>
        <p:spPr>
          <a:xfrm>
            <a:off x="4751280" y="27525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5156280" y="36291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9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2813040" y="312912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6.2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3851280" y="39243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2.1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5427720" y="3171960"/>
            <a:ext cx="1384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$ 1.5 mil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279360" y="5460840"/>
            <a:ext cx="75819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lifecycle cost for single company over five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0 PC users, three packages per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cost:  $14.8 mill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:  Gartner Group, April 1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152280" y="228600"/>
            <a:ext cx="883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ack Of Software Management Is Cost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6324480" y="2666880"/>
            <a:ext cx="914400" cy="30492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162920" y="2438280"/>
            <a:ext cx="18288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163/pkg./y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31840" y="1481040"/>
            <a:ext cx="46990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% of software cost due to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istribution and install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ystem Administrator Nee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990720" y="1181160"/>
            <a:ext cx="716292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oubleshoot and fix problems without visiting each PC individ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track of hardware and software inventory and software lic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l out new applications, custom software and upgrades quickly and reli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y task of running applications of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2820960" y="4754520"/>
            <a:ext cx="35020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0" y="291960"/>
            <a:ext cx="90676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</a:t>
            </a:r>
            <a:br>
              <a:rPr sz="4400"/>
            </a:b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d Desktop Management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ur Integrated Fun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90720" y="380988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676440" y="2952720"/>
            <a:ext cx="80103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gnostics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networke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"/>
          <p:cNvSpPr txBox="1"/>
          <p:nvPr/>
        </p:nvSpPr>
        <p:spPr>
          <a:xfrm>
            <a:off x="0" y="47304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rdware and Software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905040" y="2552760"/>
            <a:ext cx="7334280" cy="11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ally collects info about all PCs in the LAN - hardware and software inven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384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5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6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387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391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39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4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97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39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00" name=""/>
          <p:cNvGrpSpPr/>
          <p:nvPr/>
        </p:nvGrpSpPr>
        <p:grpSpPr>
          <a:xfrm>
            <a:off x="4381560" y="5156280"/>
            <a:ext cx="2057400" cy="692640"/>
            <a:chOff x="4381560" y="5156280"/>
            <a:chExt cx="2057400" cy="692640"/>
          </a:xfrm>
        </p:grpSpPr>
        <p:sp>
          <p:nvSpPr>
            <p:cNvPr id="1401" name=""/>
            <p:cNvSpPr/>
            <p:nvPr/>
          </p:nvSpPr>
          <p:spPr>
            <a:xfrm>
              <a:off x="5083200" y="5448240"/>
              <a:ext cx="1349640" cy="398880"/>
            </a:xfrm>
            <a:custGeom>
              <a:avLst/>
              <a:gdLst/>
              <a:ahLst/>
              <a:rect l="0" t="0" r="r" b="b"/>
              <a:pathLst>
                <a:path w="3749" h="1108">
                  <a:moveTo>
                    <a:pt x="3749" y="1108"/>
                  </a:moveTo>
                  <a:lnTo>
                    <a:pt x="3472" y="1108"/>
                  </a:lnTo>
                  <a:lnTo>
                    <a:pt x="3398" y="1028"/>
                  </a:lnTo>
                  <a:lnTo>
                    <a:pt x="3306" y="955"/>
                  </a:lnTo>
                  <a:lnTo>
                    <a:pt x="3195" y="889"/>
                  </a:lnTo>
                  <a:lnTo>
                    <a:pt x="3084" y="818"/>
                  </a:lnTo>
                  <a:lnTo>
                    <a:pt x="2973" y="760"/>
                  </a:lnTo>
                  <a:lnTo>
                    <a:pt x="2862" y="712"/>
                  </a:lnTo>
                  <a:lnTo>
                    <a:pt x="2758" y="666"/>
                  </a:lnTo>
                  <a:lnTo>
                    <a:pt x="2629" y="614"/>
                  </a:lnTo>
                  <a:lnTo>
                    <a:pt x="2481" y="569"/>
                  </a:lnTo>
                  <a:lnTo>
                    <a:pt x="2296" y="517"/>
                  </a:lnTo>
                  <a:lnTo>
                    <a:pt x="2130" y="475"/>
                  </a:lnTo>
                  <a:lnTo>
                    <a:pt x="1964" y="433"/>
                  </a:lnTo>
                  <a:lnTo>
                    <a:pt x="1778" y="395"/>
                  </a:lnTo>
                  <a:lnTo>
                    <a:pt x="1557" y="346"/>
                  </a:lnTo>
                  <a:lnTo>
                    <a:pt x="1298" y="294"/>
                  </a:lnTo>
                  <a:lnTo>
                    <a:pt x="1114" y="262"/>
                  </a:lnTo>
                  <a:lnTo>
                    <a:pt x="910" y="230"/>
                  </a:lnTo>
                  <a:lnTo>
                    <a:pt x="720" y="199"/>
                  </a:lnTo>
                  <a:lnTo>
                    <a:pt x="535" y="171"/>
                  </a:lnTo>
                  <a:lnTo>
                    <a:pt x="240" y="136"/>
                  </a:lnTo>
                  <a:lnTo>
                    <a:pt x="0" y="116"/>
                  </a:lnTo>
                  <a:lnTo>
                    <a:pt x="73" y="0"/>
                  </a:lnTo>
                  <a:lnTo>
                    <a:pt x="480" y="38"/>
                  </a:lnTo>
                  <a:lnTo>
                    <a:pt x="910" y="95"/>
                  </a:lnTo>
                  <a:lnTo>
                    <a:pt x="1280" y="154"/>
                  </a:lnTo>
                  <a:lnTo>
                    <a:pt x="1667" y="230"/>
                  </a:lnTo>
                  <a:lnTo>
                    <a:pt x="2222" y="336"/>
                  </a:lnTo>
                  <a:lnTo>
                    <a:pt x="2684" y="451"/>
                  </a:lnTo>
                  <a:lnTo>
                    <a:pt x="3084" y="572"/>
                  </a:lnTo>
                  <a:lnTo>
                    <a:pt x="3324" y="680"/>
                  </a:lnTo>
                  <a:lnTo>
                    <a:pt x="3564" y="815"/>
                  </a:lnTo>
                  <a:lnTo>
                    <a:pt x="3656" y="927"/>
                  </a:lnTo>
                  <a:lnTo>
                    <a:pt x="3749" y="1108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81560" y="5156280"/>
              <a:ext cx="962280" cy="206640"/>
            </a:xfrm>
            <a:custGeom>
              <a:avLst/>
              <a:gdLst/>
              <a:ahLst/>
              <a:rect l="0" t="0" r="r" b="b"/>
              <a:pathLst>
                <a:path w="2673" h="574">
                  <a:moveTo>
                    <a:pt x="606" y="574"/>
                  </a:moveTo>
                  <a:lnTo>
                    <a:pt x="0" y="574"/>
                  </a:lnTo>
                  <a:lnTo>
                    <a:pt x="153" y="551"/>
                  </a:lnTo>
                  <a:lnTo>
                    <a:pt x="312" y="525"/>
                  </a:lnTo>
                  <a:lnTo>
                    <a:pt x="478" y="492"/>
                  </a:lnTo>
                  <a:lnTo>
                    <a:pt x="674" y="450"/>
                  </a:lnTo>
                  <a:lnTo>
                    <a:pt x="882" y="408"/>
                  </a:lnTo>
                  <a:lnTo>
                    <a:pt x="1078" y="366"/>
                  </a:lnTo>
                  <a:lnTo>
                    <a:pt x="1244" y="328"/>
                  </a:lnTo>
                  <a:lnTo>
                    <a:pt x="1392" y="294"/>
                  </a:lnTo>
                  <a:lnTo>
                    <a:pt x="1527" y="254"/>
                  </a:lnTo>
                  <a:lnTo>
                    <a:pt x="1661" y="215"/>
                  </a:lnTo>
                  <a:lnTo>
                    <a:pt x="1802" y="169"/>
                  </a:lnTo>
                  <a:lnTo>
                    <a:pt x="1913" y="125"/>
                  </a:lnTo>
                  <a:lnTo>
                    <a:pt x="2017" y="81"/>
                  </a:lnTo>
                  <a:lnTo>
                    <a:pt x="2121" y="34"/>
                  </a:lnTo>
                  <a:lnTo>
                    <a:pt x="2207" y="0"/>
                  </a:lnTo>
                  <a:lnTo>
                    <a:pt x="2673" y="0"/>
                  </a:lnTo>
                  <a:lnTo>
                    <a:pt x="2581" y="62"/>
                  </a:lnTo>
                  <a:lnTo>
                    <a:pt x="2372" y="155"/>
                  </a:lnTo>
                  <a:lnTo>
                    <a:pt x="2109" y="272"/>
                  </a:lnTo>
                  <a:lnTo>
                    <a:pt x="1821" y="358"/>
                  </a:lnTo>
                  <a:lnTo>
                    <a:pt x="1416" y="438"/>
                  </a:lnTo>
                  <a:lnTo>
                    <a:pt x="1078" y="516"/>
                  </a:lnTo>
                  <a:lnTo>
                    <a:pt x="753" y="574"/>
                  </a:lnTo>
                  <a:lnTo>
                    <a:pt x="6" y="574"/>
                  </a:lnTo>
                  <a:lnTo>
                    <a:pt x="18" y="574"/>
                  </a:lnTo>
                  <a:lnTo>
                    <a:pt x="606" y="57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386240" y="5365800"/>
              <a:ext cx="590760" cy="246600"/>
            </a:xfrm>
            <a:custGeom>
              <a:avLst/>
              <a:gdLst/>
              <a:ahLst/>
              <a:rect l="0" t="0" r="r" b="b"/>
              <a:pathLst>
                <a:path w="1641" h="685">
                  <a:moveTo>
                    <a:pt x="1641" y="685"/>
                  </a:moveTo>
                  <a:lnTo>
                    <a:pt x="1134" y="685"/>
                  </a:lnTo>
                  <a:lnTo>
                    <a:pt x="1092" y="641"/>
                  </a:lnTo>
                  <a:lnTo>
                    <a:pt x="1050" y="596"/>
                  </a:lnTo>
                  <a:lnTo>
                    <a:pt x="996" y="553"/>
                  </a:lnTo>
                  <a:lnTo>
                    <a:pt x="941" y="507"/>
                  </a:lnTo>
                  <a:lnTo>
                    <a:pt x="875" y="456"/>
                  </a:lnTo>
                  <a:lnTo>
                    <a:pt x="802" y="401"/>
                  </a:lnTo>
                  <a:lnTo>
                    <a:pt x="693" y="331"/>
                  </a:lnTo>
                  <a:lnTo>
                    <a:pt x="597" y="264"/>
                  </a:lnTo>
                  <a:lnTo>
                    <a:pt x="518" y="220"/>
                  </a:lnTo>
                  <a:lnTo>
                    <a:pt x="410" y="166"/>
                  </a:lnTo>
                  <a:lnTo>
                    <a:pt x="283" y="109"/>
                  </a:lnTo>
                  <a:lnTo>
                    <a:pt x="162" y="58"/>
                  </a:lnTo>
                  <a:lnTo>
                    <a:pt x="66" y="21"/>
                  </a:lnTo>
                  <a:lnTo>
                    <a:pt x="0" y="0"/>
                  </a:lnTo>
                  <a:lnTo>
                    <a:pt x="627" y="0"/>
                  </a:lnTo>
                  <a:lnTo>
                    <a:pt x="784" y="42"/>
                  </a:lnTo>
                  <a:lnTo>
                    <a:pt x="1002" y="128"/>
                  </a:lnTo>
                  <a:lnTo>
                    <a:pt x="1219" y="229"/>
                  </a:lnTo>
                  <a:lnTo>
                    <a:pt x="1345" y="319"/>
                  </a:lnTo>
                  <a:lnTo>
                    <a:pt x="1496" y="421"/>
                  </a:lnTo>
                  <a:lnTo>
                    <a:pt x="1599" y="527"/>
                  </a:lnTo>
                  <a:lnTo>
                    <a:pt x="1635" y="599"/>
                  </a:lnTo>
                  <a:lnTo>
                    <a:pt x="1641" y="685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8360" y="5156280"/>
              <a:ext cx="1830600" cy="692640"/>
            </a:xfrm>
            <a:custGeom>
              <a:avLst/>
              <a:gdLst/>
              <a:ahLst/>
              <a:rect l="0" t="0" r="r" b="b"/>
              <a:pathLst>
                <a:path w="5085" h="1924">
                  <a:moveTo>
                    <a:pt x="5048" y="1924"/>
                  </a:moveTo>
                  <a:lnTo>
                    <a:pt x="5085" y="1819"/>
                  </a:lnTo>
                  <a:lnTo>
                    <a:pt x="5085" y="1767"/>
                  </a:lnTo>
                  <a:lnTo>
                    <a:pt x="5085" y="1704"/>
                  </a:lnTo>
                  <a:lnTo>
                    <a:pt x="5066" y="1644"/>
                  </a:lnTo>
                  <a:lnTo>
                    <a:pt x="5048" y="1584"/>
                  </a:lnTo>
                  <a:lnTo>
                    <a:pt x="5011" y="1526"/>
                  </a:lnTo>
                  <a:lnTo>
                    <a:pt x="4955" y="1474"/>
                  </a:lnTo>
                  <a:lnTo>
                    <a:pt x="4900" y="1413"/>
                  </a:lnTo>
                  <a:lnTo>
                    <a:pt x="4808" y="1343"/>
                  </a:lnTo>
                  <a:lnTo>
                    <a:pt x="4697" y="1280"/>
                  </a:lnTo>
                  <a:lnTo>
                    <a:pt x="4604" y="1220"/>
                  </a:lnTo>
                  <a:lnTo>
                    <a:pt x="4475" y="1154"/>
                  </a:lnTo>
                  <a:lnTo>
                    <a:pt x="4327" y="1091"/>
                  </a:lnTo>
                  <a:lnTo>
                    <a:pt x="4179" y="1028"/>
                  </a:lnTo>
                  <a:lnTo>
                    <a:pt x="4037" y="975"/>
                  </a:lnTo>
                  <a:lnTo>
                    <a:pt x="3889" y="916"/>
                  </a:lnTo>
                  <a:lnTo>
                    <a:pt x="3741" y="866"/>
                  </a:lnTo>
                  <a:lnTo>
                    <a:pt x="3575" y="809"/>
                  </a:lnTo>
                  <a:lnTo>
                    <a:pt x="3409" y="753"/>
                  </a:lnTo>
                  <a:lnTo>
                    <a:pt x="3205" y="697"/>
                  </a:lnTo>
                  <a:lnTo>
                    <a:pt x="3039" y="648"/>
                  </a:lnTo>
                  <a:lnTo>
                    <a:pt x="2817" y="596"/>
                  </a:lnTo>
                  <a:lnTo>
                    <a:pt x="2614" y="547"/>
                  </a:lnTo>
                  <a:lnTo>
                    <a:pt x="2409" y="501"/>
                  </a:lnTo>
                  <a:lnTo>
                    <a:pt x="2187" y="462"/>
                  </a:lnTo>
                  <a:lnTo>
                    <a:pt x="1996" y="430"/>
                  </a:lnTo>
                  <a:lnTo>
                    <a:pt x="1793" y="406"/>
                  </a:lnTo>
                  <a:lnTo>
                    <a:pt x="2064" y="0"/>
                  </a:lnTo>
                  <a:lnTo>
                    <a:pt x="1922" y="57"/>
                  </a:lnTo>
                  <a:lnTo>
                    <a:pt x="1774" y="123"/>
                  </a:lnTo>
                  <a:lnTo>
                    <a:pt x="1645" y="176"/>
                  </a:lnTo>
                  <a:lnTo>
                    <a:pt x="1546" y="215"/>
                  </a:lnTo>
                  <a:lnTo>
                    <a:pt x="1423" y="259"/>
                  </a:lnTo>
                  <a:lnTo>
                    <a:pt x="1312" y="294"/>
                  </a:lnTo>
                  <a:lnTo>
                    <a:pt x="1189" y="328"/>
                  </a:lnTo>
                  <a:lnTo>
                    <a:pt x="1047" y="361"/>
                  </a:lnTo>
                  <a:lnTo>
                    <a:pt x="905" y="394"/>
                  </a:lnTo>
                  <a:lnTo>
                    <a:pt x="727" y="434"/>
                  </a:lnTo>
                  <a:lnTo>
                    <a:pt x="536" y="472"/>
                  </a:lnTo>
                  <a:lnTo>
                    <a:pt x="375" y="508"/>
                  </a:lnTo>
                  <a:lnTo>
                    <a:pt x="166" y="547"/>
                  </a:lnTo>
                  <a:lnTo>
                    <a:pt x="0" y="578"/>
                  </a:lnTo>
                  <a:lnTo>
                    <a:pt x="73" y="610"/>
                  </a:lnTo>
                  <a:lnTo>
                    <a:pt x="166" y="641"/>
                  </a:lnTo>
                  <a:lnTo>
                    <a:pt x="246" y="675"/>
                  </a:lnTo>
                  <a:lnTo>
                    <a:pt x="332" y="715"/>
                  </a:lnTo>
                  <a:lnTo>
                    <a:pt x="419" y="756"/>
                  </a:lnTo>
                  <a:lnTo>
                    <a:pt x="486" y="793"/>
                  </a:lnTo>
                  <a:lnTo>
                    <a:pt x="542" y="829"/>
                  </a:lnTo>
                  <a:lnTo>
                    <a:pt x="610" y="870"/>
                  </a:lnTo>
                  <a:lnTo>
                    <a:pt x="665" y="913"/>
                  </a:lnTo>
                  <a:lnTo>
                    <a:pt x="727" y="958"/>
                  </a:lnTo>
                  <a:lnTo>
                    <a:pt x="782" y="999"/>
                  </a:lnTo>
                  <a:lnTo>
                    <a:pt x="838" y="1038"/>
                  </a:lnTo>
                  <a:lnTo>
                    <a:pt x="875" y="1081"/>
                  </a:lnTo>
                  <a:lnTo>
                    <a:pt x="924" y="1122"/>
                  </a:lnTo>
                  <a:lnTo>
                    <a:pt x="967" y="1161"/>
                  </a:lnTo>
                  <a:lnTo>
                    <a:pt x="1016" y="1206"/>
                  </a:lnTo>
                  <a:lnTo>
                    <a:pt x="1053" y="1268"/>
                  </a:lnTo>
                  <a:lnTo>
                    <a:pt x="1442" y="848"/>
                  </a:lnTo>
                  <a:lnTo>
                    <a:pt x="1737" y="876"/>
                  </a:lnTo>
                  <a:lnTo>
                    <a:pt x="1959" y="909"/>
                  </a:lnTo>
                  <a:lnTo>
                    <a:pt x="2372" y="968"/>
                  </a:lnTo>
                  <a:lnTo>
                    <a:pt x="2558" y="1003"/>
                  </a:lnTo>
                  <a:lnTo>
                    <a:pt x="2743" y="1038"/>
                  </a:lnTo>
                  <a:lnTo>
                    <a:pt x="3057" y="1101"/>
                  </a:lnTo>
                  <a:lnTo>
                    <a:pt x="3242" y="1140"/>
                  </a:lnTo>
                  <a:lnTo>
                    <a:pt x="3464" y="1185"/>
                  </a:lnTo>
                  <a:lnTo>
                    <a:pt x="3630" y="1227"/>
                  </a:lnTo>
                  <a:lnTo>
                    <a:pt x="3778" y="1262"/>
                  </a:lnTo>
                  <a:lnTo>
                    <a:pt x="3926" y="1297"/>
                  </a:lnTo>
                  <a:lnTo>
                    <a:pt x="4074" y="1339"/>
                  </a:lnTo>
                  <a:lnTo>
                    <a:pt x="4216" y="1385"/>
                  </a:lnTo>
                  <a:lnTo>
                    <a:pt x="4327" y="1431"/>
                  </a:lnTo>
                  <a:lnTo>
                    <a:pt x="4456" y="1477"/>
                  </a:lnTo>
                  <a:lnTo>
                    <a:pt x="4567" y="1533"/>
                  </a:lnTo>
                  <a:lnTo>
                    <a:pt x="4660" y="1584"/>
                  </a:lnTo>
                  <a:lnTo>
                    <a:pt x="4734" y="1644"/>
                  </a:lnTo>
                  <a:lnTo>
                    <a:pt x="4808" y="1700"/>
                  </a:lnTo>
                  <a:lnTo>
                    <a:pt x="4882" y="1760"/>
                  </a:lnTo>
                  <a:lnTo>
                    <a:pt x="4937" y="1823"/>
                  </a:lnTo>
                  <a:lnTo>
                    <a:pt x="5048" y="1924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5" name=""/>
          <p:cNvSpPr txBox="1"/>
          <p:nvPr/>
        </p:nvSpPr>
        <p:spPr>
          <a:xfrm>
            <a:off x="4610160" y="516240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581040" y="1981080"/>
            <a:ext cx="7981920" cy="26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software once, then automatically distribute and install to desktop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custom or standard applications, patches or data files; run virus 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ventory database to target machines that need applications or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0" y="406440"/>
            <a:ext cx="914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mes:  Four Integrated Functions</a:t>
            </a:r>
            <a:br>
              <a:rPr sz="4400"/>
            </a:b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istribution and Instal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2844720" y="5086440"/>
            <a:ext cx="1765440" cy="1523880"/>
            <a:chOff x="2844720" y="5086440"/>
            <a:chExt cx="1765440" cy="1523880"/>
          </a:xfrm>
        </p:grpSpPr>
        <p:pic>
          <p:nvPicPr>
            <p:cNvPr id="1411" name="" descr=""/>
            <p:cNvPicPr/>
            <p:nvPr/>
          </p:nvPicPr>
          <p:blipFill>
            <a:blip r:embed="rId1"/>
            <a:stretch/>
          </p:blipFill>
          <p:spPr>
            <a:xfrm>
              <a:off x="2844720" y="508644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2" name="" descr=""/>
            <p:cNvPicPr/>
            <p:nvPr/>
          </p:nvPicPr>
          <p:blipFill>
            <a:blip r:embed="rId2"/>
            <a:stretch/>
          </p:blipFill>
          <p:spPr>
            <a:xfrm>
              <a:off x="3675240" y="5402160"/>
              <a:ext cx="48420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3" name=""/>
          <p:cNvGrpSpPr/>
          <p:nvPr/>
        </p:nvGrpSpPr>
        <p:grpSpPr>
          <a:xfrm>
            <a:off x="2892600" y="6305400"/>
            <a:ext cx="434880" cy="435240"/>
            <a:chOff x="2892600" y="6305400"/>
            <a:chExt cx="434880" cy="435240"/>
          </a:xfrm>
        </p:grpSpPr>
        <p:sp>
          <p:nvSpPr>
            <p:cNvPr id="1414" name=""/>
            <p:cNvSpPr/>
            <p:nvPr/>
          </p:nvSpPr>
          <p:spPr>
            <a:xfrm>
              <a:off x="2892600" y="656604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6392880"/>
              <a:ext cx="434880" cy="26028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92600" y="6305400"/>
              <a:ext cx="434880" cy="174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081d5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6673680" y="5353200"/>
            <a:ext cx="1136520" cy="1449360"/>
            <a:chOff x="6673680" y="5353200"/>
            <a:chExt cx="1136520" cy="1449360"/>
          </a:xfrm>
        </p:grpSpPr>
        <p:grpSp>
          <p:nvGrpSpPr>
            <p:cNvPr id="1418" name=""/>
            <p:cNvGrpSpPr/>
            <p:nvPr/>
          </p:nvGrpSpPr>
          <p:grpSpPr>
            <a:xfrm>
              <a:off x="6673680" y="5353200"/>
              <a:ext cx="679320" cy="839880"/>
              <a:chOff x="6673680" y="5353200"/>
              <a:chExt cx="679320" cy="839880"/>
            </a:xfrm>
          </p:grpSpPr>
          <p:pic>
            <p:nvPicPr>
              <p:cNvPr id="14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73680" y="535320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851520" y="547200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1" name=""/>
            <p:cNvGrpSpPr/>
            <p:nvPr/>
          </p:nvGrpSpPr>
          <p:grpSpPr>
            <a:xfrm>
              <a:off x="6902280" y="5657760"/>
              <a:ext cx="679320" cy="839880"/>
              <a:chOff x="6902280" y="5657760"/>
              <a:chExt cx="679320" cy="839880"/>
            </a:xfrm>
          </p:grpSpPr>
          <p:pic>
            <p:nvPicPr>
              <p:cNvPr id="142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02280" y="5657760"/>
                <a:ext cx="67932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80120" y="5776920"/>
                <a:ext cx="326880" cy="27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24" name=""/>
            <p:cNvGrpSpPr/>
            <p:nvPr/>
          </p:nvGrpSpPr>
          <p:grpSpPr>
            <a:xfrm>
              <a:off x="7115040" y="5997600"/>
              <a:ext cx="695160" cy="804960"/>
              <a:chOff x="7115040" y="5997600"/>
              <a:chExt cx="695160" cy="804960"/>
            </a:xfrm>
          </p:grpSpPr>
          <p:pic>
            <p:nvPicPr>
              <p:cNvPr id="142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115040" y="5997600"/>
                <a:ext cx="69516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6111720"/>
                <a:ext cx="33336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27" name=""/>
          <p:cNvSpPr txBox="1"/>
          <p:nvPr/>
        </p:nvSpPr>
        <p:spPr>
          <a:xfrm>
            <a:off x="1333440" y="5467320"/>
            <a:ext cx="1828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m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4800600" y="511164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4419720" y="5257800"/>
            <a:ext cx="2286360" cy="997560"/>
            <a:chOff x="4419720" y="5257800"/>
            <a:chExt cx="2286360" cy="997560"/>
          </a:xfrm>
        </p:grpSpPr>
        <p:sp>
          <p:nvSpPr>
            <p:cNvPr id="1430" name=""/>
            <p:cNvSpPr/>
            <p:nvPr/>
          </p:nvSpPr>
          <p:spPr>
            <a:xfrm>
              <a:off x="4427640" y="5259240"/>
              <a:ext cx="1497240" cy="574920"/>
            </a:xfrm>
            <a:custGeom>
              <a:avLst/>
              <a:gdLst/>
              <a:ahLst/>
              <a:rect l="0" t="0" r="r" b="b"/>
              <a:pathLst>
                <a:path w="4159" h="1597">
                  <a:moveTo>
                    <a:pt x="0" y="0"/>
                  </a:moveTo>
                  <a:lnTo>
                    <a:pt x="307" y="0"/>
                  </a:lnTo>
                  <a:lnTo>
                    <a:pt x="389" y="115"/>
                  </a:lnTo>
                  <a:lnTo>
                    <a:pt x="491" y="220"/>
                  </a:lnTo>
                  <a:lnTo>
                    <a:pt x="614" y="316"/>
                  </a:lnTo>
                  <a:lnTo>
                    <a:pt x="737" y="416"/>
                  </a:lnTo>
                  <a:lnTo>
                    <a:pt x="860" y="500"/>
                  </a:lnTo>
                  <a:lnTo>
                    <a:pt x="983" y="570"/>
                  </a:lnTo>
                  <a:lnTo>
                    <a:pt x="1099" y="635"/>
                  </a:lnTo>
                  <a:lnTo>
                    <a:pt x="1242" y="711"/>
                  </a:lnTo>
                  <a:lnTo>
                    <a:pt x="1406" y="776"/>
                  </a:lnTo>
                  <a:lnTo>
                    <a:pt x="1611" y="852"/>
                  </a:lnTo>
                  <a:lnTo>
                    <a:pt x="1795" y="912"/>
                  </a:lnTo>
                  <a:lnTo>
                    <a:pt x="1980" y="973"/>
                  </a:lnTo>
                  <a:lnTo>
                    <a:pt x="2186" y="1028"/>
                  </a:lnTo>
                  <a:lnTo>
                    <a:pt x="2431" y="1098"/>
                  </a:lnTo>
                  <a:lnTo>
                    <a:pt x="2718" y="1173"/>
                  </a:lnTo>
                  <a:lnTo>
                    <a:pt x="2923" y="1219"/>
                  </a:lnTo>
                  <a:lnTo>
                    <a:pt x="3148" y="1264"/>
                  </a:lnTo>
                  <a:lnTo>
                    <a:pt x="3360" y="1309"/>
                  </a:lnTo>
                  <a:lnTo>
                    <a:pt x="3565" y="1349"/>
                  </a:lnTo>
                  <a:lnTo>
                    <a:pt x="3893" y="1399"/>
                  </a:lnTo>
                  <a:lnTo>
                    <a:pt x="4159" y="1429"/>
                  </a:lnTo>
                  <a:lnTo>
                    <a:pt x="4077" y="1597"/>
                  </a:lnTo>
                  <a:lnTo>
                    <a:pt x="3626" y="1542"/>
                  </a:lnTo>
                  <a:lnTo>
                    <a:pt x="3148" y="1460"/>
                  </a:lnTo>
                  <a:lnTo>
                    <a:pt x="2739" y="1374"/>
                  </a:lnTo>
                  <a:lnTo>
                    <a:pt x="2308" y="1264"/>
                  </a:lnTo>
                  <a:lnTo>
                    <a:pt x="1693" y="1113"/>
                  </a:lnTo>
                  <a:lnTo>
                    <a:pt x="1181" y="948"/>
                  </a:lnTo>
                  <a:lnTo>
                    <a:pt x="737" y="771"/>
                  </a:lnTo>
                  <a:lnTo>
                    <a:pt x="471" y="615"/>
                  </a:lnTo>
                  <a:lnTo>
                    <a:pt x="204" y="421"/>
                  </a:lnTo>
                  <a:lnTo>
                    <a:pt x="102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635800" y="5958000"/>
              <a:ext cx="1070280" cy="297360"/>
            </a:xfrm>
            <a:custGeom>
              <a:avLst/>
              <a:gdLst/>
              <a:ahLst/>
              <a:rect l="0" t="0" r="r" b="b"/>
              <a:pathLst>
                <a:path w="2973" h="826">
                  <a:moveTo>
                    <a:pt x="2298" y="0"/>
                  </a:moveTo>
                  <a:lnTo>
                    <a:pt x="2973" y="0"/>
                  </a:lnTo>
                  <a:lnTo>
                    <a:pt x="2802" y="33"/>
                  </a:lnTo>
                  <a:lnTo>
                    <a:pt x="2625" y="69"/>
                  </a:lnTo>
                  <a:lnTo>
                    <a:pt x="2441" y="118"/>
                  </a:lnTo>
                  <a:lnTo>
                    <a:pt x="2223" y="178"/>
                  </a:lnTo>
                  <a:lnTo>
                    <a:pt x="1991" y="239"/>
                  </a:lnTo>
                  <a:lnTo>
                    <a:pt x="1773" y="299"/>
                  </a:lnTo>
                  <a:lnTo>
                    <a:pt x="1589" y="354"/>
                  </a:lnTo>
                  <a:lnTo>
                    <a:pt x="1424" y="404"/>
                  </a:lnTo>
                  <a:lnTo>
                    <a:pt x="1274" y="459"/>
                  </a:lnTo>
                  <a:lnTo>
                    <a:pt x="1124" y="515"/>
                  </a:lnTo>
                  <a:lnTo>
                    <a:pt x="967" y="582"/>
                  </a:lnTo>
                  <a:lnTo>
                    <a:pt x="845" y="646"/>
                  </a:lnTo>
                  <a:lnTo>
                    <a:pt x="729" y="710"/>
                  </a:lnTo>
                  <a:lnTo>
                    <a:pt x="613" y="776"/>
                  </a:lnTo>
                  <a:lnTo>
                    <a:pt x="518" y="826"/>
                  </a:lnTo>
                  <a:lnTo>
                    <a:pt x="0" y="826"/>
                  </a:lnTo>
                  <a:lnTo>
                    <a:pt x="102" y="736"/>
                  </a:lnTo>
                  <a:lnTo>
                    <a:pt x="334" y="602"/>
                  </a:lnTo>
                  <a:lnTo>
                    <a:pt x="627" y="434"/>
                  </a:lnTo>
                  <a:lnTo>
                    <a:pt x="947" y="310"/>
                  </a:lnTo>
                  <a:lnTo>
                    <a:pt x="1397" y="194"/>
                  </a:lnTo>
                  <a:lnTo>
                    <a:pt x="1773" y="83"/>
                  </a:lnTo>
                  <a:lnTo>
                    <a:pt x="2134" y="0"/>
                  </a:lnTo>
                  <a:lnTo>
                    <a:pt x="2966" y="0"/>
                  </a:lnTo>
                  <a:lnTo>
                    <a:pt x="2952" y="0"/>
                  </a:lnTo>
                  <a:lnTo>
                    <a:pt x="2298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043680" y="5599080"/>
              <a:ext cx="655920" cy="354240"/>
            </a:xfrm>
            <a:custGeom>
              <a:avLst/>
              <a:gdLst/>
              <a:ahLst/>
              <a:rect l="0" t="0" r="r" b="b"/>
              <a:pathLst>
                <a:path w="1822" h="984">
                  <a:moveTo>
                    <a:pt x="0" y="0"/>
                  </a:moveTo>
                  <a:lnTo>
                    <a:pt x="562" y="0"/>
                  </a:lnTo>
                  <a:lnTo>
                    <a:pt x="609" y="63"/>
                  </a:lnTo>
                  <a:lnTo>
                    <a:pt x="656" y="128"/>
                  </a:lnTo>
                  <a:lnTo>
                    <a:pt x="716" y="189"/>
                  </a:lnTo>
                  <a:lnTo>
                    <a:pt x="776" y="254"/>
                  </a:lnTo>
                  <a:lnTo>
                    <a:pt x="850" y="327"/>
                  </a:lnTo>
                  <a:lnTo>
                    <a:pt x="931" y="407"/>
                  </a:lnTo>
                  <a:lnTo>
                    <a:pt x="1052" y="508"/>
                  </a:lnTo>
                  <a:lnTo>
                    <a:pt x="1159" y="604"/>
                  </a:lnTo>
                  <a:lnTo>
                    <a:pt x="1246" y="668"/>
                  </a:lnTo>
                  <a:lnTo>
                    <a:pt x="1366" y="744"/>
                  </a:lnTo>
                  <a:lnTo>
                    <a:pt x="1507" y="826"/>
                  </a:lnTo>
                  <a:lnTo>
                    <a:pt x="1641" y="899"/>
                  </a:lnTo>
                  <a:lnTo>
                    <a:pt x="1748" y="952"/>
                  </a:lnTo>
                  <a:lnTo>
                    <a:pt x="1822" y="984"/>
                  </a:lnTo>
                  <a:lnTo>
                    <a:pt x="1125" y="984"/>
                  </a:lnTo>
                  <a:lnTo>
                    <a:pt x="951" y="922"/>
                  </a:lnTo>
                  <a:lnTo>
                    <a:pt x="709" y="799"/>
                  </a:lnTo>
                  <a:lnTo>
                    <a:pt x="468" y="654"/>
                  </a:lnTo>
                  <a:lnTo>
                    <a:pt x="328" y="526"/>
                  </a:lnTo>
                  <a:lnTo>
                    <a:pt x="160" y="377"/>
                  </a:lnTo>
                  <a:lnTo>
                    <a:pt x="46" y="227"/>
                  </a:lnTo>
                  <a:lnTo>
                    <a:pt x="6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9720" y="5257800"/>
              <a:ext cx="2034000" cy="997200"/>
            </a:xfrm>
            <a:custGeom>
              <a:avLst/>
              <a:gdLst/>
              <a:ahLst/>
              <a:rect l="0" t="0" r="r" b="b"/>
              <a:pathLst>
                <a:path w="5650" h="2770">
                  <a:moveTo>
                    <a:pt x="41" y="0"/>
                  </a:moveTo>
                  <a:lnTo>
                    <a:pt x="0" y="151"/>
                  </a:lnTo>
                  <a:lnTo>
                    <a:pt x="0" y="226"/>
                  </a:lnTo>
                  <a:lnTo>
                    <a:pt x="0" y="317"/>
                  </a:lnTo>
                  <a:lnTo>
                    <a:pt x="20" y="403"/>
                  </a:lnTo>
                  <a:lnTo>
                    <a:pt x="41" y="489"/>
                  </a:lnTo>
                  <a:lnTo>
                    <a:pt x="82" y="573"/>
                  </a:lnTo>
                  <a:lnTo>
                    <a:pt x="143" y="649"/>
                  </a:lnTo>
                  <a:lnTo>
                    <a:pt x="205" y="734"/>
                  </a:lnTo>
                  <a:lnTo>
                    <a:pt x="308" y="835"/>
                  </a:lnTo>
                  <a:lnTo>
                    <a:pt x="431" y="926"/>
                  </a:lnTo>
                  <a:lnTo>
                    <a:pt x="534" y="1012"/>
                  </a:lnTo>
                  <a:lnTo>
                    <a:pt x="677" y="1108"/>
                  </a:lnTo>
                  <a:lnTo>
                    <a:pt x="842" y="1198"/>
                  </a:lnTo>
                  <a:lnTo>
                    <a:pt x="1006" y="1289"/>
                  </a:lnTo>
                  <a:lnTo>
                    <a:pt x="1164" y="1365"/>
                  </a:lnTo>
                  <a:lnTo>
                    <a:pt x="1328" y="1452"/>
                  </a:lnTo>
                  <a:lnTo>
                    <a:pt x="1493" y="1524"/>
                  </a:lnTo>
                  <a:lnTo>
                    <a:pt x="1678" y="1605"/>
                  </a:lnTo>
                  <a:lnTo>
                    <a:pt x="1863" y="1685"/>
                  </a:lnTo>
                  <a:lnTo>
                    <a:pt x="2089" y="1766"/>
                  </a:lnTo>
                  <a:lnTo>
                    <a:pt x="2274" y="1837"/>
                  </a:lnTo>
                  <a:lnTo>
                    <a:pt x="2520" y="1912"/>
                  </a:lnTo>
                  <a:lnTo>
                    <a:pt x="2746" y="1983"/>
                  </a:lnTo>
                  <a:lnTo>
                    <a:pt x="2972" y="2048"/>
                  </a:lnTo>
                  <a:lnTo>
                    <a:pt x="3219" y="2104"/>
                  </a:lnTo>
                  <a:lnTo>
                    <a:pt x="3431" y="2149"/>
                  </a:lnTo>
                  <a:lnTo>
                    <a:pt x="3657" y="2185"/>
                  </a:lnTo>
                  <a:lnTo>
                    <a:pt x="3356" y="2770"/>
                  </a:lnTo>
                  <a:lnTo>
                    <a:pt x="3513" y="2687"/>
                  </a:lnTo>
                  <a:lnTo>
                    <a:pt x="3677" y="2592"/>
                  </a:lnTo>
                  <a:lnTo>
                    <a:pt x="3821" y="2516"/>
                  </a:lnTo>
                  <a:lnTo>
                    <a:pt x="3931" y="2459"/>
                  </a:lnTo>
                  <a:lnTo>
                    <a:pt x="4068" y="2397"/>
                  </a:lnTo>
                  <a:lnTo>
                    <a:pt x="4191" y="2346"/>
                  </a:lnTo>
                  <a:lnTo>
                    <a:pt x="4329" y="2297"/>
                  </a:lnTo>
                  <a:lnTo>
                    <a:pt x="4486" y="2249"/>
                  </a:lnTo>
                  <a:lnTo>
                    <a:pt x="4644" y="2201"/>
                  </a:lnTo>
                  <a:lnTo>
                    <a:pt x="4842" y="2144"/>
                  </a:lnTo>
                  <a:lnTo>
                    <a:pt x="5055" y="2089"/>
                  </a:lnTo>
                  <a:lnTo>
                    <a:pt x="5233" y="2038"/>
                  </a:lnTo>
                  <a:lnTo>
                    <a:pt x="5465" y="1983"/>
                  </a:lnTo>
                  <a:lnTo>
                    <a:pt x="5650" y="1938"/>
                  </a:lnTo>
                  <a:lnTo>
                    <a:pt x="5568" y="1892"/>
                  </a:lnTo>
                  <a:lnTo>
                    <a:pt x="5465" y="1847"/>
                  </a:lnTo>
                  <a:lnTo>
                    <a:pt x="5376" y="1798"/>
                  </a:lnTo>
                  <a:lnTo>
                    <a:pt x="5281" y="1741"/>
                  </a:lnTo>
                  <a:lnTo>
                    <a:pt x="5185" y="1682"/>
                  </a:lnTo>
                  <a:lnTo>
                    <a:pt x="5109" y="1628"/>
                  </a:lnTo>
                  <a:lnTo>
                    <a:pt x="5048" y="1576"/>
                  </a:lnTo>
                  <a:lnTo>
                    <a:pt x="4972" y="1517"/>
                  </a:lnTo>
                  <a:lnTo>
                    <a:pt x="4911" y="1455"/>
                  </a:lnTo>
                  <a:lnTo>
                    <a:pt x="4842" y="1391"/>
                  </a:lnTo>
                  <a:lnTo>
                    <a:pt x="4781" y="1331"/>
                  </a:lnTo>
                  <a:lnTo>
                    <a:pt x="4719" y="1274"/>
                  </a:lnTo>
                  <a:lnTo>
                    <a:pt x="4678" y="1212"/>
                  </a:lnTo>
                  <a:lnTo>
                    <a:pt x="4623" y="1153"/>
                  </a:lnTo>
                  <a:lnTo>
                    <a:pt x="4575" y="1097"/>
                  </a:lnTo>
                  <a:lnTo>
                    <a:pt x="4521" y="1032"/>
                  </a:lnTo>
                  <a:lnTo>
                    <a:pt x="4480" y="943"/>
                  </a:lnTo>
                  <a:lnTo>
                    <a:pt x="4047" y="1549"/>
                  </a:lnTo>
                  <a:lnTo>
                    <a:pt x="3718" y="1509"/>
                  </a:lnTo>
                  <a:lnTo>
                    <a:pt x="3472" y="1462"/>
                  </a:lnTo>
                  <a:lnTo>
                    <a:pt x="3013" y="1375"/>
                  </a:lnTo>
                  <a:lnTo>
                    <a:pt x="2808" y="1324"/>
                  </a:lnTo>
                  <a:lnTo>
                    <a:pt x="2602" y="1274"/>
                  </a:lnTo>
                  <a:lnTo>
                    <a:pt x="2253" y="1183"/>
                  </a:lnTo>
                  <a:lnTo>
                    <a:pt x="2048" y="1128"/>
                  </a:lnTo>
                  <a:lnTo>
                    <a:pt x="1801" y="1062"/>
                  </a:lnTo>
                  <a:lnTo>
                    <a:pt x="1616" y="1002"/>
                  </a:lnTo>
                  <a:lnTo>
                    <a:pt x="1452" y="951"/>
                  </a:lnTo>
                  <a:lnTo>
                    <a:pt x="1287" y="901"/>
                  </a:lnTo>
                  <a:lnTo>
                    <a:pt x="1122" y="840"/>
                  </a:lnTo>
                  <a:lnTo>
                    <a:pt x="965" y="775"/>
                  </a:lnTo>
                  <a:lnTo>
                    <a:pt x="842" y="709"/>
                  </a:lnTo>
                  <a:lnTo>
                    <a:pt x="698" y="643"/>
                  </a:lnTo>
                  <a:lnTo>
                    <a:pt x="575" y="563"/>
                  </a:lnTo>
                  <a:lnTo>
                    <a:pt x="472" y="489"/>
                  </a:lnTo>
                  <a:lnTo>
                    <a:pt x="390" y="403"/>
                  </a:lnTo>
                  <a:lnTo>
                    <a:pt x="308" y="322"/>
                  </a:lnTo>
                  <a:lnTo>
                    <a:pt x="225" y="237"/>
                  </a:lnTo>
                  <a:lnTo>
                    <a:pt x="164" y="146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3365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