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3365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6095880" y="6324480"/>
            <a:ext cx="2971800" cy="457200"/>
          </a:xfrm>
          <a:prstGeom prst="rect">
            <a:avLst/>
          </a:prstGeom>
          <a:solidFill>
            <a:srgbClr val="f6bf6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c0128"/>
                </a:solidFill>
                <a:latin typeface="Wide Latin"/>
                <a:ea typeface="Wide Latin"/>
              </a:rPr>
              <a:t>VBITS '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04920" y="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6bf69"/>
                </a:solidFill>
                <a:latin typeface="Arial"/>
                <a:ea typeface="Arial"/>
              </a:rPr>
              <a:t>Accessing the Internet with V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298520" y="1204920"/>
            <a:ext cx="6702480" cy="37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l Frankl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echnologies, In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ail: carlf@win2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e level: Intermedi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IP file: INTERNET.Z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IP P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that identifies an application running on an Internet host machi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ster: 262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 - port 8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TP (eMail) - port 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Firewal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er configura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onnections allowed in a certain port rang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eways go out in front of the firewa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IP Machine Na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word stands for a doma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ghtmost domain (top level domain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ster: “grouchy.cs.indiana.edu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: type of organiz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edu   .com   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side USA: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jp (Japan)   .se (Sweden)   .uk (UK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7524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Name Resol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S (Domain Name System) servers return an IP address given a registered Internet host machine na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S (Windows Internet Name System) allows you to import a DNS database for local name resolution (next version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Windows Sock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level - sits on top of TCP/IP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support other protocols in the futu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 = IP Address : IP Por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BX controls available now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9080" y="28440"/>
            <a:ext cx="906768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DSSOCK.VB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1.1 contro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ware, no distribution fe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both Client and Serv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d in sample co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Connecting with DSSO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matter what the protocol (FTP, Gopher, etc) connecting always works the same w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Specify the IP Address or n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Specify the P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ell Sockets to conne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ending and Receiving Da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 Proper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ng prope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eive Ev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es a st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Error Handl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ion Ev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es an error code and message str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need to know when connection is lost. Everything else is handled for yo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The Int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144792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Internet is a Net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CP/IP to communicate with other machines on the net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ample #1: WEBS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s to a Webster’s Dictionary Definition server in Indiana, sends a word and returns its dictionary defini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ample #2: HTM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o browse HTML source tex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y an http lin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s and Returns the source tex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ample #3: WMA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s to a gopher server and downloads the latest satellite image weather map GIF fi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freeware GIF2BMP.DLL to convert the GIF to a BMP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s the BMP file the Windows Wallpap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ample #4: SuperCh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s you chat any other SuperChat user anywhere in the worl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s you chat to more than one person at on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0e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685800" y="22860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Top Ten Research Projects at Clown Colle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76280" y="14288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The correlation of exploding cigars and facial abra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Seltzer vs. soda water: which is funni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Anti-gravity h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Reducing carpool costs by traveling 28 to a c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Big shoes that are resistant to elephant man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Can a cream pie's cholesterol be absorbed through the facial sk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The Hubble telesc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Why chicks dig clow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Prehistoric forerunners of the rubber ween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Should steroids for the feet be bann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666720" y="259092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Resources on the Internet for Visual Basic Programm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22860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Carl &amp; Gary’s Visual Basic Home P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s to all known VB resources on the Interne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s Archive databa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 Revie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 are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ltant list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apexsc.com/v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Other Visual Basic web si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an Knight’s VB Home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xmission.com/~wwwads/www/vb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 State VB Shareware Arch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coyote.csum.edu/cwis/winworld/vbasic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CA Visual Basic Arch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pher://pub.vse.cz:7077/11/msdos/cica/programr/vba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Web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microsoft.com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B Samples from MSD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apexsc.com:80/vb/samp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ual Basic FA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cis.ohio-state.edu/hypertext/faq/usenet/visual-basic-faq/top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Connectivity Op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-up servi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Remote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P connec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DN li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1 servi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Access Provider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71680" y="1600200"/>
            <a:ext cx="796284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IC maintains a compreshensive listing of Internet Access Provide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866960" y="3009960"/>
            <a:ext cx="4915080" cy="26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IC Information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 Atomics (G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.O. Box #856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 Diego, CA 92186-97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ne: 619-455-4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619-455-46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ail: refdesk@is.internic.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History (Window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itionally Unix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0 - Lan Manager (real mode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1 - Netware (real mode) with Windows Redirecto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3 - World Wide Web, Mosaic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3 - Third Party TCP/IP stack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4 - MS TCP/IP 32 bit virtual driv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ample costs (Netcom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P (14.4)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0/m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P (19.2)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/m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sed 56K lin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/m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1 (1.5 Megabit)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0/m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What’s on the CD-ROM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sample code (except DSSOCK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Paper on TCP/IP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Visio draw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IC’s list of Internet Access Providers (current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com Pric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00280" y="257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0" spc="-1" strike="noStrike">
                <a:solidFill>
                  <a:srgbClr val="f6bf69"/>
                </a:solidFill>
                <a:latin typeface="Arial"/>
                <a:ea typeface="Arial"/>
              </a:rPr>
              <a:t>Questions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Internet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414440"/>
            <a:ext cx="913140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ample Co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rieve Webster’s dictionary definitio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ML Source Browse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 Wallpaper an hourly satellite weather photograp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user Internet Cha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Available Programming Too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Stack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(WinSock) for raw communicatio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Level Protocols (FTP, Gopher, Telnet, RCP, Mail, News, etc)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TCP/IP Stac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d Par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ually D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have distribution fe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en around a few yea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Protocol Driv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in 199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istribution fe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Benefits of TCP/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lligent Rout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et Resequenc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emely Reliab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Major Error Handl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IP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ies of four 8-bit numbers separated by periods that identifies a machi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ster: “129.79.254.195”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times called the “Dot Address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pyright 1995 Carl Franklin</dc:creator>
  <dc:description>This is the first presentation for VBITS demonstrating windows sockets and connecting to the internet.</dc:description>
  <dc:language>en-US</dc:language>
  <cp:lastModifiedBy>Carl Franklin</cp:lastModifiedBy>
  <cp:revision>0</cp:revision>
  <dc:subject>Windows Sockets demonstration</dc:subject>
  <dc:title>sockets.ppt</dc:title>
</cp:coreProperties>
</file>