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"/>
          <p:cNvGrpSpPr/>
          <p:nvPr/>
        </p:nvGrpSpPr>
        <p:grpSpPr>
          <a:xfrm>
            <a:off x="289080" y="1471680"/>
            <a:ext cx="5364000" cy="1957320"/>
            <a:chOff x="289080" y="1471680"/>
            <a:chExt cx="5364000" cy="1957320"/>
          </a:xfrm>
        </p:grpSpPr>
        <p:pic>
          <p:nvPicPr>
            <p:cNvPr id="38" name="" descr=""/>
            <p:cNvPicPr/>
            <p:nvPr/>
          </p:nvPicPr>
          <p:blipFill>
            <a:blip r:embed="rId1"/>
            <a:stretch/>
          </p:blipFill>
          <p:spPr>
            <a:xfrm>
              <a:off x="3471840" y="1471680"/>
              <a:ext cx="218124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" name=""/>
            <p:cNvGrpSpPr/>
            <p:nvPr/>
          </p:nvGrpSpPr>
          <p:grpSpPr>
            <a:xfrm>
              <a:off x="304920" y="1676520"/>
              <a:ext cx="685800" cy="685440"/>
              <a:chOff x="304920" y="1676520"/>
              <a:chExt cx="685800" cy="685440"/>
            </a:xfrm>
          </p:grpSpPr>
          <p:sp>
            <p:nvSpPr>
              <p:cNvPr id="40" name=""/>
              <p:cNvSpPr/>
              <p:nvPr/>
            </p:nvSpPr>
            <p:spPr>
              <a:xfrm>
                <a:off x="304920" y="2166840"/>
                <a:ext cx="685800" cy="195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04920" y="1774800"/>
                <a:ext cx="685800" cy="488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b2b2b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04920" y="1676520"/>
                <a:ext cx="685800" cy="195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04920" y="1774800"/>
                <a:ext cx="0" cy="48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90720" y="1774800"/>
                <a:ext cx="0" cy="48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557360" y="1971720"/>
              <a:ext cx="1371600" cy="1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066680" y="20574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71800" y="2057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24080" y="22860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4080" y="251460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24080" y="20574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289080" y="2484360"/>
              <a:ext cx="8618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584360" y="2332080"/>
              <a:ext cx="1098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3565440" y="2789280"/>
              <a:ext cx="15048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sual Basic For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data-boun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974880" y="17985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ry Seymour</dc:creator>
  <dc:description/>
  <dc:language>en-US</dc:language>
  <cp:lastModifiedBy>Barry Seymour</cp:lastModifiedBy>
  <cp:revision>0</cp:revision>
  <dc:subject/>
  <dc:title>No Slide Title</dc:title>
</cp:coreProperties>
</file>