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4280" y="0"/>
            <a:ext cx="9129600" cy="6858000"/>
            <a:chOff x="314280" y="0"/>
            <a:chExt cx="9129600" cy="6858000"/>
          </a:xfrm>
        </p:grpSpPr>
        <p:sp>
          <p:nvSpPr>
            <p:cNvPr id="1" name=""/>
            <p:cNvSpPr/>
            <p:nvPr/>
          </p:nvSpPr>
          <p:spPr>
            <a:xfrm>
              <a:off x="314280" y="0"/>
              <a:ext cx="1446120" cy="6858000"/>
            </a:xfrm>
            <a:prstGeom prst="rect">
              <a:avLst/>
            </a:prstGeom>
            <a:gradFill rotWithShape="0">
              <a:gsLst>
                <a:gs pos="0">
                  <a:srgbClr val="c0ffc0"/>
                </a:gs>
                <a:gs pos="100000">
                  <a:srgbClr val="739973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919080" y="1409760"/>
              <a:ext cx="8524800" cy="76320"/>
              <a:chOff x="919080" y="1409760"/>
              <a:chExt cx="852480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919080" y="1486080"/>
                <a:ext cx="852480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919080" y="1409760"/>
                <a:ext cx="8524800" cy="0"/>
              </a:xfrm>
              <a:prstGeom prst="line">
                <a:avLst/>
              </a:prstGeom>
              <a:ln w="7632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00080" y="1523880"/>
            <a:ext cx="7772400" cy="36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44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44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br>
              <a:rPr sz="1800"/>
            </a:br>
            <a:r>
              <a:rPr b="1" lang="en-US" sz="44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4400"/>
            </a:b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rsion 1.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85880" y="5181480"/>
            <a:ext cx="640080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  <a:ea typeface="Brush Script MT"/>
              </a:rPr>
              <a:t>Copyrigh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  <a:ea typeface="Brush Script MT"/>
              </a:rPr>
              <a:t>H.Lecoeuche 1991-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translated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80960" y="19620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bound 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CurrentState()-&gt;isAllowed ( this-&gt;getClassCode(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bound_code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CurrentState()-&gt;correctTransition (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2200" y="2666880"/>
            <a:ext cx="73152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2200" y="4495680"/>
            <a:ext cx="73152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791400" y="5867280"/>
            <a:ext cx="220968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state n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28680" y="1581120"/>
            <a:ext cx="807732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 expressed through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understand and reus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br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not require new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integration in th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= Class = { [attributes], methods, states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inheritance of behavior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and automatic runtime control of objects effectiv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state n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28680" y="1581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benef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 behavior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stat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f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la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re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aba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patibilities betwee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general and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abe to any O.O.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ple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state n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28680" y="1581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ion with pre &amp; post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te n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cription of the object behavior (behavior described in the object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not be “implementation orien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e parameter values are igno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 &amp; pos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s “spread” in the differ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“implementation orien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state notion (relation with pre/post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28680" y="1581120"/>
            <a:ext cx="777240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eferenc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 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wRef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newTitl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 (newRef&gt;=0)&amp;&amp;(newTitle!=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 reference == newRef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riv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ference==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44280"/>
                <a:tab algn="l" pos="317520"/>
                <a:tab algn="l" pos="60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developmen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74800" y="1743120"/>
            <a:ext cx="54338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5728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aphical too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 develop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ical modelling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trans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dynamic model to stat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extual to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eased, C++ on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 trans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state description to behavior contro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textual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extual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ehavior control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ports 3 operat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rifica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“fast / release”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la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“development”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bug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“test”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tes compiler sensitiv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es 2 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textual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57280" y="1733400"/>
            <a:ext cx="7772400" cy="41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“purification”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30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o behavior control, no runtime over-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“translation”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/Partial control of th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exible control according to the methods access rights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“debug”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messages to monitor obje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textual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dual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2200" y="2401920"/>
            <a:ext cx="74818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A  brief over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5728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tate n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ranslation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code (C++ grammar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tat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he class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major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ar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s the class definitio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s a new set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s new states / Redefines inher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code (C++ grammar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pen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Position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e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: (isOpen == TRUE)||(isOpen == FALSE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&l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age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&l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&l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114800"/>
            <a:ext cx="6629400" cy="1447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code (C++ grammar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60956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41480"/>
                <a:tab algn="l" pos="2417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more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1370160"/>
                <a:tab algn="l" pos="184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/Pack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912960"/>
                <a:tab algn="l" pos="1389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definition domain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912960"/>
                <a:tab algn="l" pos="1389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p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methods accep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23856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23856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l the states of the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912960"/>
                <a:tab algn="l" pos="1389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methods refused by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1370160"/>
                <a:tab algn="l" pos="184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enri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912960"/>
                <a:tab algn="l" pos="1389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objects must appear in thi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912960"/>
                <a:tab algn="l" pos="1389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objects may be deleted in thi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code (C++ grammar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Position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pen == FALS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(op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e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808200"/>
                <a:tab algn="l" pos="1182600"/>
                <a:tab algn="l" pos="1566720"/>
                <a:tab algn="l" pos="1941480"/>
                <a:tab algn="l" pos="2330280"/>
                <a:tab algn="l" pos="2705040"/>
                <a:tab algn="l" pos="3092400"/>
                <a:tab algn="l" pos="3467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38760" y="2057400"/>
            <a:ext cx="2438280" cy="8380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14880" y="251460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38760" y="5181480"/>
            <a:ext cx="2438280" cy="8380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it stat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Do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6480" y="4724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code (C++ grammar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330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port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193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inherited states in sub-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53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ep / change thei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53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special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193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requires new 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530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ef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state re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530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state aba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code (C++ grammar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5728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curityDoor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Locked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k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ock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k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sition.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&l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ock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sition.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&l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.op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efi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&l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282920"/>
                <a:tab algn="l" pos="46720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2200" y="3733920"/>
            <a:ext cx="70102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4724280"/>
            <a:ext cx="70102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5760" y="2895480"/>
            <a:ext cx="3733920" cy="533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isation of inher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5760" y="5486400"/>
            <a:ext cx="3733920" cy="533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efinition of inher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962600" y="350532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38560" y="518148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code (C++ grammar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.op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e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(unlock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oc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.clo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Locked =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k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(lock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ock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oc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.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Locked =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ock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(unlock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k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openDoo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663480"/>
                <a:tab algn="l" pos="1811160"/>
                <a:tab algn="l" pos="199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67360" y="1523880"/>
            <a:ext cx="243828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s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77200" y="2057400"/>
            <a:ext cx="137160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67360" y="3124080"/>
            <a:ext cx="2438280" cy="8380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ap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91400" y="289548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67360" y="5791320"/>
            <a:ext cx="243828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licting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86480" y="541008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xtended code (translation princ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ransl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ends the class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to compute the object 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to consult the object 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ends the metho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onstructors / destr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initial / fin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“normal” methods for method acceptance and transition correc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xtended code (translation princ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: (isOpen == TRUE)||(isOpen == FALSE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..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..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 ..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CurrentState( State* = 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InState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2200" y="3962520"/>
            <a:ext cx="6781680" cy="1447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xtended code (translation princ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or :: Doo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::invalidateCtrlFor(this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&lt;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constructor co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::activateCtrlFor(this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* tmpPtr = thi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CurrentSt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(tmpPt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mpPt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Initial(Door_Co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w InternalStateErr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2200" y="4038480"/>
            <a:ext cx="6781680" cy="1676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2200" y="2514600"/>
            <a:ext cx="678168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77000" y="1523880"/>
            <a:ext cx="2666880" cy="8380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vents control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tialis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24160" y="1905120"/>
            <a:ext cx="1752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00680" y="3124080"/>
            <a:ext cx="2743200" cy="8380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ctivates control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s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800680" y="5867280"/>
            <a:ext cx="2743200" cy="8380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s that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71880" y="3581280"/>
            <a:ext cx="1828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5715000"/>
            <a:ext cx="16002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5728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e a consistent Object Model that tak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ynamic aspe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 developm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re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lp the developmen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compile tim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ntime object behavi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xtended code (translation princ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or :: ~Doo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* tmpPtr = thi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CurrentSt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(tmpPt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mpPt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Final(Door_Co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w InternalStateErr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&lt;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destructor co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657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2200" y="2514600"/>
            <a:ext cx="6781680" cy="152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800680" y="4495680"/>
            <a:ext cx="2743200" cy="8380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s that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24160" y="4038480"/>
            <a:ext cx="16765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47800" y="266760"/>
            <a:ext cx="777240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xtended code (translation princ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0956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d Door :: openDoo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* tmpPtr = thi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CurrentSt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(tmpPt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mpPt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stPermise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ClassCode(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Door _void,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&lt;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method co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* tmpPtr = thi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CurrentSt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(tmpPt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mpPt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Correc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87360"/>
                <a:tab algn="l" pos="762120"/>
                <a:tab algn="l" pos="1150920"/>
                <a:tab algn="l" pos="1525680"/>
                <a:tab algn="l" pos="1909800"/>
                <a:tab algn="l" pos="2284560"/>
                <a:tab algn="l" pos="2760840"/>
                <a:tab algn="l" pos="3048120"/>
                <a:tab algn="l" pos="3524400"/>
                <a:tab algn="l" pos="3809880"/>
                <a:tab algn="l" pos="4384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2200" y="4724280"/>
            <a:ext cx="72388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2200" y="2362320"/>
            <a:ext cx="723888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67160" y="1600200"/>
            <a:ext cx="3733920" cy="533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s the method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95560" y="1905120"/>
            <a:ext cx="1371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95560" y="5791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267160" y="6019920"/>
            <a:ext cx="3733920" cy="533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s the resulting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PS</a:t>
            </a: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iling translated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iling the user translate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iling the OOP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t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ceptio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iling the application dependen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 associated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d in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configura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2705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iling translated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ecting the file nam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CKER.CFG” : the tools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230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ing compiler dependent di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.CFG” : the compiler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  <a:tabLst>
                <a:tab algn="l" pos="190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ed supported compil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144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land TC Lite, Turbo C++ 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144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land C++ V4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  <a:tabLst>
                <a:tab algn="l" pos="144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soft Visual C++ V1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76400" y="31050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st it yourself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9160" y="1836720"/>
            <a:ext cx="5678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57280" y="17334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tibility with exist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ful extension of exist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ckwar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oiding extra work fo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ported by specific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state n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8160" y="1886040"/>
            <a:ext cx="7315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NO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riched dynam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ranslated into stat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ranslated into runtime behavior control c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91400" y="5867280"/>
            <a:ext cx="220968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a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s se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state n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5728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ate represents a part of an object definitio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st of accepte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st of refuse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2200" y="2362320"/>
            <a:ext cx="716292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dynam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5728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c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ynamic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67320" y="1882800"/>
            <a:ext cx="3917880" cy="185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27440" y="4060800"/>
            <a:ext cx="38638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4780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bject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O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iented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P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rogramm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Book Antiqua"/>
                <a:ea typeface="Book Antiqua"/>
              </a:rPr>
              <a:t>S</a:t>
            </a:r>
            <a:r>
              <a:rPr b="0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te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ZapfChancery"/>
                <a:ea typeface="ZapfChancery"/>
              </a:rPr>
              <a:t>The enriched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2868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bin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g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amaged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p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ebound ( Usable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onsult , eliminate , toRebind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8160" y="2895480"/>
            <a:ext cx="723888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ugues Lecoeuche</dc:creator>
  <dc:description/>
  <dc:language>en-US</dc:language>
  <cp:lastModifiedBy>Hugues Lecoeuche</cp:lastModifiedBy>
  <cp:revision>0</cp:revision>
  <dc:subject/>
  <dc:title>Object Oriented Programming with States</dc:title>
</cp:coreProperties>
</file>