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9400" y="114480"/>
            <a:ext cx="9671040" cy="6751440"/>
            <a:chOff x="149400" y="114480"/>
            <a:chExt cx="9671040" cy="6751440"/>
          </a:xfrm>
        </p:grpSpPr>
        <p:sp>
          <p:nvSpPr>
            <p:cNvPr id="1" name=""/>
            <p:cNvSpPr/>
            <p:nvPr/>
          </p:nvSpPr>
          <p:spPr>
            <a:xfrm>
              <a:off x="190440" y="247680"/>
              <a:ext cx="8705880" cy="63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90680" y="1168560"/>
              <a:ext cx="9329760" cy="3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77720" y="1101600"/>
              <a:ext cx="49320" cy="5764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149400" y="114480"/>
              <a:ext cx="2340360" cy="1472040"/>
              <a:chOff x="149400" y="114480"/>
              <a:chExt cx="2340360" cy="1472040"/>
            </a:xfrm>
          </p:grpSpPr>
          <p:sp>
            <p:nvSpPr>
              <p:cNvPr id="5" name=""/>
              <p:cNvSpPr/>
              <p:nvPr/>
            </p:nvSpPr>
            <p:spPr>
              <a:xfrm>
                <a:off x="184320" y="166680"/>
                <a:ext cx="2305440" cy="1419480"/>
              </a:xfrm>
              <a:custGeom>
                <a:avLst/>
                <a:gdLst/>
                <a:ahLst/>
                <a:rect l="0" t="0" r="r" b="b"/>
                <a:pathLst>
                  <a:path w="6404" h="3943">
                    <a:moveTo>
                      <a:pt x="0" y="1204"/>
                    </a:moveTo>
                    <a:lnTo>
                      <a:pt x="21" y="1283"/>
                    </a:lnTo>
                    <a:lnTo>
                      <a:pt x="35" y="1318"/>
                    </a:lnTo>
                    <a:lnTo>
                      <a:pt x="8" y="1449"/>
                    </a:lnTo>
                    <a:lnTo>
                      <a:pt x="26" y="1489"/>
                    </a:lnTo>
                    <a:lnTo>
                      <a:pt x="101" y="1660"/>
                    </a:lnTo>
                    <a:lnTo>
                      <a:pt x="105" y="1655"/>
                    </a:lnTo>
                    <a:lnTo>
                      <a:pt x="109" y="1616"/>
                    </a:lnTo>
                    <a:lnTo>
                      <a:pt x="127" y="1611"/>
                    </a:lnTo>
                    <a:lnTo>
                      <a:pt x="140" y="1620"/>
                    </a:lnTo>
                    <a:lnTo>
                      <a:pt x="114" y="1642"/>
                    </a:lnTo>
                    <a:lnTo>
                      <a:pt x="127" y="1655"/>
                    </a:lnTo>
                    <a:lnTo>
                      <a:pt x="144" y="1730"/>
                    </a:lnTo>
                    <a:lnTo>
                      <a:pt x="131" y="1725"/>
                    </a:lnTo>
                    <a:lnTo>
                      <a:pt x="105" y="1695"/>
                    </a:lnTo>
                    <a:lnTo>
                      <a:pt x="109" y="1668"/>
                    </a:lnTo>
                    <a:lnTo>
                      <a:pt x="101" y="1668"/>
                    </a:lnTo>
                    <a:lnTo>
                      <a:pt x="87" y="1699"/>
                    </a:lnTo>
                    <a:lnTo>
                      <a:pt x="87" y="1769"/>
                    </a:lnTo>
                    <a:lnTo>
                      <a:pt x="105" y="1795"/>
                    </a:lnTo>
                    <a:lnTo>
                      <a:pt x="140" y="1822"/>
                    </a:lnTo>
                    <a:lnTo>
                      <a:pt x="127" y="1857"/>
                    </a:lnTo>
                    <a:lnTo>
                      <a:pt x="105" y="1861"/>
                    </a:lnTo>
                    <a:lnTo>
                      <a:pt x="105" y="1909"/>
                    </a:lnTo>
                    <a:lnTo>
                      <a:pt x="153" y="2007"/>
                    </a:lnTo>
                    <a:lnTo>
                      <a:pt x="193" y="2064"/>
                    </a:lnTo>
                    <a:lnTo>
                      <a:pt x="184" y="2107"/>
                    </a:lnTo>
                    <a:lnTo>
                      <a:pt x="210" y="2125"/>
                    </a:lnTo>
                    <a:lnTo>
                      <a:pt x="197" y="2151"/>
                    </a:lnTo>
                    <a:lnTo>
                      <a:pt x="184" y="2208"/>
                    </a:lnTo>
                    <a:lnTo>
                      <a:pt x="202" y="2230"/>
                    </a:lnTo>
                    <a:lnTo>
                      <a:pt x="320" y="2270"/>
                    </a:lnTo>
                    <a:lnTo>
                      <a:pt x="368" y="2335"/>
                    </a:lnTo>
                    <a:lnTo>
                      <a:pt x="425" y="2357"/>
                    </a:lnTo>
                    <a:lnTo>
                      <a:pt x="425" y="2397"/>
                    </a:lnTo>
                    <a:lnTo>
                      <a:pt x="461" y="2405"/>
                    </a:lnTo>
                    <a:lnTo>
                      <a:pt x="513" y="2475"/>
                    </a:lnTo>
                    <a:lnTo>
                      <a:pt x="540" y="2532"/>
                    </a:lnTo>
                    <a:lnTo>
                      <a:pt x="540" y="2620"/>
                    </a:lnTo>
                    <a:lnTo>
                      <a:pt x="887" y="2642"/>
                    </a:lnTo>
                    <a:lnTo>
                      <a:pt x="834" y="2690"/>
                    </a:lnTo>
                    <a:lnTo>
                      <a:pt x="1005" y="2795"/>
                    </a:lnTo>
                    <a:lnTo>
                      <a:pt x="1242" y="2931"/>
                    </a:lnTo>
                    <a:lnTo>
                      <a:pt x="1361" y="2966"/>
                    </a:lnTo>
                    <a:lnTo>
                      <a:pt x="1545" y="2992"/>
                    </a:lnTo>
                    <a:lnTo>
                      <a:pt x="1652" y="3010"/>
                    </a:lnTo>
                    <a:lnTo>
                      <a:pt x="1661" y="2944"/>
                    </a:lnTo>
                    <a:lnTo>
                      <a:pt x="1880" y="2966"/>
                    </a:lnTo>
                    <a:lnTo>
                      <a:pt x="1902" y="2979"/>
                    </a:lnTo>
                    <a:lnTo>
                      <a:pt x="1920" y="3027"/>
                    </a:lnTo>
                    <a:lnTo>
                      <a:pt x="1946" y="3040"/>
                    </a:lnTo>
                    <a:lnTo>
                      <a:pt x="2016" y="3128"/>
                    </a:lnTo>
                    <a:lnTo>
                      <a:pt x="2065" y="3172"/>
                    </a:lnTo>
                    <a:lnTo>
                      <a:pt x="2095" y="3238"/>
                    </a:lnTo>
                    <a:lnTo>
                      <a:pt x="2095" y="3281"/>
                    </a:lnTo>
                    <a:lnTo>
                      <a:pt x="2113" y="3330"/>
                    </a:lnTo>
                    <a:lnTo>
                      <a:pt x="2174" y="3382"/>
                    </a:lnTo>
                    <a:lnTo>
                      <a:pt x="2205" y="3395"/>
                    </a:lnTo>
                    <a:lnTo>
                      <a:pt x="2267" y="3439"/>
                    </a:lnTo>
                    <a:lnTo>
                      <a:pt x="2293" y="3443"/>
                    </a:lnTo>
                    <a:lnTo>
                      <a:pt x="2324" y="3408"/>
                    </a:lnTo>
                    <a:lnTo>
                      <a:pt x="2359" y="3334"/>
                    </a:lnTo>
                    <a:lnTo>
                      <a:pt x="2398" y="3334"/>
                    </a:lnTo>
                    <a:lnTo>
                      <a:pt x="2411" y="3316"/>
                    </a:lnTo>
                    <a:lnTo>
                      <a:pt x="2447" y="3334"/>
                    </a:lnTo>
                    <a:lnTo>
                      <a:pt x="2482" y="3338"/>
                    </a:lnTo>
                    <a:lnTo>
                      <a:pt x="2534" y="3343"/>
                    </a:lnTo>
                    <a:lnTo>
                      <a:pt x="2548" y="3382"/>
                    </a:lnTo>
                    <a:lnTo>
                      <a:pt x="2609" y="3426"/>
                    </a:lnTo>
                    <a:lnTo>
                      <a:pt x="2679" y="3588"/>
                    </a:lnTo>
                    <a:lnTo>
                      <a:pt x="2723" y="3654"/>
                    </a:lnTo>
                    <a:lnTo>
                      <a:pt x="2767" y="3689"/>
                    </a:lnTo>
                    <a:lnTo>
                      <a:pt x="2767" y="3733"/>
                    </a:lnTo>
                    <a:lnTo>
                      <a:pt x="2776" y="3737"/>
                    </a:lnTo>
                    <a:lnTo>
                      <a:pt x="2772" y="3772"/>
                    </a:lnTo>
                    <a:lnTo>
                      <a:pt x="2798" y="3803"/>
                    </a:lnTo>
                    <a:lnTo>
                      <a:pt x="2815" y="3842"/>
                    </a:lnTo>
                    <a:lnTo>
                      <a:pt x="2820" y="3868"/>
                    </a:lnTo>
                    <a:lnTo>
                      <a:pt x="2890" y="3895"/>
                    </a:lnTo>
                    <a:lnTo>
                      <a:pt x="2947" y="3925"/>
                    </a:lnTo>
                    <a:lnTo>
                      <a:pt x="2991" y="3925"/>
                    </a:lnTo>
                    <a:lnTo>
                      <a:pt x="3039" y="3943"/>
                    </a:lnTo>
                    <a:lnTo>
                      <a:pt x="3088" y="3943"/>
                    </a:lnTo>
                    <a:lnTo>
                      <a:pt x="3053" y="3873"/>
                    </a:lnTo>
                    <a:lnTo>
                      <a:pt x="3035" y="3785"/>
                    </a:lnTo>
                    <a:lnTo>
                      <a:pt x="3053" y="3746"/>
                    </a:lnTo>
                    <a:lnTo>
                      <a:pt x="3009" y="3741"/>
                    </a:lnTo>
                    <a:lnTo>
                      <a:pt x="3009" y="3715"/>
                    </a:lnTo>
                    <a:lnTo>
                      <a:pt x="3026" y="3737"/>
                    </a:lnTo>
                    <a:lnTo>
                      <a:pt x="3044" y="3719"/>
                    </a:lnTo>
                    <a:lnTo>
                      <a:pt x="3044" y="3737"/>
                    </a:lnTo>
                    <a:lnTo>
                      <a:pt x="3070" y="3702"/>
                    </a:lnTo>
                    <a:lnTo>
                      <a:pt x="3075" y="3680"/>
                    </a:lnTo>
                    <a:lnTo>
                      <a:pt x="3061" y="3689"/>
                    </a:lnTo>
                    <a:lnTo>
                      <a:pt x="3061" y="3658"/>
                    </a:lnTo>
                    <a:lnTo>
                      <a:pt x="3044" y="3649"/>
                    </a:lnTo>
                    <a:lnTo>
                      <a:pt x="3101" y="3649"/>
                    </a:lnTo>
                    <a:lnTo>
                      <a:pt x="3083" y="3623"/>
                    </a:lnTo>
                    <a:lnTo>
                      <a:pt x="3088" y="3606"/>
                    </a:lnTo>
                    <a:lnTo>
                      <a:pt x="3123" y="3597"/>
                    </a:lnTo>
                    <a:lnTo>
                      <a:pt x="3136" y="3619"/>
                    </a:lnTo>
                    <a:lnTo>
                      <a:pt x="3145" y="3557"/>
                    </a:lnTo>
                    <a:lnTo>
                      <a:pt x="3162" y="3584"/>
                    </a:lnTo>
                    <a:lnTo>
                      <a:pt x="3198" y="3566"/>
                    </a:lnTo>
                    <a:lnTo>
                      <a:pt x="3167" y="3544"/>
                    </a:lnTo>
                    <a:lnTo>
                      <a:pt x="3167" y="3522"/>
                    </a:lnTo>
                    <a:lnTo>
                      <a:pt x="3189" y="3544"/>
                    </a:lnTo>
                    <a:lnTo>
                      <a:pt x="3198" y="3522"/>
                    </a:lnTo>
                    <a:lnTo>
                      <a:pt x="3211" y="3535"/>
                    </a:lnTo>
                    <a:lnTo>
                      <a:pt x="3228" y="3518"/>
                    </a:lnTo>
                    <a:lnTo>
                      <a:pt x="3224" y="3544"/>
                    </a:lnTo>
                    <a:lnTo>
                      <a:pt x="3281" y="3518"/>
                    </a:lnTo>
                    <a:lnTo>
                      <a:pt x="3211" y="3562"/>
                    </a:lnTo>
                    <a:lnTo>
                      <a:pt x="3206" y="3570"/>
                    </a:lnTo>
                    <a:lnTo>
                      <a:pt x="3364" y="3474"/>
                    </a:lnTo>
                    <a:lnTo>
                      <a:pt x="3364" y="3448"/>
                    </a:lnTo>
                    <a:lnTo>
                      <a:pt x="3382" y="3448"/>
                    </a:lnTo>
                    <a:lnTo>
                      <a:pt x="3404" y="3426"/>
                    </a:lnTo>
                    <a:lnTo>
                      <a:pt x="3400" y="3400"/>
                    </a:lnTo>
                    <a:lnTo>
                      <a:pt x="3391" y="3395"/>
                    </a:lnTo>
                    <a:lnTo>
                      <a:pt x="3386" y="3365"/>
                    </a:lnTo>
                    <a:lnTo>
                      <a:pt x="3400" y="3378"/>
                    </a:lnTo>
                    <a:lnTo>
                      <a:pt x="3430" y="3351"/>
                    </a:lnTo>
                    <a:lnTo>
                      <a:pt x="3422" y="3395"/>
                    </a:lnTo>
                    <a:lnTo>
                      <a:pt x="3452" y="3395"/>
                    </a:lnTo>
                    <a:lnTo>
                      <a:pt x="3422" y="3422"/>
                    </a:lnTo>
                    <a:lnTo>
                      <a:pt x="3479" y="3391"/>
                    </a:lnTo>
                    <a:lnTo>
                      <a:pt x="3545" y="3365"/>
                    </a:lnTo>
                    <a:lnTo>
                      <a:pt x="3637" y="3351"/>
                    </a:lnTo>
                    <a:lnTo>
                      <a:pt x="3711" y="3382"/>
                    </a:lnTo>
                    <a:lnTo>
                      <a:pt x="3782" y="3382"/>
                    </a:lnTo>
                    <a:lnTo>
                      <a:pt x="3773" y="3360"/>
                    </a:lnTo>
                    <a:lnTo>
                      <a:pt x="3799" y="3343"/>
                    </a:lnTo>
                    <a:lnTo>
                      <a:pt x="3852" y="3351"/>
                    </a:lnTo>
                    <a:lnTo>
                      <a:pt x="3856" y="3391"/>
                    </a:lnTo>
                    <a:lnTo>
                      <a:pt x="3869" y="3382"/>
                    </a:lnTo>
                    <a:lnTo>
                      <a:pt x="3891" y="3391"/>
                    </a:lnTo>
                    <a:lnTo>
                      <a:pt x="3913" y="3413"/>
                    </a:lnTo>
                    <a:lnTo>
                      <a:pt x="3918" y="3435"/>
                    </a:lnTo>
                    <a:lnTo>
                      <a:pt x="3940" y="3439"/>
                    </a:lnTo>
                    <a:lnTo>
                      <a:pt x="3957" y="3448"/>
                    </a:lnTo>
                    <a:lnTo>
                      <a:pt x="3970" y="3443"/>
                    </a:lnTo>
                    <a:lnTo>
                      <a:pt x="3988" y="3426"/>
                    </a:lnTo>
                    <a:lnTo>
                      <a:pt x="3988" y="3413"/>
                    </a:lnTo>
                    <a:lnTo>
                      <a:pt x="4006" y="3430"/>
                    </a:lnTo>
                    <a:lnTo>
                      <a:pt x="4019" y="3413"/>
                    </a:lnTo>
                    <a:lnTo>
                      <a:pt x="4036" y="3448"/>
                    </a:lnTo>
                    <a:lnTo>
                      <a:pt x="4054" y="3430"/>
                    </a:lnTo>
                    <a:lnTo>
                      <a:pt x="4063" y="3426"/>
                    </a:lnTo>
                    <a:lnTo>
                      <a:pt x="4054" y="3413"/>
                    </a:lnTo>
                    <a:lnTo>
                      <a:pt x="4054" y="3382"/>
                    </a:lnTo>
                    <a:lnTo>
                      <a:pt x="4067" y="3382"/>
                    </a:lnTo>
                    <a:lnTo>
                      <a:pt x="4085" y="3391"/>
                    </a:lnTo>
                    <a:lnTo>
                      <a:pt x="4089" y="3408"/>
                    </a:lnTo>
                    <a:lnTo>
                      <a:pt x="4111" y="3408"/>
                    </a:lnTo>
                    <a:lnTo>
                      <a:pt x="4133" y="3422"/>
                    </a:lnTo>
                    <a:lnTo>
                      <a:pt x="4133" y="3413"/>
                    </a:lnTo>
                    <a:lnTo>
                      <a:pt x="4142" y="3426"/>
                    </a:lnTo>
                    <a:lnTo>
                      <a:pt x="4159" y="3439"/>
                    </a:lnTo>
                    <a:lnTo>
                      <a:pt x="4151" y="3461"/>
                    </a:lnTo>
                    <a:lnTo>
                      <a:pt x="4168" y="3439"/>
                    </a:lnTo>
                    <a:lnTo>
                      <a:pt x="4181" y="3448"/>
                    </a:lnTo>
                    <a:lnTo>
                      <a:pt x="4181" y="3439"/>
                    </a:lnTo>
                    <a:lnTo>
                      <a:pt x="4194" y="3430"/>
                    </a:lnTo>
                    <a:lnTo>
                      <a:pt x="4194" y="3422"/>
                    </a:lnTo>
                    <a:lnTo>
                      <a:pt x="4181" y="3417"/>
                    </a:lnTo>
                    <a:lnTo>
                      <a:pt x="4172" y="3408"/>
                    </a:lnTo>
                    <a:lnTo>
                      <a:pt x="4159" y="3408"/>
                    </a:lnTo>
                    <a:lnTo>
                      <a:pt x="4146" y="3395"/>
                    </a:lnTo>
                    <a:lnTo>
                      <a:pt x="4133" y="3395"/>
                    </a:lnTo>
                    <a:lnTo>
                      <a:pt x="4115" y="3365"/>
                    </a:lnTo>
                    <a:lnTo>
                      <a:pt x="4124" y="3356"/>
                    </a:lnTo>
                    <a:lnTo>
                      <a:pt x="4142" y="3347"/>
                    </a:lnTo>
                    <a:lnTo>
                      <a:pt x="4142" y="3334"/>
                    </a:lnTo>
                    <a:lnTo>
                      <a:pt x="4155" y="3330"/>
                    </a:lnTo>
                    <a:lnTo>
                      <a:pt x="4172" y="3312"/>
                    </a:lnTo>
                    <a:lnTo>
                      <a:pt x="4164" y="3312"/>
                    </a:lnTo>
                    <a:lnTo>
                      <a:pt x="4164" y="3277"/>
                    </a:lnTo>
                    <a:lnTo>
                      <a:pt x="4146" y="3295"/>
                    </a:lnTo>
                    <a:lnTo>
                      <a:pt x="4124" y="3295"/>
                    </a:lnTo>
                    <a:lnTo>
                      <a:pt x="4107" y="3321"/>
                    </a:lnTo>
                    <a:lnTo>
                      <a:pt x="4080" y="3312"/>
                    </a:lnTo>
                    <a:lnTo>
                      <a:pt x="4085" y="3295"/>
                    </a:lnTo>
                    <a:lnTo>
                      <a:pt x="4098" y="3295"/>
                    </a:lnTo>
                    <a:lnTo>
                      <a:pt x="4102" y="3281"/>
                    </a:lnTo>
                    <a:lnTo>
                      <a:pt x="4093" y="3286"/>
                    </a:lnTo>
                    <a:lnTo>
                      <a:pt x="4089" y="3281"/>
                    </a:lnTo>
                    <a:lnTo>
                      <a:pt x="4085" y="3286"/>
                    </a:lnTo>
                    <a:lnTo>
                      <a:pt x="4076" y="3281"/>
                    </a:lnTo>
                    <a:lnTo>
                      <a:pt x="4063" y="3295"/>
                    </a:lnTo>
                    <a:lnTo>
                      <a:pt x="4041" y="3299"/>
                    </a:lnTo>
                    <a:lnTo>
                      <a:pt x="4006" y="3295"/>
                    </a:lnTo>
                    <a:lnTo>
                      <a:pt x="4001" y="3281"/>
                    </a:lnTo>
                    <a:lnTo>
                      <a:pt x="4028" y="3251"/>
                    </a:lnTo>
                    <a:lnTo>
                      <a:pt x="4045" y="3251"/>
                    </a:lnTo>
                    <a:lnTo>
                      <a:pt x="4058" y="3264"/>
                    </a:lnTo>
                    <a:lnTo>
                      <a:pt x="4120" y="3277"/>
                    </a:lnTo>
                    <a:lnTo>
                      <a:pt x="4133" y="3268"/>
                    </a:lnTo>
                    <a:lnTo>
                      <a:pt x="4146" y="3242"/>
                    </a:lnTo>
                    <a:lnTo>
                      <a:pt x="4155" y="3251"/>
                    </a:lnTo>
                    <a:lnTo>
                      <a:pt x="4181" y="3238"/>
                    </a:lnTo>
                    <a:lnTo>
                      <a:pt x="4203" y="3233"/>
                    </a:lnTo>
                    <a:lnTo>
                      <a:pt x="4208" y="3229"/>
                    </a:lnTo>
                    <a:lnTo>
                      <a:pt x="4225" y="3242"/>
                    </a:lnTo>
                    <a:lnTo>
                      <a:pt x="4243" y="3229"/>
                    </a:lnTo>
                    <a:lnTo>
                      <a:pt x="4256" y="3242"/>
                    </a:lnTo>
                    <a:lnTo>
                      <a:pt x="4269" y="3229"/>
                    </a:lnTo>
                    <a:lnTo>
                      <a:pt x="4304" y="3238"/>
                    </a:lnTo>
                    <a:lnTo>
                      <a:pt x="4317" y="3167"/>
                    </a:lnTo>
                    <a:lnTo>
                      <a:pt x="4326" y="3185"/>
                    </a:lnTo>
                    <a:lnTo>
                      <a:pt x="4331" y="3220"/>
                    </a:lnTo>
                    <a:lnTo>
                      <a:pt x="4348" y="3238"/>
                    </a:lnTo>
                    <a:lnTo>
                      <a:pt x="4322" y="3251"/>
                    </a:lnTo>
                    <a:lnTo>
                      <a:pt x="4388" y="3233"/>
                    </a:lnTo>
                    <a:lnTo>
                      <a:pt x="4414" y="3229"/>
                    </a:lnTo>
                    <a:lnTo>
                      <a:pt x="4427" y="3207"/>
                    </a:lnTo>
                    <a:lnTo>
                      <a:pt x="4427" y="3194"/>
                    </a:lnTo>
                    <a:lnTo>
                      <a:pt x="4436" y="3203"/>
                    </a:lnTo>
                    <a:lnTo>
                      <a:pt x="4449" y="3189"/>
                    </a:lnTo>
                    <a:lnTo>
                      <a:pt x="4454" y="3203"/>
                    </a:lnTo>
                    <a:lnTo>
                      <a:pt x="4432" y="3220"/>
                    </a:lnTo>
                    <a:lnTo>
                      <a:pt x="4502" y="3203"/>
                    </a:lnTo>
                    <a:lnTo>
                      <a:pt x="4519" y="3189"/>
                    </a:lnTo>
                    <a:lnTo>
                      <a:pt x="4528" y="3198"/>
                    </a:lnTo>
                    <a:lnTo>
                      <a:pt x="4555" y="3189"/>
                    </a:lnTo>
                    <a:lnTo>
                      <a:pt x="4568" y="3198"/>
                    </a:lnTo>
                    <a:lnTo>
                      <a:pt x="4519" y="3203"/>
                    </a:lnTo>
                    <a:lnTo>
                      <a:pt x="4533" y="3207"/>
                    </a:lnTo>
                    <a:lnTo>
                      <a:pt x="4590" y="3220"/>
                    </a:lnTo>
                    <a:lnTo>
                      <a:pt x="4625" y="3242"/>
                    </a:lnTo>
                    <a:lnTo>
                      <a:pt x="4612" y="3211"/>
                    </a:lnTo>
                    <a:lnTo>
                      <a:pt x="4629" y="3233"/>
                    </a:lnTo>
                    <a:lnTo>
                      <a:pt x="4651" y="3238"/>
                    </a:lnTo>
                    <a:lnTo>
                      <a:pt x="4634" y="3242"/>
                    </a:lnTo>
                    <a:lnTo>
                      <a:pt x="4673" y="3264"/>
                    </a:lnTo>
                    <a:lnTo>
                      <a:pt x="4686" y="3281"/>
                    </a:lnTo>
                    <a:lnTo>
                      <a:pt x="4686" y="3295"/>
                    </a:lnTo>
                    <a:lnTo>
                      <a:pt x="4673" y="3277"/>
                    </a:lnTo>
                    <a:lnTo>
                      <a:pt x="4678" y="3303"/>
                    </a:lnTo>
                    <a:lnTo>
                      <a:pt x="4708" y="3295"/>
                    </a:lnTo>
                    <a:lnTo>
                      <a:pt x="4730" y="3295"/>
                    </a:lnTo>
                    <a:lnTo>
                      <a:pt x="4739" y="3277"/>
                    </a:lnTo>
                    <a:lnTo>
                      <a:pt x="4748" y="3286"/>
                    </a:lnTo>
                    <a:lnTo>
                      <a:pt x="4787" y="3255"/>
                    </a:lnTo>
                    <a:lnTo>
                      <a:pt x="4815" y="3255"/>
                    </a:lnTo>
                    <a:lnTo>
                      <a:pt x="4806" y="3246"/>
                    </a:lnTo>
                    <a:lnTo>
                      <a:pt x="4823" y="3220"/>
                    </a:lnTo>
                    <a:lnTo>
                      <a:pt x="4859" y="3220"/>
                    </a:lnTo>
                    <a:lnTo>
                      <a:pt x="4898" y="3242"/>
                    </a:lnTo>
                    <a:lnTo>
                      <a:pt x="4929" y="3268"/>
                    </a:lnTo>
                    <a:lnTo>
                      <a:pt x="4946" y="3277"/>
                    </a:lnTo>
                    <a:lnTo>
                      <a:pt x="4951" y="3295"/>
                    </a:lnTo>
                    <a:lnTo>
                      <a:pt x="4977" y="3312"/>
                    </a:lnTo>
                    <a:lnTo>
                      <a:pt x="4986" y="3325"/>
                    </a:lnTo>
                    <a:lnTo>
                      <a:pt x="4999" y="3343"/>
                    </a:lnTo>
                    <a:lnTo>
                      <a:pt x="5039" y="3343"/>
                    </a:lnTo>
                    <a:lnTo>
                      <a:pt x="5052" y="3365"/>
                    </a:lnTo>
                    <a:lnTo>
                      <a:pt x="5069" y="3408"/>
                    </a:lnTo>
                    <a:lnTo>
                      <a:pt x="5056" y="3492"/>
                    </a:lnTo>
                    <a:lnTo>
                      <a:pt x="5061" y="3544"/>
                    </a:lnTo>
                    <a:lnTo>
                      <a:pt x="5087" y="3562"/>
                    </a:lnTo>
                    <a:lnTo>
                      <a:pt x="5087" y="3535"/>
                    </a:lnTo>
                    <a:lnTo>
                      <a:pt x="5074" y="3527"/>
                    </a:lnTo>
                    <a:lnTo>
                      <a:pt x="5074" y="3509"/>
                    </a:lnTo>
                    <a:lnTo>
                      <a:pt x="5087" y="3518"/>
                    </a:lnTo>
                    <a:lnTo>
                      <a:pt x="5096" y="3518"/>
                    </a:lnTo>
                    <a:lnTo>
                      <a:pt x="5100" y="3535"/>
                    </a:lnTo>
                    <a:lnTo>
                      <a:pt x="5113" y="3518"/>
                    </a:lnTo>
                    <a:lnTo>
                      <a:pt x="5122" y="3535"/>
                    </a:lnTo>
                    <a:lnTo>
                      <a:pt x="5091" y="3588"/>
                    </a:lnTo>
                    <a:lnTo>
                      <a:pt x="5091" y="3597"/>
                    </a:lnTo>
                    <a:lnTo>
                      <a:pt x="5109" y="3606"/>
                    </a:lnTo>
                    <a:lnTo>
                      <a:pt x="5126" y="3649"/>
                    </a:lnTo>
                    <a:lnTo>
                      <a:pt x="5144" y="3671"/>
                    </a:lnTo>
                    <a:lnTo>
                      <a:pt x="5157" y="3684"/>
                    </a:lnTo>
                    <a:lnTo>
                      <a:pt x="5175" y="3684"/>
                    </a:lnTo>
                    <a:lnTo>
                      <a:pt x="5157" y="3662"/>
                    </a:lnTo>
                    <a:lnTo>
                      <a:pt x="5170" y="3667"/>
                    </a:lnTo>
                    <a:lnTo>
                      <a:pt x="5184" y="3662"/>
                    </a:lnTo>
                    <a:lnTo>
                      <a:pt x="5184" y="3671"/>
                    </a:lnTo>
                    <a:lnTo>
                      <a:pt x="5184" y="3693"/>
                    </a:lnTo>
                    <a:lnTo>
                      <a:pt x="5197" y="3719"/>
                    </a:lnTo>
                    <a:lnTo>
                      <a:pt x="5223" y="3737"/>
                    </a:lnTo>
                    <a:lnTo>
                      <a:pt x="5227" y="3754"/>
                    </a:lnTo>
                    <a:lnTo>
                      <a:pt x="5249" y="3811"/>
                    </a:lnTo>
                    <a:lnTo>
                      <a:pt x="5280" y="3811"/>
                    </a:lnTo>
                    <a:lnTo>
                      <a:pt x="5302" y="3825"/>
                    </a:lnTo>
                    <a:lnTo>
                      <a:pt x="5346" y="3877"/>
                    </a:lnTo>
                    <a:lnTo>
                      <a:pt x="5381" y="3886"/>
                    </a:lnTo>
                    <a:lnTo>
                      <a:pt x="5381" y="3895"/>
                    </a:lnTo>
                    <a:lnTo>
                      <a:pt x="5372" y="3903"/>
                    </a:lnTo>
                    <a:lnTo>
                      <a:pt x="5346" y="3890"/>
                    </a:lnTo>
                    <a:lnTo>
                      <a:pt x="5350" y="3912"/>
                    </a:lnTo>
                    <a:lnTo>
                      <a:pt x="5386" y="3908"/>
                    </a:lnTo>
                    <a:lnTo>
                      <a:pt x="5412" y="3908"/>
                    </a:lnTo>
                    <a:lnTo>
                      <a:pt x="5429" y="3890"/>
                    </a:lnTo>
                    <a:lnTo>
                      <a:pt x="5451" y="3890"/>
                    </a:lnTo>
                    <a:lnTo>
                      <a:pt x="5460" y="3864"/>
                    </a:lnTo>
                    <a:lnTo>
                      <a:pt x="5456" y="3829"/>
                    </a:lnTo>
                    <a:lnTo>
                      <a:pt x="5469" y="3794"/>
                    </a:lnTo>
                    <a:lnTo>
                      <a:pt x="5478" y="3798"/>
                    </a:lnTo>
                    <a:lnTo>
                      <a:pt x="5469" y="3662"/>
                    </a:lnTo>
                    <a:lnTo>
                      <a:pt x="5456" y="3623"/>
                    </a:lnTo>
                    <a:lnTo>
                      <a:pt x="5337" y="3426"/>
                    </a:lnTo>
                    <a:lnTo>
                      <a:pt x="5311" y="3365"/>
                    </a:lnTo>
                    <a:lnTo>
                      <a:pt x="5320" y="3365"/>
                    </a:lnTo>
                    <a:lnTo>
                      <a:pt x="5241" y="3242"/>
                    </a:lnTo>
                    <a:lnTo>
                      <a:pt x="5184" y="3106"/>
                    </a:lnTo>
                    <a:lnTo>
                      <a:pt x="5184" y="3089"/>
                    </a:lnTo>
                    <a:lnTo>
                      <a:pt x="5170" y="3084"/>
                    </a:lnTo>
                    <a:lnTo>
                      <a:pt x="5179" y="3045"/>
                    </a:lnTo>
                    <a:lnTo>
                      <a:pt x="5170" y="3040"/>
                    </a:lnTo>
                    <a:lnTo>
                      <a:pt x="5184" y="3032"/>
                    </a:lnTo>
                    <a:lnTo>
                      <a:pt x="5162" y="3019"/>
                    </a:lnTo>
                    <a:lnTo>
                      <a:pt x="5170" y="3010"/>
                    </a:lnTo>
                    <a:lnTo>
                      <a:pt x="5170" y="2988"/>
                    </a:lnTo>
                    <a:lnTo>
                      <a:pt x="5197" y="2975"/>
                    </a:lnTo>
                    <a:lnTo>
                      <a:pt x="5184" y="2953"/>
                    </a:lnTo>
                    <a:lnTo>
                      <a:pt x="5197" y="2944"/>
                    </a:lnTo>
                    <a:lnTo>
                      <a:pt x="5206" y="2927"/>
                    </a:lnTo>
                    <a:lnTo>
                      <a:pt x="5192" y="2922"/>
                    </a:lnTo>
                    <a:lnTo>
                      <a:pt x="5210" y="2909"/>
                    </a:lnTo>
                    <a:lnTo>
                      <a:pt x="5206" y="2896"/>
                    </a:lnTo>
                    <a:lnTo>
                      <a:pt x="5219" y="2896"/>
                    </a:lnTo>
                    <a:lnTo>
                      <a:pt x="5232" y="2878"/>
                    </a:lnTo>
                    <a:lnTo>
                      <a:pt x="5223" y="2865"/>
                    </a:lnTo>
                    <a:lnTo>
                      <a:pt x="5249" y="2835"/>
                    </a:lnTo>
                    <a:lnTo>
                      <a:pt x="5223" y="2804"/>
                    </a:lnTo>
                    <a:lnTo>
                      <a:pt x="5254" y="2821"/>
                    </a:lnTo>
                    <a:lnTo>
                      <a:pt x="5258" y="2791"/>
                    </a:lnTo>
                    <a:lnTo>
                      <a:pt x="5280" y="2786"/>
                    </a:lnTo>
                    <a:lnTo>
                      <a:pt x="5328" y="2756"/>
                    </a:lnTo>
                    <a:lnTo>
                      <a:pt x="5364" y="2703"/>
                    </a:lnTo>
                    <a:lnTo>
                      <a:pt x="5408" y="2668"/>
                    </a:lnTo>
                    <a:lnTo>
                      <a:pt x="5403" y="2633"/>
                    </a:lnTo>
                    <a:lnTo>
                      <a:pt x="5429" y="2594"/>
                    </a:lnTo>
                    <a:lnTo>
                      <a:pt x="5473" y="2541"/>
                    </a:lnTo>
                    <a:lnTo>
                      <a:pt x="5495" y="2524"/>
                    </a:lnTo>
                    <a:lnTo>
                      <a:pt x="5539" y="2524"/>
                    </a:lnTo>
                    <a:lnTo>
                      <a:pt x="5548" y="2497"/>
                    </a:lnTo>
                    <a:lnTo>
                      <a:pt x="5557" y="2510"/>
                    </a:lnTo>
                    <a:lnTo>
                      <a:pt x="5566" y="2458"/>
                    </a:lnTo>
                    <a:lnTo>
                      <a:pt x="5588" y="2427"/>
                    </a:lnTo>
                    <a:lnTo>
                      <a:pt x="5605" y="2414"/>
                    </a:lnTo>
                    <a:lnTo>
                      <a:pt x="5596" y="2405"/>
                    </a:lnTo>
                    <a:lnTo>
                      <a:pt x="5605" y="2392"/>
                    </a:lnTo>
                    <a:lnTo>
                      <a:pt x="5592" y="2379"/>
                    </a:lnTo>
                    <a:lnTo>
                      <a:pt x="5605" y="2397"/>
                    </a:lnTo>
                    <a:lnTo>
                      <a:pt x="5605" y="2401"/>
                    </a:lnTo>
                    <a:lnTo>
                      <a:pt x="5614" y="2405"/>
                    </a:lnTo>
                    <a:lnTo>
                      <a:pt x="5627" y="2392"/>
                    </a:lnTo>
                    <a:lnTo>
                      <a:pt x="5631" y="2392"/>
                    </a:lnTo>
                    <a:lnTo>
                      <a:pt x="5627" y="2370"/>
                    </a:lnTo>
                    <a:lnTo>
                      <a:pt x="5631" y="2370"/>
                    </a:lnTo>
                    <a:lnTo>
                      <a:pt x="5640" y="2383"/>
                    </a:lnTo>
                    <a:lnTo>
                      <a:pt x="5675" y="2361"/>
                    </a:lnTo>
                    <a:lnTo>
                      <a:pt x="5706" y="2361"/>
                    </a:lnTo>
                    <a:lnTo>
                      <a:pt x="5728" y="2322"/>
                    </a:lnTo>
                    <a:lnTo>
                      <a:pt x="5719" y="2313"/>
                    </a:lnTo>
                    <a:lnTo>
                      <a:pt x="5711" y="2326"/>
                    </a:lnTo>
                    <a:lnTo>
                      <a:pt x="5702" y="2309"/>
                    </a:lnTo>
                    <a:lnTo>
                      <a:pt x="5693" y="2322"/>
                    </a:lnTo>
                    <a:lnTo>
                      <a:pt x="5697" y="2331"/>
                    </a:lnTo>
                    <a:lnTo>
                      <a:pt x="5684" y="2326"/>
                    </a:lnTo>
                    <a:lnTo>
                      <a:pt x="5680" y="2340"/>
                    </a:lnTo>
                    <a:lnTo>
                      <a:pt x="5649" y="2335"/>
                    </a:lnTo>
                    <a:lnTo>
                      <a:pt x="5623" y="2318"/>
                    </a:lnTo>
                    <a:lnTo>
                      <a:pt x="5627" y="2313"/>
                    </a:lnTo>
                    <a:lnTo>
                      <a:pt x="5662" y="2331"/>
                    </a:lnTo>
                    <a:lnTo>
                      <a:pt x="5693" y="2300"/>
                    </a:lnTo>
                    <a:lnTo>
                      <a:pt x="5675" y="2300"/>
                    </a:lnTo>
                    <a:lnTo>
                      <a:pt x="5693" y="2274"/>
                    </a:lnTo>
                    <a:lnTo>
                      <a:pt x="5671" y="2283"/>
                    </a:lnTo>
                    <a:lnTo>
                      <a:pt x="5618" y="2261"/>
                    </a:lnTo>
                    <a:lnTo>
                      <a:pt x="5649" y="2256"/>
                    </a:lnTo>
                    <a:lnTo>
                      <a:pt x="5671" y="2265"/>
                    </a:lnTo>
                    <a:lnTo>
                      <a:pt x="5671" y="2261"/>
                    </a:lnTo>
                    <a:lnTo>
                      <a:pt x="5662" y="2243"/>
                    </a:lnTo>
                    <a:lnTo>
                      <a:pt x="5671" y="2243"/>
                    </a:lnTo>
                    <a:lnTo>
                      <a:pt x="5693" y="2234"/>
                    </a:lnTo>
                    <a:lnTo>
                      <a:pt x="5680" y="2248"/>
                    </a:lnTo>
                    <a:lnTo>
                      <a:pt x="5684" y="2261"/>
                    </a:lnTo>
                    <a:lnTo>
                      <a:pt x="5697" y="2248"/>
                    </a:lnTo>
                    <a:lnTo>
                      <a:pt x="5706" y="2265"/>
                    </a:lnTo>
                    <a:lnTo>
                      <a:pt x="5715" y="2261"/>
                    </a:lnTo>
                    <a:lnTo>
                      <a:pt x="5733" y="2261"/>
                    </a:lnTo>
                    <a:lnTo>
                      <a:pt x="5746" y="2243"/>
                    </a:lnTo>
                    <a:lnTo>
                      <a:pt x="5759" y="2217"/>
                    </a:lnTo>
                    <a:lnTo>
                      <a:pt x="5772" y="2208"/>
                    </a:lnTo>
                    <a:lnTo>
                      <a:pt x="5772" y="2195"/>
                    </a:lnTo>
                    <a:lnTo>
                      <a:pt x="5763" y="2169"/>
                    </a:lnTo>
                    <a:lnTo>
                      <a:pt x="5746" y="2169"/>
                    </a:lnTo>
                    <a:lnTo>
                      <a:pt x="5733" y="2208"/>
                    </a:lnTo>
                    <a:lnTo>
                      <a:pt x="5724" y="2191"/>
                    </a:lnTo>
                    <a:lnTo>
                      <a:pt x="5719" y="2160"/>
                    </a:lnTo>
                    <a:lnTo>
                      <a:pt x="5689" y="2178"/>
                    </a:lnTo>
                    <a:lnTo>
                      <a:pt x="5640" y="2186"/>
                    </a:lnTo>
                    <a:lnTo>
                      <a:pt x="5649" y="2164"/>
                    </a:lnTo>
                    <a:lnTo>
                      <a:pt x="5671" y="2151"/>
                    </a:lnTo>
                    <a:lnTo>
                      <a:pt x="5715" y="2138"/>
                    </a:lnTo>
                    <a:lnTo>
                      <a:pt x="5702" y="2112"/>
                    </a:lnTo>
                    <a:lnTo>
                      <a:pt x="5733" y="2129"/>
                    </a:lnTo>
                    <a:lnTo>
                      <a:pt x="5719" y="2107"/>
                    </a:lnTo>
                    <a:lnTo>
                      <a:pt x="5750" y="2138"/>
                    </a:lnTo>
                    <a:lnTo>
                      <a:pt x="5728" y="2090"/>
                    </a:lnTo>
                    <a:lnTo>
                      <a:pt x="5706" y="2077"/>
                    </a:lnTo>
                    <a:lnTo>
                      <a:pt x="5711" y="2064"/>
                    </a:lnTo>
                    <a:lnTo>
                      <a:pt x="5733" y="2064"/>
                    </a:lnTo>
                    <a:lnTo>
                      <a:pt x="5702" y="2020"/>
                    </a:lnTo>
                    <a:lnTo>
                      <a:pt x="5675" y="2020"/>
                    </a:lnTo>
                    <a:lnTo>
                      <a:pt x="5662" y="2015"/>
                    </a:lnTo>
                    <a:lnTo>
                      <a:pt x="5662" y="2033"/>
                    </a:lnTo>
                    <a:lnTo>
                      <a:pt x="5649" y="2033"/>
                    </a:lnTo>
                    <a:lnTo>
                      <a:pt x="5614" y="2011"/>
                    </a:lnTo>
                    <a:lnTo>
                      <a:pt x="5614" y="2002"/>
                    </a:lnTo>
                    <a:lnTo>
                      <a:pt x="5570" y="1994"/>
                    </a:lnTo>
                    <a:lnTo>
                      <a:pt x="5583" y="1980"/>
                    </a:lnTo>
                    <a:lnTo>
                      <a:pt x="5588" y="1989"/>
                    </a:lnTo>
                    <a:lnTo>
                      <a:pt x="5618" y="1994"/>
                    </a:lnTo>
                    <a:lnTo>
                      <a:pt x="5623" y="2007"/>
                    </a:lnTo>
                    <a:lnTo>
                      <a:pt x="5649" y="2015"/>
                    </a:lnTo>
                    <a:lnTo>
                      <a:pt x="5662" y="2007"/>
                    </a:lnTo>
                    <a:lnTo>
                      <a:pt x="5662" y="1998"/>
                    </a:lnTo>
                    <a:lnTo>
                      <a:pt x="5649" y="1998"/>
                    </a:lnTo>
                    <a:lnTo>
                      <a:pt x="5653" y="1989"/>
                    </a:lnTo>
                    <a:lnTo>
                      <a:pt x="5640" y="1985"/>
                    </a:lnTo>
                    <a:lnTo>
                      <a:pt x="5627" y="1980"/>
                    </a:lnTo>
                    <a:lnTo>
                      <a:pt x="5592" y="1958"/>
                    </a:lnTo>
                    <a:lnTo>
                      <a:pt x="5583" y="1944"/>
                    </a:lnTo>
                    <a:lnTo>
                      <a:pt x="5601" y="1949"/>
                    </a:lnTo>
                    <a:lnTo>
                      <a:pt x="5631" y="1976"/>
                    </a:lnTo>
                    <a:lnTo>
                      <a:pt x="5645" y="1972"/>
                    </a:lnTo>
                    <a:lnTo>
                      <a:pt x="5636" y="1962"/>
                    </a:lnTo>
                    <a:lnTo>
                      <a:pt x="5631" y="1949"/>
                    </a:lnTo>
                    <a:lnTo>
                      <a:pt x="5645" y="1949"/>
                    </a:lnTo>
                    <a:lnTo>
                      <a:pt x="5653" y="1962"/>
                    </a:lnTo>
                    <a:lnTo>
                      <a:pt x="5653" y="1949"/>
                    </a:lnTo>
                    <a:lnTo>
                      <a:pt x="5627" y="1936"/>
                    </a:lnTo>
                    <a:lnTo>
                      <a:pt x="5640" y="1927"/>
                    </a:lnTo>
                    <a:lnTo>
                      <a:pt x="5610" y="1927"/>
                    </a:lnTo>
                    <a:lnTo>
                      <a:pt x="5552" y="1866"/>
                    </a:lnTo>
                    <a:lnTo>
                      <a:pt x="5592" y="1901"/>
                    </a:lnTo>
                    <a:lnTo>
                      <a:pt x="5618" y="1909"/>
                    </a:lnTo>
                    <a:lnTo>
                      <a:pt x="5636" y="1914"/>
                    </a:lnTo>
                    <a:lnTo>
                      <a:pt x="5631" y="1909"/>
                    </a:lnTo>
                    <a:lnTo>
                      <a:pt x="5627" y="1883"/>
                    </a:lnTo>
                    <a:lnTo>
                      <a:pt x="5640" y="1870"/>
                    </a:lnTo>
                    <a:lnTo>
                      <a:pt x="5601" y="1861"/>
                    </a:lnTo>
                    <a:lnTo>
                      <a:pt x="5588" y="1848"/>
                    </a:lnTo>
                    <a:lnTo>
                      <a:pt x="5548" y="1839"/>
                    </a:lnTo>
                    <a:lnTo>
                      <a:pt x="5535" y="1835"/>
                    </a:lnTo>
                    <a:lnTo>
                      <a:pt x="5526" y="1817"/>
                    </a:lnTo>
                    <a:lnTo>
                      <a:pt x="5526" y="1809"/>
                    </a:lnTo>
                    <a:lnTo>
                      <a:pt x="5548" y="1830"/>
                    </a:lnTo>
                    <a:lnTo>
                      <a:pt x="5548" y="1817"/>
                    </a:lnTo>
                    <a:lnTo>
                      <a:pt x="5561" y="1839"/>
                    </a:lnTo>
                    <a:lnTo>
                      <a:pt x="5570" y="1830"/>
                    </a:lnTo>
                    <a:lnTo>
                      <a:pt x="5592" y="1839"/>
                    </a:lnTo>
                    <a:lnTo>
                      <a:pt x="5605" y="1830"/>
                    </a:lnTo>
                    <a:lnTo>
                      <a:pt x="5623" y="1852"/>
                    </a:lnTo>
                    <a:lnTo>
                      <a:pt x="5605" y="1822"/>
                    </a:lnTo>
                    <a:lnTo>
                      <a:pt x="5570" y="1795"/>
                    </a:lnTo>
                    <a:lnTo>
                      <a:pt x="5605" y="1813"/>
                    </a:lnTo>
                    <a:lnTo>
                      <a:pt x="5583" y="1782"/>
                    </a:lnTo>
                    <a:lnTo>
                      <a:pt x="5579" y="1756"/>
                    </a:lnTo>
                    <a:lnTo>
                      <a:pt x="5583" y="1695"/>
                    </a:lnTo>
                    <a:lnTo>
                      <a:pt x="5561" y="1682"/>
                    </a:lnTo>
                    <a:lnTo>
                      <a:pt x="5605" y="1642"/>
                    </a:lnTo>
                    <a:lnTo>
                      <a:pt x="5605" y="1620"/>
                    </a:lnTo>
                    <a:lnTo>
                      <a:pt x="5631" y="1620"/>
                    </a:lnTo>
                    <a:lnTo>
                      <a:pt x="5627" y="1642"/>
                    </a:lnTo>
                    <a:lnTo>
                      <a:pt x="5605" y="1647"/>
                    </a:lnTo>
                    <a:lnTo>
                      <a:pt x="5601" y="1673"/>
                    </a:lnTo>
                    <a:lnTo>
                      <a:pt x="5605" y="1695"/>
                    </a:lnTo>
                    <a:lnTo>
                      <a:pt x="5614" y="1686"/>
                    </a:lnTo>
                    <a:lnTo>
                      <a:pt x="5610" y="1708"/>
                    </a:lnTo>
                    <a:lnTo>
                      <a:pt x="5614" y="1725"/>
                    </a:lnTo>
                    <a:lnTo>
                      <a:pt x="5618" y="1738"/>
                    </a:lnTo>
                    <a:lnTo>
                      <a:pt x="5605" y="1730"/>
                    </a:lnTo>
                    <a:lnTo>
                      <a:pt x="5605" y="1747"/>
                    </a:lnTo>
                    <a:lnTo>
                      <a:pt x="5627" y="1743"/>
                    </a:lnTo>
                    <a:lnTo>
                      <a:pt x="5627" y="1756"/>
                    </a:lnTo>
                    <a:lnTo>
                      <a:pt x="5640" y="1769"/>
                    </a:lnTo>
                    <a:lnTo>
                      <a:pt x="5614" y="1765"/>
                    </a:lnTo>
                    <a:lnTo>
                      <a:pt x="5623" y="1800"/>
                    </a:lnTo>
                    <a:lnTo>
                      <a:pt x="5649" y="1817"/>
                    </a:lnTo>
                    <a:lnTo>
                      <a:pt x="5667" y="1795"/>
                    </a:lnTo>
                    <a:lnTo>
                      <a:pt x="5667" y="1830"/>
                    </a:lnTo>
                    <a:lnTo>
                      <a:pt x="5689" y="1822"/>
                    </a:lnTo>
                    <a:lnTo>
                      <a:pt x="5675" y="1839"/>
                    </a:lnTo>
                    <a:lnTo>
                      <a:pt x="5693" y="1839"/>
                    </a:lnTo>
                    <a:lnTo>
                      <a:pt x="5680" y="1852"/>
                    </a:lnTo>
                    <a:lnTo>
                      <a:pt x="5684" y="1861"/>
                    </a:lnTo>
                    <a:lnTo>
                      <a:pt x="5711" y="1848"/>
                    </a:lnTo>
                    <a:lnTo>
                      <a:pt x="5689" y="1918"/>
                    </a:lnTo>
                    <a:lnTo>
                      <a:pt x="5689" y="1962"/>
                    </a:lnTo>
                    <a:lnTo>
                      <a:pt x="5697" y="1985"/>
                    </a:lnTo>
                    <a:lnTo>
                      <a:pt x="5706" y="1927"/>
                    </a:lnTo>
                    <a:lnTo>
                      <a:pt x="5724" y="1909"/>
                    </a:lnTo>
                    <a:lnTo>
                      <a:pt x="5741" y="1830"/>
                    </a:lnTo>
                    <a:lnTo>
                      <a:pt x="5750" y="1795"/>
                    </a:lnTo>
                    <a:lnTo>
                      <a:pt x="5754" y="1817"/>
                    </a:lnTo>
                    <a:lnTo>
                      <a:pt x="5750" y="1826"/>
                    </a:lnTo>
                    <a:lnTo>
                      <a:pt x="5746" y="1844"/>
                    </a:lnTo>
                    <a:lnTo>
                      <a:pt x="5746" y="1861"/>
                    </a:lnTo>
                    <a:lnTo>
                      <a:pt x="5759" y="1826"/>
                    </a:lnTo>
                    <a:lnTo>
                      <a:pt x="5763" y="1756"/>
                    </a:lnTo>
                    <a:lnTo>
                      <a:pt x="5759" y="1743"/>
                    </a:lnTo>
                    <a:lnTo>
                      <a:pt x="5741" y="1743"/>
                    </a:lnTo>
                    <a:lnTo>
                      <a:pt x="5759" y="1730"/>
                    </a:lnTo>
                    <a:lnTo>
                      <a:pt x="5746" y="1708"/>
                    </a:lnTo>
                    <a:lnTo>
                      <a:pt x="5728" y="1703"/>
                    </a:lnTo>
                    <a:lnTo>
                      <a:pt x="5715" y="1690"/>
                    </a:lnTo>
                    <a:lnTo>
                      <a:pt x="5702" y="1673"/>
                    </a:lnTo>
                    <a:lnTo>
                      <a:pt x="5697" y="1647"/>
                    </a:lnTo>
                    <a:lnTo>
                      <a:pt x="5675" y="1629"/>
                    </a:lnTo>
                    <a:lnTo>
                      <a:pt x="5662" y="1616"/>
                    </a:lnTo>
                    <a:lnTo>
                      <a:pt x="5662" y="1594"/>
                    </a:lnTo>
                    <a:lnTo>
                      <a:pt x="5667" y="1585"/>
                    </a:lnTo>
                    <a:lnTo>
                      <a:pt x="5671" y="1611"/>
                    </a:lnTo>
                    <a:lnTo>
                      <a:pt x="5689" y="1625"/>
                    </a:lnTo>
                    <a:lnTo>
                      <a:pt x="5728" y="1647"/>
                    </a:lnTo>
                    <a:lnTo>
                      <a:pt x="5754" y="1647"/>
                    </a:lnTo>
                    <a:lnTo>
                      <a:pt x="5763" y="1660"/>
                    </a:lnTo>
                    <a:lnTo>
                      <a:pt x="5759" y="1686"/>
                    </a:lnTo>
                    <a:lnTo>
                      <a:pt x="5768" y="1682"/>
                    </a:lnTo>
                    <a:lnTo>
                      <a:pt x="5790" y="1620"/>
                    </a:lnTo>
                    <a:lnTo>
                      <a:pt x="5807" y="1594"/>
                    </a:lnTo>
                    <a:lnTo>
                      <a:pt x="5803" y="1576"/>
                    </a:lnTo>
                    <a:lnTo>
                      <a:pt x="5812" y="1576"/>
                    </a:lnTo>
                    <a:lnTo>
                      <a:pt x="5820" y="1555"/>
                    </a:lnTo>
                    <a:lnTo>
                      <a:pt x="5816" y="1533"/>
                    </a:lnTo>
                    <a:lnTo>
                      <a:pt x="5820" y="1524"/>
                    </a:lnTo>
                    <a:lnTo>
                      <a:pt x="5816" y="1506"/>
                    </a:lnTo>
                    <a:lnTo>
                      <a:pt x="5820" y="1493"/>
                    </a:lnTo>
                    <a:lnTo>
                      <a:pt x="5829" y="1515"/>
                    </a:lnTo>
                    <a:lnTo>
                      <a:pt x="5829" y="1533"/>
                    </a:lnTo>
                    <a:lnTo>
                      <a:pt x="5829" y="1454"/>
                    </a:lnTo>
                    <a:lnTo>
                      <a:pt x="5816" y="1432"/>
                    </a:lnTo>
                    <a:lnTo>
                      <a:pt x="5812" y="1427"/>
                    </a:lnTo>
                    <a:lnTo>
                      <a:pt x="5816" y="1436"/>
                    </a:lnTo>
                    <a:lnTo>
                      <a:pt x="5807" y="1436"/>
                    </a:lnTo>
                    <a:lnTo>
                      <a:pt x="5794" y="1436"/>
                    </a:lnTo>
                    <a:lnTo>
                      <a:pt x="5781" y="1432"/>
                    </a:lnTo>
                    <a:lnTo>
                      <a:pt x="5794" y="1427"/>
                    </a:lnTo>
                    <a:lnTo>
                      <a:pt x="5807" y="1406"/>
                    </a:lnTo>
                    <a:lnTo>
                      <a:pt x="5798" y="1401"/>
                    </a:lnTo>
                    <a:lnTo>
                      <a:pt x="5807" y="1357"/>
                    </a:lnTo>
                    <a:lnTo>
                      <a:pt x="5816" y="1375"/>
                    </a:lnTo>
                    <a:lnTo>
                      <a:pt x="5825" y="1362"/>
                    </a:lnTo>
                    <a:lnTo>
                      <a:pt x="5829" y="1335"/>
                    </a:lnTo>
                    <a:lnTo>
                      <a:pt x="5851" y="1331"/>
                    </a:lnTo>
                    <a:lnTo>
                      <a:pt x="5860" y="1314"/>
                    </a:lnTo>
                    <a:lnTo>
                      <a:pt x="5891" y="1300"/>
                    </a:lnTo>
                    <a:lnTo>
                      <a:pt x="5904" y="1274"/>
                    </a:lnTo>
                    <a:lnTo>
                      <a:pt x="5913" y="1279"/>
                    </a:lnTo>
                    <a:lnTo>
                      <a:pt x="5935" y="1270"/>
                    </a:lnTo>
                    <a:lnTo>
                      <a:pt x="5970" y="1265"/>
                    </a:lnTo>
                    <a:lnTo>
                      <a:pt x="5970" y="1252"/>
                    </a:lnTo>
                    <a:lnTo>
                      <a:pt x="5974" y="1261"/>
                    </a:lnTo>
                    <a:lnTo>
                      <a:pt x="5987" y="1248"/>
                    </a:lnTo>
                    <a:lnTo>
                      <a:pt x="6005" y="1244"/>
                    </a:lnTo>
                    <a:lnTo>
                      <a:pt x="6027" y="1235"/>
                    </a:lnTo>
                    <a:lnTo>
                      <a:pt x="6027" y="1244"/>
                    </a:lnTo>
                    <a:lnTo>
                      <a:pt x="6066" y="1222"/>
                    </a:lnTo>
                    <a:lnTo>
                      <a:pt x="6062" y="1191"/>
                    </a:lnTo>
                    <a:lnTo>
                      <a:pt x="6071" y="1178"/>
                    </a:lnTo>
                    <a:lnTo>
                      <a:pt x="6079" y="1187"/>
                    </a:lnTo>
                    <a:lnTo>
                      <a:pt x="6079" y="1208"/>
                    </a:lnTo>
                    <a:lnTo>
                      <a:pt x="6088" y="1204"/>
                    </a:lnTo>
                    <a:lnTo>
                      <a:pt x="6101" y="1187"/>
                    </a:lnTo>
                    <a:lnTo>
                      <a:pt x="6115" y="1191"/>
                    </a:lnTo>
                    <a:lnTo>
                      <a:pt x="6119" y="1173"/>
                    </a:lnTo>
                    <a:lnTo>
                      <a:pt x="6132" y="1165"/>
                    </a:lnTo>
                    <a:lnTo>
                      <a:pt x="6132" y="1143"/>
                    </a:lnTo>
                    <a:lnTo>
                      <a:pt x="6137" y="1143"/>
                    </a:lnTo>
                    <a:lnTo>
                      <a:pt x="6150" y="1173"/>
                    </a:lnTo>
                    <a:lnTo>
                      <a:pt x="6167" y="1165"/>
                    </a:lnTo>
                    <a:lnTo>
                      <a:pt x="6172" y="1152"/>
                    </a:lnTo>
                    <a:lnTo>
                      <a:pt x="6198" y="1138"/>
                    </a:lnTo>
                    <a:lnTo>
                      <a:pt x="6211" y="1138"/>
                    </a:lnTo>
                    <a:lnTo>
                      <a:pt x="6224" y="1147"/>
                    </a:lnTo>
                    <a:lnTo>
                      <a:pt x="6220" y="1116"/>
                    </a:lnTo>
                    <a:lnTo>
                      <a:pt x="6198" y="1081"/>
                    </a:lnTo>
                    <a:lnTo>
                      <a:pt x="6189" y="1077"/>
                    </a:lnTo>
                    <a:lnTo>
                      <a:pt x="6176" y="1081"/>
                    </a:lnTo>
                    <a:lnTo>
                      <a:pt x="6176" y="1086"/>
                    </a:lnTo>
                    <a:lnTo>
                      <a:pt x="6185" y="1086"/>
                    </a:lnTo>
                    <a:lnTo>
                      <a:pt x="6198" y="1090"/>
                    </a:lnTo>
                    <a:lnTo>
                      <a:pt x="6207" y="1099"/>
                    </a:lnTo>
                    <a:lnTo>
                      <a:pt x="6211" y="1112"/>
                    </a:lnTo>
                    <a:lnTo>
                      <a:pt x="6207" y="1121"/>
                    </a:lnTo>
                    <a:lnTo>
                      <a:pt x="6167" y="1138"/>
                    </a:lnTo>
                    <a:lnTo>
                      <a:pt x="6154" y="1130"/>
                    </a:lnTo>
                    <a:lnTo>
                      <a:pt x="6145" y="1112"/>
                    </a:lnTo>
                    <a:lnTo>
                      <a:pt x="6132" y="1108"/>
                    </a:lnTo>
                    <a:lnTo>
                      <a:pt x="6132" y="1095"/>
                    </a:lnTo>
                    <a:lnTo>
                      <a:pt x="6115" y="1077"/>
                    </a:lnTo>
                    <a:lnTo>
                      <a:pt x="6093" y="1064"/>
                    </a:lnTo>
                    <a:lnTo>
                      <a:pt x="6093" y="1077"/>
                    </a:lnTo>
                    <a:lnTo>
                      <a:pt x="6079" y="1073"/>
                    </a:lnTo>
                    <a:lnTo>
                      <a:pt x="6075" y="1060"/>
                    </a:lnTo>
                    <a:lnTo>
                      <a:pt x="6079" y="1046"/>
                    </a:lnTo>
                    <a:lnTo>
                      <a:pt x="6088" y="1038"/>
                    </a:lnTo>
                    <a:lnTo>
                      <a:pt x="6088" y="1029"/>
                    </a:lnTo>
                    <a:lnTo>
                      <a:pt x="6106" y="1016"/>
                    </a:lnTo>
                    <a:lnTo>
                      <a:pt x="6084" y="1003"/>
                    </a:lnTo>
                    <a:lnTo>
                      <a:pt x="6079" y="981"/>
                    </a:lnTo>
                    <a:lnTo>
                      <a:pt x="6084" y="954"/>
                    </a:lnTo>
                    <a:lnTo>
                      <a:pt x="6079" y="941"/>
                    </a:lnTo>
                    <a:lnTo>
                      <a:pt x="6088" y="941"/>
                    </a:lnTo>
                    <a:lnTo>
                      <a:pt x="6093" y="897"/>
                    </a:lnTo>
                    <a:lnTo>
                      <a:pt x="6106" y="884"/>
                    </a:lnTo>
                    <a:lnTo>
                      <a:pt x="6101" y="862"/>
                    </a:lnTo>
                    <a:lnTo>
                      <a:pt x="6115" y="854"/>
                    </a:lnTo>
                    <a:lnTo>
                      <a:pt x="6106" y="849"/>
                    </a:lnTo>
                    <a:lnTo>
                      <a:pt x="6110" y="827"/>
                    </a:lnTo>
                    <a:lnTo>
                      <a:pt x="6137" y="805"/>
                    </a:lnTo>
                    <a:lnTo>
                      <a:pt x="6154" y="827"/>
                    </a:lnTo>
                    <a:lnTo>
                      <a:pt x="6150" y="801"/>
                    </a:lnTo>
                    <a:lnTo>
                      <a:pt x="6167" y="801"/>
                    </a:lnTo>
                    <a:lnTo>
                      <a:pt x="6180" y="762"/>
                    </a:lnTo>
                    <a:lnTo>
                      <a:pt x="6198" y="770"/>
                    </a:lnTo>
                    <a:lnTo>
                      <a:pt x="6207" y="766"/>
                    </a:lnTo>
                    <a:lnTo>
                      <a:pt x="6216" y="753"/>
                    </a:lnTo>
                    <a:lnTo>
                      <a:pt x="6211" y="696"/>
                    </a:lnTo>
                    <a:lnTo>
                      <a:pt x="6229" y="665"/>
                    </a:lnTo>
                    <a:lnTo>
                      <a:pt x="6242" y="683"/>
                    </a:lnTo>
                    <a:lnTo>
                      <a:pt x="6233" y="705"/>
                    </a:lnTo>
                    <a:lnTo>
                      <a:pt x="6251" y="705"/>
                    </a:lnTo>
                    <a:lnTo>
                      <a:pt x="6255" y="687"/>
                    </a:lnTo>
                    <a:lnTo>
                      <a:pt x="6277" y="678"/>
                    </a:lnTo>
                    <a:lnTo>
                      <a:pt x="6290" y="657"/>
                    </a:lnTo>
                    <a:lnTo>
                      <a:pt x="6312" y="678"/>
                    </a:lnTo>
                    <a:lnTo>
                      <a:pt x="6317" y="652"/>
                    </a:lnTo>
                    <a:lnTo>
                      <a:pt x="6325" y="661"/>
                    </a:lnTo>
                    <a:lnTo>
                      <a:pt x="6325" y="635"/>
                    </a:lnTo>
                    <a:lnTo>
                      <a:pt x="6343" y="643"/>
                    </a:lnTo>
                    <a:lnTo>
                      <a:pt x="6356" y="630"/>
                    </a:lnTo>
                    <a:lnTo>
                      <a:pt x="6356" y="617"/>
                    </a:lnTo>
                    <a:lnTo>
                      <a:pt x="6369" y="604"/>
                    </a:lnTo>
                    <a:lnTo>
                      <a:pt x="6387" y="608"/>
                    </a:lnTo>
                    <a:lnTo>
                      <a:pt x="6404" y="569"/>
                    </a:lnTo>
                    <a:lnTo>
                      <a:pt x="6382" y="569"/>
                    </a:lnTo>
                    <a:lnTo>
                      <a:pt x="6382" y="565"/>
                    </a:lnTo>
                    <a:lnTo>
                      <a:pt x="6391" y="556"/>
                    </a:lnTo>
                    <a:lnTo>
                      <a:pt x="6361" y="525"/>
                    </a:lnTo>
                    <a:lnTo>
                      <a:pt x="6356" y="534"/>
                    </a:lnTo>
                    <a:lnTo>
                      <a:pt x="6325" y="490"/>
                    </a:lnTo>
                    <a:lnTo>
                      <a:pt x="6330" y="481"/>
                    </a:lnTo>
                    <a:lnTo>
                      <a:pt x="6325" y="468"/>
                    </a:lnTo>
                    <a:lnTo>
                      <a:pt x="6286" y="468"/>
                    </a:lnTo>
                    <a:lnTo>
                      <a:pt x="6229" y="275"/>
                    </a:lnTo>
                    <a:lnTo>
                      <a:pt x="6202" y="254"/>
                    </a:lnTo>
                    <a:lnTo>
                      <a:pt x="6167" y="236"/>
                    </a:lnTo>
                    <a:lnTo>
                      <a:pt x="6150" y="245"/>
                    </a:lnTo>
                    <a:lnTo>
                      <a:pt x="6150" y="254"/>
                    </a:lnTo>
                    <a:lnTo>
                      <a:pt x="6084" y="275"/>
                    </a:lnTo>
                    <a:lnTo>
                      <a:pt x="6079" y="249"/>
                    </a:lnTo>
                    <a:lnTo>
                      <a:pt x="6066" y="249"/>
                    </a:lnTo>
                    <a:lnTo>
                      <a:pt x="6014" y="385"/>
                    </a:lnTo>
                    <a:lnTo>
                      <a:pt x="6014" y="407"/>
                    </a:lnTo>
                    <a:lnTo>
                      <a:pt x="6000" y="468"/>
                    </a:lnTo>
                    <a:lnTo>
                      <a:pt x="6014" y="516"/>
                    </a:lnTo>
                    <a:lnTo>
                      <a:pt x="5983" y="578"/>
                    </a:lnTo>
                    <a:lnTo>
                      <a:pt x="5983" y="622"/>
                    </a:lnTo>
                    <a:lnTo>
                      <a:pt x="5956" y="617"/>
                    </a:lnTo>
                    <a:lnTo>
                      <a:pt x="5921" y="643"/>
                    </a:lnTo>
                    <a:lnTo>
                      <a:pt x="5921" y="678"/>
                    </a:lnTo>
                    <a:lnTo>
                      <a:pt x="5728" y="727"/>
                    </a:lnTo>
                    <a:lnTo>
                      <a:pt x="5579" y="762"/>
                    </a:lnTo>
                    <a:lnTo>
                      <a:pt x="5570" y="762"/>
                    </a:lnTo>
                    <a:lnTo>
                      <a:pt x="5522" y="801"/>
                    </a:lnTo>
                    <a:lnTo>
                      <a:pt x="5487" y="854"/>
                    </a:lnTo>
                    <a:lnTo>
                      <a:pt x="5482" y="880"/>
                    </a:lnTo>
                    <a:lnTo>
                      <a:pt x="5465" y="906"/>
                    </a:lnTo>
                    <a:lnTo>
                      <a:pt x="5429" y="933"/>
                    </a:lnTo>
                    <a:lnTo>
                      <a:pt x="5447" y="954"/>
                    </a:lnTo>
                    <a:lnTo>
                      <a:pt x="5451" y="937"/>
                    </a:lnTo>
                    <a:lnTo>
                      <a:pt x="5460" y="941"/>
                    </a:lnTo>
                    <a:lnTo>
                      <a:pt x="5451" y="954"/>
                    </a:lnTo>
                    <a:lnTo>
                      <a:pt x="5460" y="954"/>
                    </a:lnTo>
                    <a:lnTo>
                      <a:pt x="5451" y="968"/>
                    </a:lnTo>
                    <a:lnTo>
                      <a:pt x="5447" y="972"/>
                    </a:lnTo>
                    <a:lnTo>
                      <a:pt x="5465" y="998"/>
                    </a:lnTo>
                    <a:lnTo>
                      <a:pt x="5465" y="1011"/>
                    </a:lnTo>
                    <a:lnTo>
                      <a:pt x="5443" y="1024"/>
                    </a:lnTo>
                    <a:lnTo>
                      <a:pt x="5416" y="1060"/>
                    </a:lnTo>
                    <a:lnTo>
                      <a:pt x="5394" y="1077"/>
                    </a:lnTo>
                    <a:lnTo>
                      <a:pt x="5346" y="1081"/>
                    </a:lnTo>
                    <a:lnTo>
                      <a:pt x="5333" y="1095"/>
                    </a:lnTo>
                    <a:lnTo>
                      <a:pt x="5302" y="1081"/>
                    </a:lnTo>
                    <a:lnTo>
                      <a:pt x="5223" y="1090"/>
                    </a:lnTo>
                    <a:lnTo>
                      <a:pt x="5166" y="1112"/>
                    </a:lnTo>
                    <a:lnTo>
                      <a:pt x="5170" y="1138"/>
                    </a:lnTo>
                    <a:lnTo>
                      <a:pt x="5166" y="1143"/>
                    </a:lnTo>
                    <a:lnTo>
                      <a:pt x="5170" y="1143"/>
                    </a:lnTo>
                    <a:lnTo>
                      <a:pt x="5184" y="1165"/>
                    </a:lnTo>
                    <a:lnTo>
                      <a:pt x="5197" y="1182"/>
                    </a:lnTo>
                    <a:lnTo>
                      <a:pt x="5197" y="1191"/>
                    </a:lnTo>
                    <a:lnTo>
                      <a:pt x="5184" y="1204"/>
                    </a:lnTo>
                    <a:lnTo>
                      <a:pt x="5170" y="1222"/>
                    </a:lnTo>
                    <a:lnTo>
                      <a:pt x="5109" y="1283"/>
                    </a:lnTo>
                    <a:lnTo>
                      <a:pt x="5030" y="1340"/>
                    </a:lnTo>
                    <a:lnTo>
                      <a:pt x="4977" y="1366"/>
                    </a:lnTo>
                    <a:lnTo>
                      <a:pt x="4942" y="1388"/>
                    </a:lnTo>
                    <a:lnTo>
                      <a:pt x="4929" y="1406"/>
                    </a:lnTo>
                    <a:lnTo>
                      <a:pt x="4898" y="1436"/>
                    </a:lnTo>
                    <a:lnTo>
                      <a:pt x="4867" y="1436"/>
                    </a:lnTo>
                    <a:lnTo>
                      <a:pt x="4832" y="1454"/>
                    </a:lnTo>
                    <a:lnTo>
                      <a:pt x="4819" y="1463"/>
                    </a:lnTo>
                    <a:lnTo>
                      <a:pt x="4796" y="1449"/>
                    </a:lnTo>
                    <a:lnTo>
                      <a:pt x="4765" y="1463"/>
                    </a:lnTo>
                    <a:lnTo>
                      <a:pt x="4765" y="1458"/>
                    </a:lnTo>
                    <a:lnTo>
                      <a:pt x="4787" y="1445"/>
                    </a:lnTo>
                    <a:lnTo>
                      <a:pt x="4774" y="1436"/>
                    </a:lnTo>
                    <a:lnTo>
                      <a:pt x="4765" y="1445"/>
                    </a:lnTo>
                    <a:lnTo>
                      <a:pt x="4717" y="1427"/>
                    </a:lnTo>
                    <a:lnTo>
                      <a:pt x="4699" y="1436"/>
                    </a:lnTo>
                    <a:lnTo>
                      <a:pt x="4699" y="1423"/>
                    </a:lnTo>
                    <a:lnTo>
                      <a:pt x="4717" y="1388"/>
                    </a:lnTo>
                    <a:lnTo>
                      <a:pt x="4730" y="1371"/>
                    </a:lnTo>
                    <a:lnTo>
                      <a:pt x="4730" y="1335"/>
                    </a:lnTo>
                    <a:lnTo>
                      <a:pt x="4748" y="1318"/>
                    </a:lnTo>
                    <a:lnTo>
                      <a:pt x="4757" y="1305"/>
                    </a:lnTo>
                    <a:lnTo>
                      <a:pt x="4757" y="1274"/>
                    </a:lnTo>
                    <a:lnTo>
                      <a:pt x="4765" y="1270"/>
                    </a:lnTo>
                    <a:lnTo>
                      <a:pt x="4779" y="1287"/>
                    </a:lnTo>
                    <a:lnTo>
                      <a:pt x="4787" y="1270"/>
                    </a:lnTo>
                    <a:lnTo>
                      <a:pt x="4783" y="1235"/>
                    </a:lnTo>
                    <a:lnTo>
                      <a:pt x="4787" y="1213"/>
                    </a:lnTo>
                    <a:lnTo>
                      <a:pt x="4779" y="1191"/>
                    </a:lnTo>
                    <a:lnTo>
                      <a:pt x="4761" y="1112"/>
                    </a:lnTo>
                    <a:lnTo>
                      <a:pt x="4739" y="1073"/>
                    </a:lnTo>
                    <a:lnTo>
                      <a:pt x="4717" y="1060"/>
                    </a:lnTo>
                    <a:lnTo>
                      <a:pt x="4678" y="1081"/>
                    </a:lnTo>
                    <a:lnTo>
                      <a:pt x="4660" y="1116"/>
                    </a:lnTo>
                    <a:lnTo>
                      <a:pt x="4638" y="1143"/>
                    </a:lnTo>
                    <a:lnTo>
                      <a:pt x="4612" y="1130"/>
                    </a:lnTo>
                    <a:lnTo>
                      <a:pt x="4607" y="1095"/>
                    </a:lnTo>
                    <a:lnTo>
                      <a:pt x="4612" y="1081"/>
                    </a:lnTo>
                    <a:lnTo>
                      <a:pt x="4638" y="1068"/>
                    </a:lnTo>
                    <a:lnTo>
                      <a:pt x="4642" y="1051"/>
                    </a:lnTo>
                    <a:lnTo>
                      <a:pt x="4660" y="1024"/>
                    </a:lnTo>
                    <a:lnTo>
                      <a:pt x="4660" y="998"/>
                    </a:lnTo>
                    <a:lnTo>
                      <a:pt x="4660" y="954"/>
                    </a:lnTo>
                    <a:lnTo>
                      <a:pt x="4638" y="928"/>
                    </a:lnTo>
                    <a:lnTo>
                      <a:pt x="4638" y="915"/>
                    </a:lnTo>
                    <a:lnTo>
                      <a:pt x="4660" y="915"/>
                    </a:lnTo>
                    <a:lnTo>
                      <a:pt x="4638" y="893"/>
                    </a:lnTo>
                    <a:lnTo>
                      <a:pt x="4625" y="871"/>
                    </a:lnTo>
                    <a:lnTo>
                      <a:pt x="4563" y="854"/>
                    </a:lnTo>
                    <a:lnTo>
                      <a:pt x="4541" y="836"/>
                    </a:lnTo>
                    <a:lnTo>
                      <a:pt x="4484" y="819"/>
                    </a:lnTo>
                    <a:lnTo>
                      <a:pt x="4462" y="827"/>
                    </a:lnTo>
                    <a:lnTo>
                      <a:pt x="4449" y="854"/>
                    </a:lnTo>
                    <a:lnTo>
                      <a:pt x="4454" y="871"/>
                    </a:lnTo>
                    <a:lnTo>
                      <a:pt x="4476" y="884"/>
                    </a:lnTo>
                    <a:lnTo>
                      <a:pt x="4454" y="889"/>
                    </a:lnTo>
                    <a:lnTo>
                      <a:pt x="4427" y="915"/>
                    </a:lnTo>
                    <a:lnTo>
                      <a:pt x="4427" y="968"/>
                    </a:lnTo>
                    <a:lnTo>
                      <a:pt x="4405" y="981"/>
                    </a:lnTo>
                    <a:lnTo>
                      <a:pt x="4410" y="915"/>
                    </a:lnTo>
                    <a:lnTo>
                      <a:pt x="4383" y="959"/>
                    </a:lnTo>
                    <a:lnTo>
                      <a:pt x="4357" y="972"/>
                    </a:lnTo>
                    <a:lnTo>
                      <a:pt x="4361" y="989"/>
                    </a:lnTo>
                    <a:lnTo>
                      <a:pt x="4339" y="1007"/>
                    </a:lnTo>
                    <a:lnTo>
                      <a:pt x="4344" y="1029"/>
                    </a:lnTo>
                    <a:lnTo>
                      <a:pt x="4335" y="1090"/>
                    </a:lnTo>
                    <a:lnTo>
                      <a:pt x="4322" y="1108"/>
                    </a:lnTo>
                    <a:lnTo>
                      <a:pt x="4335" y="1143"/>
                    </a:lnTo>
                    <a:lnTo>
                      <a:pt x="4322" y="1165"/>
                    </a:lnTo>
                    <a:lnTo>
                      <a:pt x="4335" y="1195"/>
                    </a:lnTo>
                    <a:lnTo>
                      <a:pt x="4366" y="1244"/>
                    </a:lnTo>
                    <a:lnTo>
                      <a:pt x="4375" y="1300"/>
                    </a:lnTo>
                    <a:lnTo>
                      <a:pt x="4370" y="1357"/>
                    </a:lnTo>
                    <a:lnTo>
                      <a:pt x="4366" y="1384"/>
                    </a:lnTo>
                    <a:lnTo>
                      <a:pt x="4317" y="1463"/>
                    </a:lnTo>
                    <a:lnTo>
                      <a:pt x="4274" y="1489"/>
                    </a:lnTo>
                    <a:lnTo>
                      <a:pt x="4238" y="1471"/>
                    </a:lnTo>
                    <a:lnTo>
                      <a:pt x="4208" y="1414"/>
                    </a:lnTo>
                    <a:lnTo>
                      <a:pt x="4194" y="1357"/>
                    </a:lnTo>
                    <a:lnTo>
                      <a:pt x="4177" y="1252"/>
                    </a:lnTo>
                    <a:lnTo>
                      <a:pt x="4190" y="1143"/>
                    </a:lnTo>
                    <a:lnTo>
                      <a:pt x="4208" y="1095"/>
                    </a:lnTo>
                    <a:lnTo>
                      <a:pt x="4208" y="1051"/>
                    </a:lnTo>
                    <a:lnTo>
                      <a:pt x="4252" y="954"/>
                    </a:lnTo>
                    <a:lnTo>
                      <a:pt x="4252" y="924"/>
                    </a:lnTo>
                    <a:lnTo>
                      <a:pt x="4238" y="924"/>
                    </a:lnTo>
                    <a:lnTo>
                      <a:pt x="4225" y="941"/>
                    </a:lnTo>
                    <a:lnTo>
                      <a:pt x="4212" y="998"/>
                    </a:lnTo>
                    <a:lnTo>
                      <a:pt x="4186" y="998"/>
                    </a:lnTo>
                    <a:lnTo>
                      <a:pt x="4172" y="1029"/>
                    </a:lnTo>
                    <a:lnTo>
                      <a:pt x="4146" y="1051"/>
                    </a:lnTo>
                    <a:lnTo>
                      <a:pt x="4151" y="1016"/>
                    </a:lnTo>
                    <a:lnTo>
                      <a:pt x="4168" y="981"/>
                    </a:lnTo>
                    <a:lnTo>
                      <a:pt x="4181" y="972"/>
                    </a:lnTo>
                    <a:lnTo>
                      <a:pt x="4186" y="959"/>
                    </a:lnTo>
                    <a:lnTo>
                      <a:pt x="4216" y="884"/>
                    </a:lnTo>
                    <a:lnTo>
                      <a:pt x="4225" y="871"/>
                    </a:lnTo>
                    <a:lnTo>
                      <a:pt x="4230" y="854"/>
                    </a:lnTo>
                    <a:lnTo>
                      <a:pt x="4230" y="849"/>
                    </a:lnTo>
                    <a:lnTo>
                      <a:pt x="4243" y="827"/>
                    </a:lnTo>
                    <a:lnTo>
                      <a:pt x="4252" y="827"/>
                    </a:lnTo>
                    <a:lnTo>
                      <a:pt x="4243" y="841"/>
                    </a:lnTo>
                    <a:lnTo>
                      <a:pt x="4247" y="858"/>
                    </a:lnTo>
                    <a:lnTo>
                      <a:pt x="4256" y="854"/>
                    </a:lnTo>
                    <a:lnTo>
                      <a:pt x="4265" y="832"/>
                    </a:lnTo>
                    <a:lnTo>
                      <a:pt x="4278" y="832"/>
                    </a:lnTo>
                    <a:lnTo>
                      <a:pt x="4291" y="823"/>
                    </a:lnTo>
                    <a:lnTo>
                      <a:pt x="4291" y="827"/>
                    </a:lnTo>
                    <a:lnTo>
                      <a:pt x="4274" y="862"/>
                    </a:lnTo>
                    <a:lnTo>
                      <a:pt x="4287" y="871"/>
                    </a:lnTo>
                    <a:lnTo>
                      <a:pt x="4295" y="849"/>
                    </a:lnTo>
                    <a:lnTo>
                      <a:pt x="4309" y="841"/>
                    </a:lnTo>
                    <a:lnTo>
                      <a:pt x="4317" y="810"/>
                    </a:lnTo>
                    <a:lnTo>
                      <a:pt x="4361" y="805"/>
                    </a:lnTo>
                    <a:lnTo>
                      <a:pt x="4379" y="805"/>
                    </a:lnTo>
                    <a:lnTo>
                      <a:pt x="4410" y="784"/>
                    </a:lnTo>
                    <a:lnTo>
                      <a:pt x="4454" y="788"/>
                    </a:lnTo>
                    <a:lnTo>
                      <a:pt x="4484" y="810"/>
                    </a:lnTo>
                    <a:lnTo>
                      <a:pt x="4489" y="784"/>
                    </a:lnTo>
                    <a:lnTo>
                      <a:pt x="4502" y="784"/>
                    </a:lnTo>
                    <a:lnTo>
                      <a:pt x="4541" y="784"/>
                    </a:lnTo>
                    <a:lnTo>
                      <a:pt x="4568" y="779"/>
                    </a:lnTo>
                    <a:lnTo>
                      <a:pt x="4533" y="757"/>
                    </a:lnTo>
                    <a:lnTo>
                      <a:pt x="4524" y="713"/>
                    </a:lnTo>
                    <a:lnTo>
                      <a:pt x="4493" y="722"/>
                    </a:lnTo>
                    <a:lnTo>
                      <a:pt x="4480" y="713"/>
                    </a:lnTo>
                    <a:lnTo>
                      <a:pt x="4467" y="722"/>
                    </a:lnTo>
                    <a:lnTo>
                      <a:pt x="4449" y="718"/>
                    </a:lnTo>
                    <a:lnTo>
                      <a:pt x="4445" y="718"/>
                    </a:lnTo>
                    <a:lnTo>
                      <a:pt x="4436" y="696"/>
                    </a:lnTo>
                    <a:lnTo>
                      <a:pt x="4449" y="674"/>
                    </a:lnTo>
                    <a:lnTo>
                      <a:pt x="4414" y="678"/>
                    </a:lnTo>
                    <a:lnTo>
                      <a:pt x="4383" y="696"/>
                    </a:lnTo>
                    <a:lnTo>
                      <a:pt x="4317" y="705"/>
                    </a:lnTo>
                    <a:lnTo>
                      <a:pt x="4269" y="744"/>
                    </a:lnTo>
                    <a:lnTo>
                      <a:pt x="4260" y="740"/>
                    </a:lnTo>
                    <a:lnTo>
                      <a:pt x="4252" y="744"/>
                    </a:lnTo>
                    <a:lnTo>
                      <a:pt x="4230" y="731"/>
                    </a:lnTo>
                    <a:lnTo>
                      <a:pt x="4221" y="735"/>
                    </a:lnTo>
                    <a:lnTo>
                      <a:pt x="4194" y="740"/>
                    </a:lnTo>
                    <a:lnTo>
                      <a:pt x="4159" y="692"/>
                    </a:lnTo>
                    <a:lnTo>
                      <a:pt x="4115" y="683"/>
                    </a:lnTo>
                    <a:lnTo>
                      <a:pt x="4102" y="687"/>
                    </a:lnTo>
                    <a:lnTo>
                      <a:pt x="4093" y="696"/>
                    </a:lnTo>
                    <a:lnTo>
                      <a:pt x="4098" y="678"/>
                    </a:lnTo>
                    <a:lnTo>
                      <a:pt x="4080" y="696"/>
                    </a:lnTo>
                    <a:lnTo>
                      <a:pt x="4076" y="713"/>
                    </a:lnTo>
                    <a:lnTo>
                      <a:pt x="4076" y="678"/>
                    </a:lnTo>
                    <a:lnTo>
                      <a:pt x="4093" y="643"/>
                    </a:lnTo>
                    <a:lnTo>
                      <a:pt x="4120" y="613"/>
                    </a:lnTo>
                    <a:lnTo>
                      <a:pt x="4142" y="604"/>
                    </a:lnTo>
                    <a:lnTo>
                      <a:pt x="4142" y="600"/>
                    </a:lnTo>
                    <a:lnTo>
                      <a:pt x="4098" y="604"/>
                    </a:lnTo>
                    <a:lnTo>
                      <a:pt x="4076" y="613"/>
                    </a:lnTo>
                    <a:lnTo>
                      <a:pt x="4063" y="630"/>
                    </a:lnTo>
                    <a:lnTo>
                      <a:pt x="4032" y="652"/>
                    </a:lnTo>
                    <a:lnTo>
                      <a:pt x="4019" y="674"/>
                    </a:lnTo>
                    <a:lnTo>
                      <a:pt x="4001" y="678"/>
                    </a:lnTo>
                    <a:lnTo>
                      <a:pt x="3988" y="696"/>
                    </a:lnTo>
                    <a:lnTo>
                      <a:pt x="3970" y="705"/>
                    </a:lnTo>
                    <a:lnTo>
                      <a:pt x="3931" y="709"/>
                    </a:lnTo>
                    <a:lnTo>
                      <a:pt x="3922" y="718"/>
                    </a:lnTo>
                    <a:lnTo>
                      <a:pt x="3900" y="740"/>
                    </a:lnTo>
                    <a:lnTo>
                      <a:pt x="3869" y="757"/>
                    </a:lnTo>
                    <a:lnTo>
                      <a:pt x="3834" y="740"/>
                    </a:lnTo>
                    <a:lnTo>
                      <a:pt x="3817" y="753"/>
                    </a:lnTo>
                    <a:lnTo>
                      <a:pt x="3812" y="753"/>
                    </a:lnTo>
                    <a:lnTo>
                      <a:pt x="3821" y="740"/>
                    </a:lnTo>
                    <a:lnTo>
                      <a:pt x="3821" y="722"/>
                    </a:lnTo>
                    <a:lnTo>
                      <a:pt x="3826" y="713"/>
                    </a:lnTo>
                    <a:lnTo>
                      <a:pt x="3830" y="705"/>
                    </a:lnTo>
                    <a:lnTo>
                      <a:pt x="3821" y="696"/>
                    </a:lnTo>
                    <a:lnTo>
                      <a:pt x="3747" y="731"/>
                    </a:lnTo>
                    <a:lnTo>
                      <a:pt x="3716" y="744"/>
                    </a:lnTo>
                    <a:lnTo>
                      <a:pt x="3703" y="744"/>
                    </a:lnTo>
                    <a:lnTo>
                      <a:pt x="3685" y="731"/>
                    </a:lnTo>
                    <a:lnTo>
                      <a:pt x="3681" y="744"/>
                    </a:lnTo>
                    <a:lnTo>
                      <a:pt x="3676" y="731"/>
                    </a:lnTo>
                    <a:lnTo>
                      <a:pt x="3760" y="670"/>
                    </a:lnTo>
                    <a:lnTo>
                      <a:pt x="3799" y="617"/>
                    </a:lnTo>
                    <a:lnTo>
                      <a:pt x="3852" y="582"/>
                    </a:lnTo>
                    <a:lnTo>
                      <a:pt x="3953" y="530"/>
                    </a:lnTo>
                    <a:lnTo>
                      <a:pt x="3918" y="530"/>
                    </a:lnTo>
                    <a:lnTo>
                      <a:pt x="3878" y="516"/>
                    </a:lnTo>
                    <a:lnTo>
                      <a:pt x="3821" y="516"/>
                    </a:lnTo>
                    <a:lnTo>
                      <a:pt x="3808" y="499"/>
                    </a:lnTo>
                    <a:lnTo>
                      <a:pt x="3790" y="503"/>
                    </a:lnTo>
                    <a:lnTo>
                      <a:pt x="3751" y="530"/>
                    </a:lnTo>
                    <a:lnTo>
                      <a:pt x="3725" y="521"/>
                    </a:lnTo>
                    <a:lnTo>
                      <a:pt x="3711" y="508"/>
                    </a:lnTo>
                    <a:lnTo>
                      <a:pt x="3689" y="503"/>
                    </a:lnTo>
                    <a:lnTo>
                      <a:pt x="3681" y="486"/>
                    </a:lnTo>
                    <a:lnTo>
                      <a:pt x="3659" y="490"/>
                    </a:lnTo>
                    <a:lnTo>
                      <a:pt x="3659" y="503"/>
                    </a:lnTo>
                    <a:lnTo>
                      <a:pt x="3650" y="508"/>
                    </a:lnTo>
                    <a:lnTo>
                      <a:pt x="3632" y="473"/>
                    </a:lnTo>
                    <a:lnTo>
                      <a:pt x="3615" y="473"/>
                    </a:lnTo>
                    <a:lnTo>
                      <a:pt x="3619" y="455"/>
                    </a:lnTo>
                    <a:lnTo>
                      <a:pt x="3575" y="451"/>
                    </a:lnTo>
                    <a:lnTo>
                      <a:pt x="3558" y="451"/>
                    </a:lnTo>
                    <a:lnTo>
                      <a:pt x="3505" y="468"/>
                    </a:lnTo>
                    <a:lnTo>
                      <a:pt x="3496" y="451"/>
                    </a:lnTo>
                    <a:lnTo>
                      <a:pt x="3408" y="433"/>
                    </a:lnTo>
                    <a:lnTo>
                      <a:pt x="3395" y="341"/>
                    </a:lnTo>
                    <a:lnTo>
                      <a:pt x="3360" y="337"/>
                    </a:lnTo>
                    <a:lnTo>
                      <a:pt x="3360" y="394"/>
                    </a:lnTo>
                    <a:lnTo>
                      <a:pt x="3145" y="389"/>
                    </a:lnTo>
                    <a:lnTo>
                      <a:pt x="2842" y="385"/>
                    </a:lnTo>
                    <a:lnTo>
                      <a:pt x="2447" y="359"/>
                    </a:lnTo>
                    <a:lnTo>
                      <a:pt x="1889" y="293"/>
                    </a:lnTo>
                    <a:lnTo>
                      <a:pt x="1612" y="245"/>
                    </a:lnTo>
                    <a:lnTo>
                      <a:pt x="1225" y="170"/>
                    </a:lnTo>
                    <a:lnTo>
                      <a:pt x="1128" y="148"/>
                    </a:lnTo>
                    <a:lnTo>
                      <a:pt x="557" y="0"/>
                    </a:lnTo>
                    <a:lnTo>
                      <a:pt x="553" y="4"/>
                    </a:lnTo>
                    <a:lnTo>
                      <a:pt x="553" y="13"/>
                    </a:lnTo>
                    <a:lnTo>
                      <a:pt x="548" y="13"/>
                    </a:lnTo>
                    <a:lnTo>
                      <a:pt x="553" y="21"/>
                    </a:lnTo>
                    <a:lnTo>
                      <a:pt x="553" y="35"/>
                    </a:lnTo>
                    <a:lnTo>
                      <a:pt x="553" y="39"/>
                    </a:lnTo>
                    <a:lnTo>
                      <a:pt x="562" y="39"/>
                    </a:lnTo>
                    <a:lnTo>
                      <a:pt x="575" y="43"/>
                    </a:lnTo>
                    <a:lnTo>
                      <a:pt x="570" y="61"/>
                    </a:lnTo>
                    <a:lnTo>
                      <a:pt x="570" y="65"/>
                    </a:lnTo>
                    <a:lnTo>
                      <a:pt x="562" y="87"/>
                    </a:lnTo>
                    <a:lnTo>
                      <a:pt x="548" y="78"/>
                    </a:lnTo>
                    <a:lnTo>
                      <a:pt x="544" y="78"/>
                    </a:lnTo>
                    <a:lnTo>
                      <a:pt x="544" y="87"/>
                    </a:lnTo>
                    <a:lnTo>
                      <a:pt x="553" y="87"/>
                    </a:lnTo>
                    <a:lnTo>
                      <a:pt x="566" y="113"/>
                    </a:lnTo>
                    <a:lnTo>
                      <a:pt x="557" y="144"/>
                    </a:lnTo>
                    <a:lnTo>
                      <a:pt x="562" y="153"/>
                    </a:lnTo>
                    <a:lnTo>
                      <a:pt x="570" y="157"/>
                    </a:lnTo>
                    <a:lnTo>
                      <a:pt x="570" y="166"/>
                    </a:lnTo>
                    <a:lnTo>
                      <a:pt x="557" y="166"/>
                    </a:lnTo>
                    <a:lnTo>
                      <a:pt x="544" y="183"/>
                    </a:lnTo>
                    <a:lnTo>
                      <a:pt x="544" y="192"/>
                    </a:lnTo>
                    <a:lnTo>
                      <a:pt x="540" y="205"/>
                    </a:lnTo>
                    <a:lnTo>
                      <a:pt x="535" y="205"/>
                    </a:lnTo>
                    <a:lnTo>
                      <a:pt x="540" y="214"/>
                    </a:lnTo>
                    <a:lnTo>
                      <a:pt x="531" y="219"/>
                    </a:lnTo>
                    <a:lnTo>
                      <a:pt x="531" y="254"/>
                    </a:lnTo>
                    <a:lnTo>
                      <a:pt x="522" y="258"/>
                    </a:lnTo>
                    <a:lnTo>
                      <a:pt x="522" y="267"/>
                    </a:lnTo>
                    <a:lnTo>
                      <a:pt x="509" y="254"/>
                    </a:lnTo>
                    <a:lnTo>
                      <a:pt x="505" y="258"/>
                    </a:lnTo>
                    <a:lnTo>
                      <a:pt x="483" y="280"/>
                    </a:lnTo>
                    <a:lnTo>
                      <a:pt x="478" y="280"/>
                    </a:lnTo>
                    <a:lnTo>
                      <a:pt x="474" y="267"/>
                    </a:lnTo>
                    <a:lnTo>
                      <a:pt x="465" y="275"/>
                    </a:lnTo>
                    <a:lnTo>
                      <a:pt x="465" y="271"/>
                    </a:lnTo>
                    <a:lnTo>
                      <a:pt x="461" y="284"/>
                    </a:lnTo>
                    <a:lnTo>
                      <a:pt x="461" y="280"/>
                    </a:lnTo>
                    <a:lnTo>
                      <a:pt x="461" y="271"/>
                    </a:lnTo>
                    <a:lnTo>
                      <a:pt x="452" y="275"/>
                    </a:lnTo>
                    <a:lnTo>
                      <a:pt x="461" y="262"/>
                    </a:lnTo>
                    <a:lnTo>
                      <a:pt x="447" y="262"/>
                    </a:lnTo>
                    <a:lnTo>
                      <a:pt x="461" y="258"/>
                    </a:lnTo>
                    <a:lnTo>
                      <a:pt x="447" y="254"/>
                    </a:lnTo>
                    <a:lnTo>
                      <a:pt x="452" y="245"/>
                    </a:lnTo>
                    <a:lnTo>
                      <a:pt x="461" y="254"/>
                    </a:lnTo>
                    <a:lnTo>
                      <a:pt x="465" y="245"/>
                    </a:lnTo>
                    <a:lnTo>
                      <a:pt x="483" y="232"/>
                    </a:lnTo>
                    <a:lnTo>
                      <a:pt x="478" y="258"/>
                    </a:lnTo>
                    <a:lnTo>
                      <a:pt x="478" y="267"/>
                    </a:lnTo>
                    <a:lnTo>
                      <a:pt x="483" y="245"/>
                    </a:lnTo>
                    <a:lnTo>
                      <a:pt x="505" y="236"/>
                    </a:lnTo>
                    <a:lnTo>
                      <a:pt x="496" y="254"/>
                    </a:lnTo>
                    <a:lnTo>
                      <a:pt x="505" y="258"/>
                    </a:lnTo>
                    <a:lnTo>
                      <a:pt x="505" y="249"/>
                    </a:lnTo>
                    <a:lnTo>
                      <a:pt x="509" y="240"/>
                    </a:lnTo>
                    <a:lnTo>
                      <a:pt x="522" y="223"/>
                    </a:lnTo>
                    <a:lnTo>
                      <a:pt x="518" y="214"/>
                    </a:lnTo>
                    <a:lnTo>
                      <a:pt x="505" y="214"/>
                    </a:lnTo>
                    <a:lnTo>
                      <a:pt x="505" y="205"/>
                    </a:lnTo>
                    <a:lnTo>
                      <a:pt x="513" y="210"/>
                    </a:lnTo>
                    <a:lnTo>
                      <a:pt x="513" y="188"/>
                    </a:lnTo>
                    <a:lnTo>
                      <a:pt x="531" y="192"/>
                    </a:lnTo>
                    <a:lnTo>
                      <a:pt x="531" y="166"/>
                    </a:lnTo>
                    <a:lnTo>
                      <a:pt x="526" y="157"/>
                    </a:lnTo>
                    <a:lnTo>
                      <a:pt x="526" y="179"/>
                    </a:lnTo>
                    <a:lnTo>
                      <a:pt x="522" y="175"/>
                    </a:lnTo>
                    <a:lnTo>
                      <a:pt x="509" y="183"/>
                    </a:lnTo>
                    <a:lnTo>
                      <a:pt x="505" y="197"/>
                    </a:lnTo>
                    <a:lnTo>
                      <a:pt x="491" y="197"/>
                    </a:lnTo>
                    <a:lnTo>
                      <a:pt x="465" y="210"/>
                    </a:lnTo>
                    <a:lnTo>
                      <a:pt x="456" y="223"/>
                    </a:lnTo>
                    <a:lnTo>
                      <a:pt x="483" y="227"/>
                    </a:lnTo>
                    <a:lnTo>
                      <a:pt x="461" y="232"/>
                    </a:lnTo>
                    <a:lnTo>
                      <a:pt x="447" y="227"/>
                    </a:lnTo>
                    <a:lnTo>
                      <a:pt x="465" y="197"/>
                    </a:lnTo>
                    <a:lnTo>
                      <a:pt x="483" y="188"/>
                    </a:lnTo>
                    <a:lnTo>
                      <a:pt x="505" y="166"/>
                    </a:lnTo>
                    <a:lnTo>
                      <a:pt x="505" y="179"/>
                    </a:lnTo>
                    <a:lnTo>
                      <a:pt x="518" y="166"/>
                    </a:lnTo>
                    <a:lnTo>
                      <a:pt x="526" y="148"/>
                    </a:lnTo>
                    <a:lnTo>
                      <a:pt x="526" y="131"/>
                    </a:lnTo>
                    <a:lnTo>
                      <a:pt x="522" y="144"/>
                    </a:lnTo>
                    <a:lnTo>
                      <a:pt x="513" y="144"/>
                    </a:lnTo>
                    <a:lnTo>
                      <a:pt x="522" y="127"/>
                    </a:lnTo>
                    <a:lnTo>
                      <a:pt x="513" y="127"/>
                    </a:lnTo>
                    <a:lnTo>
                      <a:pt x="509" y="140"/>
                    </a:lnTo>
                    <a:lnTo>
                      <a:pt x="505" y="144"/>
                    </a:lnTo>
                    <a:lnTo>
                      <a:pt x="505" y="127"/>
                    </a:lnTo>
                    <a:lnTo>
                      <a:pt x="496" y="127"/>
                    </a:lnTo>
                    <a:lnTo>
                      <a:pt x="491" y="131"/>
                    </a:lnTo>
                    <a:lnTo>
                      <a:pt x="483" y="113"/>
                    </a:lnTo>
                    <a:lnTo>
                      <a:pt x="465" y="113"/>
                    </a:lnTo>
                    <a:lnTo>
                      <a:pt x="390" y="78"/>
                    </a:lnTo>
                    <a:lnTo>
                      <a:pt x="338" y="30"/>
                    </a:lnTo>
                    <a:lnTo>
                      <a:pt x="329" y="61"/>
                    </a:lnTo>
                    <a:lnTo>
                      <a:pt x="329" y="100"/>
                    </a:lnTo>
                    <a:lnTo>
                      <a:pt x="338" y="131"/>
                    </a:lnTo>
                    <a:lnTo>
                      <a:pt x="338" y="166"/>
                    </a:lnTo>
                    <a:lnTo>
                      <a:pt x="333" y="197"/>
                    </a:lnTo>
                    <a:lnTo>
                      <a:pt x="338" y="210"/>
                    </a:lnTo>
                    <a:lnTo>
                      <a:pt x="329" y="254"/>
                    </a:lnTo>
                    <a:lnTo>
                      <a:pt x="346" y="245"/>
                    </a:lnTo>
                    <a:lnTo>
                      <a:pt x="364" y="262"/>
                    </a:lnTo>
                    <a:lnTo>
                      <a:pt x="342" y="267"/>
                    </a:lnTo>
                    <a:lnTo>
                      <a:pt x="329" y="262"/>
                    </a:lnTo>
                    <a:lnTo>
                      <a:pt x="329" y="280"/>
                    </a:lnTo>
                    <a:lnTo>
                      <a:pt x="329" y="293"/>
                    </a:lnTo>
                    <a:lnTo>
                      <a:pt x="346" y="293"/>
                    </a:lnTo>
                    <a:lnTo>
                      <a:pt x="346" y="302"/>
                    </a:lnTo>
                    <a:lnTo>
                      <a:pt x="333" y="306"/>
                    </a:lnTo>
                    <a:lnTo>
                      <a:pt x="338" y="324"/>
                    </a:lnTo>
                    <a:lnTo>
                      <a:pt x="324" y="350"/>
                    </a:lnTo>
                    <a:lnTo>
                      <a:pt x="316" y="346"/>
                    </a:lnTo>
                    <a:lnTo>
                      <a:pt x="329" y="315"/>
                    </a:lnTo>
                    <a:lnTo>
                      <a:pt x="320" y="306"/>
                    </a:lnTo>
                    <a:lnTo>
                      <a:pt x="307" y="350"/>
                    </a:lnTo>
                    <a:lnTo>
                      <a:pt x="329" y="363"/>
                    </a:lnTo>
                    <a:lnTo>
                      <a:pt x="364" y="385"/>
                    </a:lnTo>
                    <a:lnTo>
                      <a:pt x="303" y="363"/>
                    </a:lnTo>
                    <a:lnTo>
                      <a:pt x="184" y="713"/>
                    </a:lnTo>
                    <a:lnTo>
                      <a:pt x="105" y="832"/>
                    </a:lnTo>
                    <a:lnTo>
                      <a:pt x="92" y="981"/>
                    </a:lnTo>
                    <a:lnTo>
                      <a:pt x="79" y="1011"/>
                    </a:lnTo>
                    <a:lnTo>
                      <a:pt x="87" y="1064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68200" y="1584360"/>
                <a:ext cx="11520" cy="1800"/>
              </a:xfrm>
              <a:custGeom>
                <a:avLst/>
                <a:gdLst/>
                <a:ahLst/>
                <a:rect l="0" t="0" r="r" b="b"/>
                <a:pathLst>
                  <a:path w="32" h="5">
                    <a:moveTo>
                      <a:pt x="0" y="5"/>
                    </a:moveTo>
                    <a:lnTo>
                      <a:pt x="7" y="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98440" y="1579680"/>
                <a:ext cx="3600" cy="1800"/>
              </a:xfrm>
              <a:custGeom>
                <a:avLst/>
                <a:gdLst/>
                <a:ahLst/>
                <a:rect l="0" t="0" r="r" b="b"/>
                <a:pathLst>
                  <a:path w="10" h="5">
                    <a:moveTo>
                      <a:pt x="0" y="0"/>
                    </a:moveTo>
                    <a:lnTo>
                      <a:pt x="4" y="5"/>
                    </a:lnTo>
                    <a:lnTo>
                      <a:pt x="10" y="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6880" y="1569960"/>
                <a:ext cx="16200" cy="1800"/>
              </a:xfrm>
              <a:custGeom>
                <a:avLst/>
                <a:gdLst/>
                <a:ahLst/>
                <a:rect l="0" t="0" r="r" b="b"/>
                <a:pathLst>
                  <a:path w="45" h="5">
                    <a:moveTo>
                      <a:pt x="0" y="5"/>
                    </a:moveTo>
                    <a:lnTo>
                      <a:pt x="11" y="0"/>
                    </a:lnTo>
                    <a:lnTo>
                      <a:pt x="39" y="0"/>
                    </a:lnTo>
                    <a:lnTo>
                      <a:pt x="45" y="4"/>
                    </a:lnTo>
                    <a:lnTo>
                      <a:pt x="16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000" y="1228680"/>
                <a:ext cx="417960" cy="351360"/>
              </a:xfrm>
              <a:custGeom>
                <a:avLst/>
                <a:gdLst/>
                <a:ahLst/>
                <a:rect l="0" t="0" r="r" b="b"/>
                <a:pathLst>
                  <a:path w="1161" h="976">
                    <a:moveTo>
                      <a:pt x="0" y="929"/>
                    </a:moveTo>
                    <a:lnTo>
                      <a:pt x="4" y="916"/>
                    </a:lnTo>
                    <a:lnTo>
                      <a:pt x="17" y="916"/>
                    </a:lnTo>
                    <a:lnTo>
                      <a:pt x="64" y="882"/>
                    </a:lnTo>
                    <a:lnTo>
                      <a:pt x="90" y="890"/>
                    </a:lnTo>
                    <a:lnTo>
                      <a:pt x="99" y="903"/>
                    </a:lnTo>
                    <a:lnTo>
                      <a:pt x="107" y="886"/>
                    </a:lnTo>
                    <a:lnTo>
                      <a:pt x="129" y="869"/>
                    </a:lnTo>
                    <a:lnTo>
                      <a:pt x="176" y="856"/>
                    </a:lnTo>
                    <a:lnTo>
                      <a:pt x="219" y="821"/>
                    </a:lnTo>
                    <a:lnTo>
                      <a:pt x="232" y="821"/>
                    </a:lnTo>
                    <a:lnTo>
                      <a:pt x="237" y="783"/>
                    </a:lnTo>
                    <a:lnTo>
                      <a:pt x="258" y="744"/>
                    </a:lnTo>
                    <a:lnTo>
                      <a:pt x="219" y="753"/>
                    </a:lnTo>
                    <a:lnTo>
                      <a:pt x="224" y="730"/>
                    </a:lnTo>
                    <a:lnTo>
                      <a:pt x="237" y="730"/>
                    </a:lnTo>
                    <a:lnTo>
                      <a:pt x="224" y="726"/>
                    </a:lnTo>
                    <a:lnTo>
                      <a:pt x="202" y="744"/>
                    </a:lnTo>
                    <a:lnTo>
                      <a:pt x="202" y="757"/>
                    </a:lnTo>
                    <a:lnTo>
                      <a:pt x="176" y="726"/>
                    </a:lnTo>
                    <a:lnTo>
                      <a:pt x="172" y="730"/>
                    </a:lnTo>
                    <a:lnTo>
                      <a:pt x="159" y="717"/>
                    </a:lnTo>
                    <a:lnTo>
                      <a:pt x="125" y="730"/>
                    </a:lnTo>
                    <a:lnTo>
                      <a:pt x="116" y="730"/>
                    </a:lnTo>
                    <a:lnTo>
                      <a:pt x="90" y="722"/>
                    </a:lnTo>
                    <a:lnTo>
                      <a:pt x="116" y="705"/>
                    </a:lnTo>
                    <a:lnTo>
                      <a:pt x="107" y="692"/>
                    </a:lnTo>
                    <a:lnTo>
                      <a:pt x="116" y="679"/>
                    </a:lnTo>
                    <a:lnTo>
                      <a:pt x="112" y="632"/>
                    </a:lnTo>
                    <a:lnTo>
                      <a:pt x="129" y="610"/>
                    </a:lnTo>
                    <a:lnTo>
                      <a:pt x="107" y="623"/>
                    </a:lnTo>
                    <a:lnTo>
                      <a:pt x="107" y="640"/>
                    </a:lnTo>
                    <a:lnTo>
                      <a:pt x="86" y="653"/>
                    </a:lnTo>
                    <a:lnTo>
                      <a:pt x="60" y="640"/>
                    </a:lnTo>
                    <a:lnTo>
                      <a:pt x="47" y="610"/>
                    </a:lnTo>
                    <a:lnTo>
                      <a:pt x="30" y="593"/>
                    </a:lnTo>
                    <a:lnTo>
                      <a:pt x="34" y="580"/>
                    </a:lnTo>
                    <a:lnTo>
                      <a:pt x="43" y="580"/>
                    </a:lnTo>
                    <a:lnTo>
                      <a:pt x="47" y="571"/>
                    </a:lnTo>
                    <a:lnTo>
                      <a:pt x="60" y="567"/>
                    </a:lnTo>
                    <a:lnTo>
                      <a:pt x="47" y="567"/>
                    </a:lnTo>
                    <a:lnTo>
                      <a:pt x="56" y="559"/>
                    </a:lnTo>
                    <a:lnTo>
                      <a:pt x="43" y="546"/>
                    </a:lnTo>
                    <a:lnTo>
                      <a:pt x="43" y="550"/>
                    </a:lnTo>
                    <a:lnTo>
                      <a:pt x="25" y="529"/>
                    </a:lnTo>
                    <a:lnTo>
                      <a:pt x="34" y="503"/>
                    </a:lnTo>
                    <a:lnTo>
                      <a:pt x="86" y="468"/>
                    </a:lnTo>
                    <a:lnTo>
                      <a:pt x="99" y="443"/>
                    </a:lnTo>
                    <a:lnTo>
                      <a:pt x="112" y="438"/>
                    </a:lnTo>
                    <a:lnTo>
                      <a:pt x="137" y="456"/>
                    </a:lnTo>
                    <a:lnTo>
                      <a:pt x="159" y="451"/>
                    </a:lnTo>
                    <a:lnTo>
                      <a:pt x="168" y="438"/>
                    </a:lnTo>
                    <a:lnTo>
                      <a:pt x="202" y="443"/>
                    </a:lnTo>
                    <a:lnTo>
                      <a:pt x="215" y="404"/>
                    </a:lnTo>
                    <a:lnTo>
                      <a:pt x="202" y="387"/>
                    </a:lnTo>
                    <a:lnTo>
                      <a:pt x="224" y="374"/>
                    </a:lnTo>
                    <a:lnTo>
                      <a:pt x="202" y="365"/>
                    </a:lnTo>
                    <a:lnTo>
                      <a:pt x="172" y="387"/>
                    </a:lnTo>
                    <a:lnTo>
                      <a:pt x="172" y="365"/>
                    </a:lnTo>
                    <a:lnTo>
                      <a:pt x="107" y="361"/>
                    </a:lnTo>
                    <a:lnTo>
                      <a:pt x="81" y="344"/>
                    </a:lnTo>
                    <a:lnTo>
                      <a:pt x="77" y="301"/>
                    </a:lnTo>
                    <a:lnTo>
                      <a:pt x="99" y="310"/>
                    </a:lnTo>
                    <a:lnTo>
                      <a:pt x="60" y="267"/>
                    </a:lnTo>
                    <a:lnTo>
                      <a:pt x="163" y="245"/>
                    </a:lnTo>
                    <a:lnTo>
                      <a:pt x="176" y="250"/>
                    </a:lnTo>
                    <a:lnTo>
                      <a:pt x="168" y="267"/>
                    </a:lnTo>
                    <a:lnTo>
                      <a:pt x="219" y="292"/>
                    </a:lnTo>
                    <a:lnTo>
                      <a:pt x="241" y="288"/>
                    </a:lnTo>
                    <a:lnTo>
                      <a:pt x="237" y="280"/>
                    </a:lnTo>
                    <a:lnTo>
                      <a:pt x="224" y="271"/>
                    </a:lnTo>
                    <a:lnTo>
                      <a:pt x="211" y="236"/>
                    </a:lnTo>
                    <a:lnTo>
                      <a:pt x="224" y="250"/>
                    </a:lnTo>
                    <a:lnTo>
                      <a:pt x="232" y="267"/>
                    </a:lnTo>
                    <a:lnTo>
                      <a:pt x="254" y="280"/>
                    </a:lnTo>
                    <a:lnTo>
                      <a:pt x="280" y="280"/>
                    </a:lnTo>
                    <a:lnTo>
                      <a:pt x="275" y="267"/>
                    </a:lnTo>
                    <a:lnTo>
                      <a:pt x="237" y="258"/>
                    </a:lnTo>
                    <a:lnTo>
                      <a:pt x="237" y="236"/>
                    </a:lnTo>
                    <a:lnTo>
                      <a:pt x="194" y="218"/>
                    </a:lnTo>
                    <a:lnTo>
                      <a:pt x="194" y="188"/>
                    </a:lnTo>
                    <a:lnTo>
                      <a:pt x="176" y="167"/>
                    </a:lnTo>
                    <a:lnTo>
                      <a:pt x="146" y="124"/>
                    </a:lnTo>
                    <a:lnTo>
                      <a:pt x="159" y="124"/>
                    </a:lnTo>
                    <a:lnTo>
                      <a:pt x="172" y="94"/>
                    </a:lnTo>
                    <a:lnTo>
                      <a:pt x="215" y="107"/>
                    </a:lnTo>
                    <a:lnTo>
                      <a:pt x="241" y="94"/>
                    </a:lnTo>
                    <a:lnTo>
                      <a:pt x="284" y="42"/>
                    </a:lnTo>
                    <a:lnTo>
                      <a:pt x="302" y="47"/>
                    </a:lnTo>
                    <a:lnTo>
                      <a:pt x="328" y="30"/>
                    </a:lnTo>
                    <a:lnTo>
                      <a:pt x="328" y="42"/>
                    </a:lnTo>
                    <a:lnTo>
                      <a:pt x="345" y="42"/>
                    </a:lnTo>
                    <a:lnTo>
                      <a:pt x="337" y="34"/>
                    </a:lnTo>
                    <a:lnTo>
                      <a:pt x="380" y="30"/>
                    </a:lnTo>
                    <a:lnTo>
                      <a:pt x="410" y="0"/>
                    </a:lnTo>
                    <a:lnTo>
                      <a:pt x="427" y="17"/>
                    </a:lnTo>
                    <a:lnTo>
                      <a:pt x="419" y="42"/>
                    </a:lnTo>
                    <a:lnTo>
                      <a:pt x="436" y="42"/>
                    </a:lnTo>
                    <a:lnTo>
                      <a:pt x="440" y="21"/>
                    </a:lnTo>
                    <a:lnTo>
                      <a:pt x="462" y="47"/>
                    </a:lnTo>
                    <a:lnTo>
                      <a:pt x="492" y="47"/>
                    </a:lnTo>
                    <a:lnTo>
                      <a:pt x="501" y="72"/>
                    </a:lnTo>
                    <a:lnTo>
                      <a:pt x="557" y="77"/>
                    </a:lnTo>
                    <a:lnTo>
                      <a:pt x="557" y="90"/>
                    </a:lnTo>
                    <a:lnTo>
                      <a:pt x="570" y="81"/>
                    </a:lnTo>
                    <a:lnTo>
                      <a:pt x="587" y="98"/>
                    </a:lnTo>
                    <a:lnTo>
                      <a:pt x="617" y="94"/>
                    </a:lnTo>
                    <a:lnTo>
                      <a:pt x="652" y="107"/>
                    </a:lnTo>
                    <a:lnTo>
                      <a:pt x="677" y="98"/>
                    </a:lnTo>
                    <a:lnTo>
                      <a:pt x="677" y="103"/>
                    </a:lnTo>
                    <a:lnTo>
                      <a:pt x="690" y="98"/>
                    </a:lnTo>
                    <a:lnTo>
                      <a:pt x="738" y="120"/>
                    </a:lnTo>
                    <a:lnTo>
                      <a:pt x="777" y="687"/>
                    </a:lnTo>
                    <a:lnTo>
                      <a:pt x="828" y="687"/>
                    </a:lnTo>
                    <a:lnTo>
                      <a:pt x="824" y="705"/>
                    </a:lnTo>
                    <a:lnTo>
                      <a:pt x="850" y="717"/>
                    </a:lnTo>
                    <a:lnTo>
                      <a:pt x="885" y="744"/>
                    </a:lnTo>
                    <a:lnTo>
                      <a:pt x="894" y="757"/>
                    </a:lnTo>
                    <a:lnTo>
                      <a:pt x="916" y="744"/>
                    </a:lnTo>
                    <a:lnTo>
                      <a:pt x="924" y="717"/>
                    </a:lnTo>
                    <a:lnTo>
                      <a:pt x="941" y="709"/>
                    </a:lnTo>
                    <a:lnTo>
                      <a:pt x="946" y="705"/>
                    </a:lnTo>
                    <a:lnTo>
                      <a:pt x="959" y="717"/>
                    </a:lnTo>
                    <a:lnTo>
                      <a:pt x="959" y="730"/>
                    </a:lnTo>
                    <a:lnTo>
                      <a:pt x="976" y="736"/>
                    </a:lnTo>
                    <a:lnTo>
                      <a:pt x="980" y="740"/>
                    </a:lnTo>
                    <a:lnTo>
                      <a:pt x="989" y="753"/>
                    </a:lnTo>
                    <a:lnTo>
                      <a:pt x="1006" y="761"/>
                    </a:lnTo>
                    <a:lnTo>
                      <a:pt x="1088" y="877"/>
                    </a:lnTo>
                    <a:lnTo>
                      <a:pt x="1114" y="882"/>
                    </a:lnTo>
                    <a:lnTo>
                      <a:pt x="1157" y="899"/>
                    </a:lnTo>
                    <a:lnTo>
                      <a:pt x="1161" y="912"/>
                    </a:lnTo>
                    <a:lnTo>
                      <a:pt x="1153" y="916"/>
                    </a:lnTo>
                    <a:lnTo>
                      <a:pt x="1153" y="937"/>
                    </a:lnTo>
                    <a:lnTo>
                      <a:pt x="1148" y="976"/>
                    </a:lnTo>
                    <a:lnTo>
                      <a:pt x="1140" y="963"/>
                    </a:lnTo>
                    <a:lnTo>
                      <a:pt x="1131" y="976"/>
                    </a:lnTo>
                    <a:lnTo>
                      <a:pt x="1122" y="963"/>
                    </a:lnTo>
                    <a:lnTo>
                      <a:pt x="1140" y="959"/>
                    </a:lnTo>
                    <a:lnTo>
                      <a:pt x="1127" y="942"/>
                    </a:lnTo>
                    <a:lnTo>
                      <a:pt x="1127" y="933"/>
                    </a:lnTo>
                    <a:lnTo>
                      <a:pt x="1114" y="907"/>
                    </a:lnTo>
                    <a:lnTo>
                      <a:pt x="1110" y="907"/>
                    </a:lnTo>
                    <a:lnTo>
                      <a:pt x="1092" y="916"/>
                    </a:lnTo>
                    <a:lnTo>
                      <a:pt x="1088" y="929"/>
                    </a:lnTo>
                    <a:lnTo>
                      <a:pt x="1079" y="933"/>
                    </a:lnTo>
                    <a:lnTo>
                      <a:pt x="1075" y="929"/>
                    </a:lnTo>
                    <a:lnTo>
                      <a:pt x="1088" y="912"/>
                    </a:lnTo>
                    <a:lnTo>
                      <a:pt x="1088" y="899"/>
                    </a:lnTo>
                    <a:lnTo>
                      <a:pt x="1084" y="907"/>
                    </a:lnTo>
                    <a:lnTo>
                      <a:pt x="1079" y="916"/>
                    </a:lnTo>
                    <a:lnTo>
                      <a:pt x="1045" y="899"/>
                    </a:lnTo>
                    <a:lnTo>
                      <a:pt x="1049" y="894"/>
                    </a:lnTo>
                    <a:lnTo>
                      <a:pt x="1066" y="894"/>
                    </a:lnTo>
                    <a:lnTo>
                      <a:pt x="1066" y="882"/>
                    </a:lnTo>
                    <a:lnTo>
                      <a:pt x="1075" y="877"/>
                    </a:lnTo>
                    <a:lnTo>
                      <a:pt x="1075" y="869"/>
                    </a:lnTo>
                    <a:lnTo>
                      <a:pt x="1062" y="877"/>
                    </a:lnTo>
                    <a:lnTo>
                      <a:pt x="1058" y="856"/>
                    </a:lnTo>
                    <a:lnTo>
                      <a:pt x="1023" y="852"/>
                    </a:lnTo>
                    <a:lnTo>
                      <a:pt x="1019" y="830"/>
                    </a:lnTo>
                    <a:lnTo>
                      <a:pt x="1023" y="809"/>
                    </a:lnTo>
                    <a:lnTo>
                      <a:pt x="1015" y="813"/>
                    </a:lnTo>
                    <a:lnTo>
                      <a:pt x="1010" y="800"/>
                    </a:lnTo>
                    <a:lnTo>
                      <a:pt x="1002" y="800"/>
                    </a:lnTo>
                    <a:lnTo>
                      <a:pt x="1006" y="779"/>
                    </a:lnTo>
                    <a:lnTo>
                      <a:pt x="1002" y="774"/>
                    </a:lnTo>
                    <a:lnTo>
                      <a:pt x="997" y="787"/>
                    </a:lnTo>
                    <a:lnTo>
                      <a:pt x="989" y="791"/>
                    </a:lnTo>
                    <a:lnTo>
                      <a:pt x="976" y="787"/>
                    </a:lnTo>
                    <a:lnTo>
                      <a:pt x="976" y="770"/>
                    </a:lnTo>
                    <a:lnTo>
                      <a:pt x="959" y="749"/>
                    </a:lnTo>
                    <a:lnTo>
                      <a:pt x="959" y="736"/>
                    </a:lnTo>
                    <a:lnTo>
                      <a:pt x="950" y="736"/>
                    </a:lnTo>
                    <a:lnTo>
                      <a:pt x="950" y="722"/>
                    </a:lnTo>
                    <a:lnTo>
                      <a:pt x="950" y="726"/>
                    </a:lnTo>
                    <a:lnTo>
                      <a:pt x="959" y="757"/>
                    </a:lnTo>
                    <a:lnTo>
                      <a:pt x="967" y="787"/>
                    </a:lnTo>
                    <a:lnTo>
                      <a:pt x="1010" y="817"/>
                    </a:lnTo>
                    <a:lnTo>
                      <a:pt x="1010" y="821"/>
                    </a:lnTo>
                    <a:lnTo>
                      <a:pt x="1002" y="821"/>
                    </a:lnTo>
                    <a:lnTo>
                      <a:pt x="1002" y="830"/>
                    </a:lnTo>
                    <a:lnTo>
                      <a:pt x="1006" y="830"/>
                    </a:lnTo>
                    <a:lnTo>
                      <a:pt x="1010" y="852"/>
                    </a:lnTo>
                    <a:lnTo>
                      <a:pt x="1041" y="860"/>
                    </a:lnTo>
                    <a:lnTo>
                      <a:pt x="1053" y="882"/>
                    </a:lnTo>
                    <a:lnTo>
                      <a:pt x="1023" y="890"/>
                    </a:lnTo>
                    <a:lnTo>
                      <a:pt x="1006" y="929"/>
                    </a:lnTo>
                    <a:lnTo>
                      <a:pt x="997" y="869"/>
                    </a:lnTo>
                    <a:lnTo>
                      <a:pt x="989" y="860"/>
                    </a:lnTo>
                    <a:lnTo>
                      <a:pt x="989" y="847"/>
                    </a:lnTo>
                    <a:lnTo>
                      <a:pt x="993" y="843"/>
                    </a:lnTo>
                    <a:lnTo>
                      <a:pt x="967" y="791"/>
                    </a:lnTo>
                    <a:lnTo>
                      <a:pt x="959" y="791"/>
                    </a:lnTo>
                    <a:lnTo>
                      <a:pt x="954" y="787"/>
                    </a:lnTo>
                    <a:lnTo>
                      <a:pt x="946" y="787"/>
                    </a:lnTo>
                    <a:lnTo>
                      <a:pt x="941" y="783"/>
                    </a:lnTo>
                    <a:lnTo>
                      <a:pt x="933" y="757"/>
                    </a:lnTo>
                    <a:lnTo>
                      <a:pt x="933" y="766"/>
                    </a:lnTo>
                    <a:lnTo>
                      <a:pt x="907" y="757"/>
                    </a:lnTo>
                    <a:lnTo>
                      <a:pt x="903" y="761"/>
                    </a:lnTo>
                    <a:lnTo>
                      <a:pt x="933" y="779"/>
                    </a:lnTo>
                    <a:lnTo>
                      <a:pt x="916" y="787"/>
                    </a:lnTo>
                    <a:lnTo>
                      <a:pt x="916" y="796"/>
                    </a:lnTo>
                    <a:lnTo>
                      <a:pt x="898" y="787"/>
                    </a:lnTo>
                    <a:lnTo>
                      <a:pt x="867" y="757"/>
                    </a:lnTo>
                    <a:lnTo>
                      <a:pt x="824" y="740"/>
                    </a:lnTo>
                    <a:lnTo>
                      <a:pt x="798" y="740"/>
                    </a:lnTo>
                    <a:lnTo>
                      <a:pt x="820" y="713"/>
                    </a:lnTo>
                    <a:lnTo>
                      <a:pt x="824" y="726"/>
                    </a:lnTo>
                    <a:lnTo>
                      <a:pt x="824" y="713"/>
                    </a:lnTo>
                    <a:lnTo>
                      <a:pt x="811" y="705"/>
                    </a:lnTo>
                    <a:lnTo>
                      <a:pt x="802" y="722"/>
                    </a:lnTo>
                    <a:lnTo>
                      <a:pt x="777" y="722"/>
                    </a:lnTo>
                    <a:lnTo>
                      <a:pt x="673" y="713"/>
                    </a:lnTo>
                    <a:lnTo>
                      <a:pt x="673" y="696"/>
                    </a:lnTo>
                    <a:lnTo>
                      <a:pt x="664" y="705"/>
                    </a:lnTo>
                    <a:lnTo>
                      <a:pt x="652" y="683"/>
                    </a:lnTo>
                    <a:lnTo>
                      <a:pt x="634" y="692"/>
                    </a:lnTo>
                    <a:lnTo>
                      <a:pt x="630" y="683"/>
                    </a:lnTo>
                    <a:lnTo>
                      <a:pt x="600" y="692"/>
                    </a:lnTo>
                    <a:lnTo>
                      <a:pt x="600" y="683"/>
                    </a:lnTo>
                    <a:lnTo>
                      <a:pt x="613" y="666"/>
                    </a:lnTo>
                    <a:lnTo>
                      <a:pt x="604" y="666"/>
                    </a:lnTo>
                    <a:lnTo>
                      <a:pt x="613" y="662"/>
                    </a:lnTo>
                    <a:lnTo>
                      <a:pt x="587" y="662"/>
                    </a:lnTo>
                    <a:lnTo>
                      <a:pt x="570" y="653"/>
                    </a:lnTo>
                    <a:lnTo>
                      <a:pt x="561" y="662"/>
                    </a:lnTo>
                    <a:lnTo>
                      <a:pt x="557" y="653"/>
                    </a:lnTo>
                    <a:lnTo>
                      <a:pt x="565" y="640"/>
                    </a:lnTo>
                    <a:lnTo>
                      <a:pt x="548" y="649"/>
                    </a:lnTo>
                    <a:lnTo>
                      <a:pt x="552" y="653"/>
                    </a:lnTo>
                    <a:lnTo>
                      <a:pt x="544" y="662"/>
                    </a:lnTo>
                    <a:lnTo>
                      <a:pt x="552" y="662"/>
                    </a:lnTo>
                    <a:lnTo>
                      <a:pt x="548" y="679"/>
                    </a:lnTo>
                    <a:lnTo>
                      <a:pt x="561" y="683"/>
                    </a:lnTo>
                    <a:lnTo>
                      <a:pt x="574" y="692"/>
                    </a:lnTo>
                    <a:lnTo>
                      <a:pt x="591" y="683"/>
                    </a:lnTo>
                    <a:lnTo>
                      <a:pt x="587" y="722"/>
                    </a:lnTo>
                    <a:lnTo>
                      <a:pt x="557" y="722"/>
                    </a:lnTo>
                    <a:lnTo>
                      <a:pt x="557" y="709"/>
                    </a:lnTo>
                    <a:lnTo>
                      <a:pt x="548" y="705"/>
                    </a:lnTo>
                    <a:lnTo>
                      <a:pt x="522" y="717"/>
                    </a:lnTo>
                    <a:lnTo>
                      <a:pt x="522" y="705"/>
                    </a:lnTo>
                    <a:lnTo>
                      <a:pt x="518" y="713"/>
                    </a:lnTo>
                    <a:lnTo>
                      <a:pt x="514" y="705"/>
                    </a:lnTo>
                    <a:lnTo>
                      <a:pt x="492" y="705"/>
                    </a:lnTo>
                    <a:lnTo>
                      <a:pt x="509" y="722"/>
                    </a:lnTo>
                    <a:lnTo>
                      <a:pt x="505" y="726"/>
                    </a:lnTo>
                    <a:lnTo>
                      <a:pt x="501" y="722"/>
                    </a:lnTo>
                    <a:lnTo>
                      <a:pt x="475" y="730"/>
                    </a:lnTo>
                    <a:lnTo>
                      <a:pt x="458" y="757"/>
                    </a:lnTo>
                    <a:lnTo>
                      <a:pt x="449" y="744"/>
                    </a:lnTo>
                    <a:lnTo>
                      <a:pt x="445" y="753"/>
                    </a:lnTo>
                    <a:lnTo>
                      <a:pt x="427" y="753"/>
                    </a:lnTo>
                    <a:lnTo>
                      <a:pt x="427" y="736"/>
                    </a:lnTo>
                    <a:lnTo>
                      <a:pt x="445" y="736"/>
                    </a:lnTo>
                    <a:lnTo>
                      <a:pt x="458" y="722"/>
                    </a:lnTo>
                    <a:lnTo>
                      <a:pt x="427" y="722"/>
                    </a:lnTo>
                    <a:lnTo>
                      <a:pt x="453" y="657"/>
                    </a:lnTo>
                    <a:lnTo>
                      <a:pt x="501" y="649"/>
                    </a:lnTo>
                    <a:lnTo>
                      <a:pt x="492" y="632"/>
                    </a:lnTo>
                    <a:lnTo>
                      <a:pt x="522" y="614"/>
                    </a:lnTo>
                    <a:lnTo>
                      <a:pt x="483" y="627"/>
                    </a:lnTo>
                    <a:lnTo>
                      <a:pt x="488" y="593"/>
                    </a:lnTo>
                    <a:lnTo>
                      <a:pt x="470" y="632"/>
                    </a:lnTo>
                    <a:lnTo>
                      <a:pt x="445" y="644"/>
                    </a:lnTo>
                    <a:lnTo>
                      <a:pt x="414" y="679"/>
                    </a:lnTo>
                    <a:lnTo>
                      <a:pt x="393" y="679"/>
                    </a:lnTo>
                    <a:lnTo>
                      <a:pt x="406" y="705"/>
                    </a:lnTo>
                    <a:lnTo>
                      <a:pt x="350" y="744"/>
                    </a:lnTo>
                    <a:lnTo>
                      <a:pt x="380" y="753"/>
                    </a:lnTo>
                    <a:lnTo>
                      <a:pt x="371" y="770"/>
                    </a:lnTo>
                    <a:lnTo>
                      <a:pt x="254" y="860"/>
                    </a:lnTo>
                    <a:lnTo>
                      <a:pt x="172" y="882"/>
                    </a:lnTo>
                    <a:lnTo>
                      <a:pt x="194" y="894"/>
                    </a:lnTo>
                    <a:lnTo>
                      <a:pt x="142" y="920"/>
                    </a:lnTo>
                    <a:lnTo>
                      <a:pt x="129" y="912"/>
                    </a:lnTo>
                    <a:lnTo>
                      <a:pt x="94" y="920"/>
                    </a:lnTo>
                    <a:lnTo>
                      <a:pt x="68" y="925"/>
                    </a:lnTo>
                    <a:lnTo>
                      <a:pt x="68" y="907"/>
                    </a:lnTo>
                    <a:lnTo>
                      <a:pt x="38" y="942"/>
                    </a:lnTo>
                    <a:lnTo>
                      <a:pt x="30" y="937"/>
                    </a:lnTo>
                    <a:lnTo>
                      <a:pt x="30" y="920"/>
                    </a:lnTo>
                    <a:lnTo>
                      <a:pt x="21" y="937"/>
                    </a:lnTo>
                    <a:lnTo>
                      <a:pt x="0" y="9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65040" y="179280"/>
                <a:ext cx="3600" cy="8280"/>
              </a:xfrm>
              <a:custGeom>
                <a:avLst/>
                <a:gdLst/>
                <a:ahLst/>
                <a:rect l="0" t="0" r="r" b="b"/>
                <a:pathLst>
                  <a:path w="10" h="23">
                    <a:moveTo>
                      <a:pt x="0" y="10"/>
                    </a:moveTo>
                    <a:lnTo>
                      <a:pt x="8" y="0"/>
                    </a:lnTo>
                    <a:lnTo>
                      <a:pt x="10" y="10"/>
                    </a:lnTo>
                    <a:lnTo>
                      <a:pt x="9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74760" y="201600"/>
                <a:ext cx="0" cy="12600"/>
              </a:xfrm>
              <a:custGeom>
                <a:avLst/>
                <a:gdLst/>
                <a:ahLst/>
                <a:rect l="0" t="0" r="r" b="b"/>
                <a:pathLst>
                  <a:path w="0" h="35">
                    <a:moveTo>
                      <a:pt x="0" y="1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65120" y="1521000"/>
                <a:ext cx="32040" cy="33840"/>
              </a:xfrm>
              <a:custGeom>
                <a:avLst/>
                <a:gdLst/>
                <a:ahLst/>
                <a:rect l="0" t="0" r="r" b="b"/>
                <a:pathLst>
                  <a:path w="89" h="94">
                    <a:moveTo>
                      <a:pt x="0" y="94"/>
                    </a:moveTo>
                    <a:lnTo>
                      <a:pt x="23" y="69"/>
                    </a:lnTo>
                    <a:lnTo>
                      <a:pt x="6" y="35"/>
                    </a:lnTo>
                    <a:lnTo>
                      <a:pt x="30" y="49"/>
                    </a:lnTo>
                    <a:lnTo>
                      <a:pt x="68" y="0"/>
                    </a:lnTo>
                    <a:lnTo>
                      <a:pt x="89" y="6"/>
                    </a:lnTo>
                    <a:lnTo>
                      <a:pt x="68" y="5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89040" y="1519200"/>
                <a:ext cx="16200" cy="38520"/>
              </a:xfrm>
              <a:custGeom>
                <a:avLst/>
                <a:gdLst/>
                <a:ahLst/>
                <a:rect l="0" t="0" r="r" b="b"/>
                <a:pathLst>
                  <a:path w="45" h="107">
                    <a:moveTo>
                      <a:pt x="0" y="29"/>
                    </a:moveTo>
                    <a:lnTo>
                      <a:pt x="11" y="0"/>
                    </a:lnTo>
                    <a:lnTo>
                      <a:pt x="36" y="29"/>
                    </a:lnTo>
                    <a:lnTo>
                      <a:pt x="45" y="10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28640" y="1566720"/>
                <a:ext cx="12960" cy="18000"/>
              </a:xfrm>
              <a:custGeom>
                <a:avLst/>
                <a:gdLst/>
                <a:ahLst/>
                <a:rect l="0" t="0" r="r" b="b"/>
                <a:pathLst>
                  <a:path w="36" h="50">
                    <a:moveTo>
                      <a:pt x="0" y="0"/>
                    </a:moveTo>
                    <a:lnTo>
                      <a:pt x="2" y="32"/>
                    </a:lnTo>
                    <a:lnTo>
                      <a:pt x="36" y="5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54200" y="156672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w="5" h="19">
                    <a:moveTo>
                      <a:pt x="5" y="19"/>
                    </a:moveTo>
                    <a:lnTo>
                      <a:pt x="5" y="0"/>
                    </a:lnTo>
                    <a:lnTo>
                      <a:pt x="0" y="1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57080" y="1395360"/>
                <a:ext cx="18000" cy="11520"/>
              </a:xfrm>
              <a:custGeom>
                <a:avLst/>
                <a:gdLst/>
                <a:ahLst/>
                <a:rect l="0" t="0" r="r" b="b"/>
                <a:pathLst>
                  <a:path w="50" h="32">
                    <a:moveTo>
                      <a:pt x="0" y="19"/>
                    </a:moveTo>
                    <a:lnTo>
                      <a:pt x="18" y="32"/>
                    </a:lnTo>
                    <a:lnTo>
                      <a:pt x="29" y="32"/>
                    </a:lnTo>
                    <a:lnTo>
                      <a:pt x="44" y="25"/>
                    </a:lnTo>
                    <a:lnTo>
                      <a:pt x="50" y="10"/>
                    </a:lnTo>
                    <a:lnTo>
                      <a:pt x="39" y="0"/>
                    </a:lnTo>
                    <a:lnTo>
                      <a:pt x="23" y="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8080" y="1425600"/>
                <a:ext cx="19440" cy="16200"/>
              </a:xfrm>
              <a:custGeom>
                <a:avLst/>
                <a:gdLst/>
                <a:ahLst/>
                <a:rect l="0" t="0" r="r" b="b"/>
                <a:pathLst>
                  <a:path w="54" h="45">
                    <a:moveTo>
                      <a:pt x="0" y="11"/>
                    </a:moveTo>
                    <a:lnTo>
                      <a:pt x="11" y="39"/>
                    </a:lnTo>
                    <a:lnTo>
                      <a:pt x="24" y="39"/>
                    </a:lnTo>
                    <a:lnTo>
                      <a:pt x="24" y="31"/>
                    </a:lnTo>
                    <a:lnTo>
                      <a:pt x="43" y="45"/>
                    </a:lnTo>
                    <a:lnTo>
                      <a:pt x="54" y="42"/>
                    </a:lnTo>
                    <a:lnTo>
                      <a:pt x="51" y="28"/>
                    </a:lnTo>
                    <a:lnTo>
                      <a:pt x="39" y="25"/>
                    </a:lnTo>
                    <a:lnTo>
                      <a:pt x="2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5600" y="1450800"/>
                <a:ext cx="22680" cy="3600"/>
              </a:xfrm>
              <a:custGeom>
                <a:avLst/>
                <a:gdLst/>
                <a:ahLst/>
                <a:rect l="0" t="0" r="r" b="b"/>
                <a:pathLst>
                  <a:path w="63" h="10">
                    <a:moveTo>
                      <a:pt x="0" y="3"/>
                    </a:moveTo>
                    <a:lnTo>
                      <a:pt x="6" y="10"/>
                    </a:lnTo>
                    <a:lnTo>
                      <a:pt x="63" y="8"/>
                    </a:lnTo>
                    <a:lnTo>
                      <a:pt x="5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00000" y="146988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17640" y="1461960"/>
                <a:ext cx="28800" cy="12960"/>
              </a:xfrm>
              <a:custGeom>
                <a:avLst/>
                <a:gdLst/>
                <a:ahLst/>
                <a:rect l="0" t="0" r="r" b="b"/>
                <a:pathLst>
                  <a:path w="80" h="36">
                    <a:moveTo>
                      <a:pt x="0" y="10"/>
                    </a:moveTo>
                    <a:lnTo>
                      <a:pt x="9" y="0"/>
                    </a:lnTo>
                    <a:lnTo>
                      <a:pt x="19" y="10"/>
                    </a:lnTo>
                    <a:lnTo>
                      <a:pt x="50" y="7"/>
                    </a:lnTo>
                    <a:lnTo>
                      <a:pt x="80" y="26"/>
                    </a:lnTo>
                    <a:lnTo>
                      <a:pt x="70" y="31"/>
                    </a:lnTo>
                    <a:lnTo>
                      <a:pt x="29" y="3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52560" y="1503360"/>
                <a:ext cx="54360" cy="63720"/>
              </a:xfrm>
              <a:custGeom>
                <a:avLst/>
                <a:gdLst/>
                <a:ahLst/>
                <a:rect l="0" t="0" r="r" b="b"/>
                <a:pathLst>
                  <a:path w="151" h="177">
                    <a:moveTo>
                      <a:pt x="0" y="69"/>
                    </a:moveTo>
                    <a:lnTo>
                      <a:pt x="18" y="119"/>
                    </a:lnTo>
                    <a:lnTo>
                      <a:pt x="14" y="162"/>
                    </a:lnTo>
                    <a:lnTo>
                      <a:pt x="49" y="177"/>
                    </a:lnTo>
                    <a:lnTo>
                      <a:pt x="68" y="150"/>
                    </a:lnTo>
                    <a:lnTo>
                      <a:pt x="129" y="123"/>
                    </a:lnTo>
                    <a:lnTo>
                      <a:pt x="151" y="100"/>
                    </a:lnTo>
                    <a:lnTo>
                      <a:pt x="98" y="38"/>
                    </a:lnTo>
                    <a:lnTo>
                      <a:pt x="26" y="0"/>
                    </a:lnTo>
                    <a:lnTo>
                      <a:pt x="14" y="11"/>
                    </a:lnTo>
                    <a:lnTo>
                      <a:pt x="26" y="3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282760" y="628560"/>
                <a:ext cx="71640" cy="41760"/>
              </a:xfrm>
              <a:custGeom>
                <a:avLst/>
                <a:gdLst/>
                <a:ahLst/>
                <a:rect l="0" t="0" r="r" b="b"/>
                <a:pathLst>
                  <a:path w="199" h="116">
                    <a:moveTo>
                      <a:pt x="0" y="105"/>
                    </a:moveTo>
                    <a:lnTo>
                      <a:pt x="3" y="113"/>
                    </a:lnTo>
                    <a:lnTo>
                      <a:pt x="7" y="113"/>
                    </a:lnTo>
                    <a:lnTo>
                      <a:pt x="15" y="105"/>
                    </a:lnTo>
                    <a:lnTo>
                      <a:pt x="19" y="102"/>
                    </a:lnTo>
                    <a:lnTo>
                      <a:pt x="27" y="105"/>
                    </a:lnTo>
                    <a:lnTo>
                      <a:pt x="11" y="116"/>
                    </a:lnTo>
                    <a:lnTo>
                      <a:pt x="31" y="105"/>
                    </a:lnTo>
                    <a:lnTo>
                      <a:pt x="35" y="102"/>
                    </a:lnTo>
                    <a:lnTo>
                      <a:pt x="58" y="91"/>
                    </a:lnTo>
                    <a:lnTo>
                      <a:pt x="81" y="72"/>
                    </a:lnTo>
                    <a:lnTo>
                      <a:pt x="109" y="65"/>
                    </a:lnTo>
                    <a:lnTo>
                      <a:pt x="133" y="54"/>
                    </a:lnTo>
                    <a:lnTo>
                      <a:pt x="89" y="86"/>
                    </a:lnTo>
                    <a:lnTo>
                      <a:pt x="77" y="86"/>
                    </a:lnTo>
                    <a:lnTo>
                      <a:pt x="85" y="91"/>
                    </a:lnTo>
                    <a:lnTo>
                      <a:pt x="97" y="83"/>
                    </a:lnTo>
                    <a:lnTo>
                      <a:pt x="160" y="40"/>
                    </a:lnTo>
                    <a:lnTo>
                      <a:pt x="172" y="28"/>
                    </a:lnTo>
                    <a:lnTo>
                      <a:pt x="199" y="10"/>
                    </a:lnTo>
                    <a:lnTo>
                      <a:pt x="199" y="3"/>
                    </a:lnTo>
                    <a:lnTo>
                      <a:pt x="195" y="3"/>
                    </a:lnTo>
                    <a:lnTo>
                      <a:pt x="183" y="14"/>
                    </a:lnTo>
                    <a:lnTo>
                      <a:pt x="172" y="14"/>
                    </a:lnTo>
                    <a:lnTo>
                      <a:pt x="160" y="21"/>
                    </a:lnTo>
                    <a:lnTo>
                      <a:pt x="156" y="21"/>
                    </a:lnTo>
                    <a:lnTo>
                      <a:pt x="144" y="47"/>
                    </a:lnTo>
                    <a:lnTo>
                      <a:pt x="141" y="40"/>
                    </a:lnTo>
                    <a:lnTo>
                      <a:pt x="133" y="40"/>
                    </a:lnTo>
                    <a:lnTo>
                      <a:pt x="148" y="21"/>
                    </a:lnTo>
                    <a:lnTo>
                      <a:pt x="144" y="14"/>
                    </a:lnTo>
                    <a:lnTo>
                      <a:pt x="160" y="0"/>
                    </a:lnTo>
                    <a:lnTo>
                      <a:pt x="156" y="3"/>
                    </a:lnTo>
                    <a:lnTo>
                      <a:pt x="129" y="28"/>
                    </a:lnTo>
                    <a:lnTo>
                      <a:pt x="93" y="40"/>
                    </a:lnTo>
                    <a:lnTo>
                      <a:pt x="77" y="47"/>
                    </a:lnTo>
                    <a:lnTo>
                      <a:pt x="73" y="51"/>
                    </a:lnTo>
                    <a:lnTo>
                      <a:pt x="54" y="58"/>
                    </a:lnTo>
                    <a:lnTo>
                      <a:pt x="46" y="54"/>
                    </a:lnTo>
                    <a:lnTo>
                      <a:pt x="46" y="61"/>
                    </a:lnTo>
                    <a:lnTo>
                      <a:pt x="38" y="61"/>
                    </a:lnTo>
                    <a:lnTo>
                      <a:pt x="31" y="65"/>
                    </a:lnTo>
                    <a:lnTo>
                      <a:pt x="31" y="72"/>
                    </a:lnTo>
                    <a:lnTo>
                      <a:pt x="27" y="69"/>
                    </a:lnTo>
                    <a:lnTo>
                      <a:pt x="19" y="83"/>
                    </a:lnTo>
                    <a:lnTo>
                      <a:pt x="3" y="86"/>
                    </a:lnTo>
                    <a:lnTo>
                      <a:pt x="3" y="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401920" y="593640"/>
                <a:ext cx="6840" cy="3600"/>
              </a:xfrm>
              <a:custGeom>
                <a:avLst/>
                <a:gdLst/>
                <a:ahLst/>
                <a:rect l="0" t="0" r="r" b="b"/>
                <a:pathLst>
                  <a:path w="19" h="10">
                    <a:moveTo>
                      <a:pt x="0" y="10"/>
                    </a:moveTo>
                    <a:lnTo>
                      <a:pt x="9" y="0"/>
                    </a:lnTo>
                    <a:lnTo>
                      <a:pt x="19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28920" y="59220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3" y="5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0280" y="1168560"/>
                <a:ext cx="1624320" cy="417960"/>
              </a:xfrm>
              <a:custGeom>
                <a:avLst/>
                <a:gdLst/>
                <a:ahLst/>
                <a:rect l="0" t="0" r="r" b="b"/>
                <a:pathLst>
                  <a:path w="4512" h="1161">
                    <a:moveTo>
                      <a:pt x="0" y="0"/>
                    </a:moveTo>
                    <a:lnTo>
                      <a:pt x="284" y="163"/>
                    </a:lnTo>
                    <a:lnTo>
                      <a:pt x="403" y="198"/>
                    </a:lnTo>
                    <a:lnTo>
                      <a:pt x="587" y="224"/>
                    </a:lnTo>
                    <a:lnTo>
                      <a:pt x="692" y="241"/>
                    </a:lnTo>
                    <a:lnTo>
                      <a:pt x="701" y="176"/>
                    </a:lnTo>
                    <a:lnTo>
                      <a:pt x="920" y="198"/>
                    </a:lnTo>
                    <a:lnTo>
                      <a:pt x="942" y="211"/>
                    </a:lnTo>
                    <a:lnTo>
                      <a:pt x="960" y="258"/>
                    </a:lnTo>
                    <a:lnTo>
                      <a:pt x="986" y="271"/>
                    </a:lnTo>
                    <a:lnTo>
                      <a:pt x="1056" y="358"/>
                    </a:lnTo>
                    <a:lnTo>
                      <a:pt x="1104" y="401"/>
                    </a:lnTo>
                    <a:lnTo>
                      <a:pt x="1135" y="466"/>
                    </a:lnTo>
                    <a:lnTo>
                      <a:pt x="1135" y="509"/>
                    </a:lnTo>
                    <a:lnTo>
                      <a:pt x="1152" y="557"/>
                    </a:lnTo>
                    <a:lnTo>
                      <a:pt x="1214" y="608"/>
                    </a:lnTo>
                    <a:lnTo>
                      <a:pt x="1245" y="621"/>
                    </a:lnTo>
                    <a:lnTo>
                      <a:pt x="1306" y="664"/>
                    </a:lnTo>
                    <a:lnTo>
                      <a:pt x="1332" y="669"/>
                    </a:lnTo>
                    <a:lnTo>
                      <a:pt x="1363" y="634"/>
                    </a:lnTo>
                    <a:lnTo>
                      <a:pt x="1398" y="561"/>
                    </a:lnTo>
                    <a:lnTo>
                      <a:pt x="1437" y="561"/>
                    </a:lnTo>
                    <a:lnTo>
                      <a:pt x="1451" y="544"/>
                    </a:lnTo>
                    <a:lnTo>
                      <a:pt x="1486" y="561"/>
                    </a:lnTo>
                    <a:lnTo>
                      <a:pt x="1521" y="565"/>
                    </a:lnTo>
                    <a:lnTo>
                      <a:pt x="1573" y="570"/>
                    </a:lnTo>
                    <a:lnTo>
                      <a:pt x="1587" y="608"/>
                    </a:lnTo>
                    <a:lnTo>
                      <a:pt x="1648" y="652"/>
                    </a:lnTo>
                    <a:lnTo>
                      <a:pt x="1718" y="811"/>
                    </a:lnTo>
                    <a:lnTo>
                      <a:pt x="1762" y="877"/>
                    </a:lnTo>
                    <a:lnTo>
                      <a:pt x="1806" y="911"/>
                    </a:lnTo>
                    <a:lnTo>
                      <a:pt x="1806" y="954"/>
                    </a:lnTo>
                    <a:lnTo>
                      <a:pt x="1814" y="959"/>
                    </a:lnTo>
                    <a:lnTo>
                      <a:pt x="1810" y="993"/>
                    </a:lnTo>
                    <a:lnTo>
                      <a:pt x="1836" y="1023"/>
                    </a:lnTo>
                    <a:lnTo>
                      <a:pt x="1854" y="1062"/>
                    </a:lnTo>
                    <a:lnTo>
                      <a:pt x="1858" y="1088"/>
                    </a:lnTo>
                    <a:lnTo>
                      <a:pt x="1928" y="1114"/>
                    </a:lnTo>
                    <a:lnTo>
                      <a:pt x="1985" y="1144"/>
                    </a:lnTo>
                    <a:lnTo>
                      <a:pt x="2029" y="1144"/>
                    </a:lnTo>
                    <a:lnTo>
                      <a:pt x="2078" y="1161"/>
                    </a:lnTo>
                    <a:lnTo>
                      <a:pt x="2126" y="1161"/>
                    </a:lnTo>
                    <a:lnTo>
                      <a:pt x="2091" y="1092"/>
                    </a:lnTo>
                    <a:lnTo>
                      <a:pt x="2073" y="1006"/>
                    </a:lnTo>
                    <a:lnTo>
                      <a:pt x="2091" y="967"/>
                    </a:lnTo>
                    <a:lnTo>
                      <a:pt x="2047" y="963"/>
                    </a:lnTo>
                    <a:lnTo>
                      <a:pt x="2047" y="937"/>
                    </a:lnTo>
                    <a:lnTo>
                      <a:pt x="2064" y="959"/>
                    </a:lnTo>
                    <a:lnTo>
                      <a:pt x="2082" y="941"/>
                    </a:lnTo>
                    <a:lnTo>
                      <a:pt x="2082" y="959"/>
                    </a:lnTo>
                    <a:lnTo>
                      <a:pt x="2108" y="924"/>
                    </a:lnTo>
                    <a:lnTo>
                      <a:pt x="2113" y="903"/>
                    </a:lnTo>
                    <a:lnTo>
                      <a:pt x="2099" y="911"/>
                    </a:lnTo>
                    <a:lnTo>
                      <a:pt x="2099" y="881"/>
                    </a:lnTo>
                    <a:lnTo>
                      <a:pt x="2082" y="872"/>
                    </a:lnTo>
                    <a:lnTo>
                      <a:pt x="2139" y="872"/>
                    </a:lnTo>
                    <a:lnTo>
                      <a:pt x="2121" y="846"/>
                    </a:lnTo>
                    <a:lnTo>
                      <a:pt x="2126" y="828"/>
                    </a:lnTo>
                    <a:lnTo>
                      <a:pt x="2161" y="820"/>
                    </a:lnTo>
                    <a:lnTo>
                      <a:pt x="2174" y="841"/>
                    </a:lnTo>
                    <a:lnTo>
                      <a:pt x="2183" y="781"/>
                    </a:lnTo>
                    <a:lnTo>
                      <a:pt x="2200" y="807"/>
                    </a:lnTo>
                    <a:lnTo>
                      <a:pt x="2235" y="789"/>
                    </a:lnTo>
                    <a:lnTo>
                      <a:pt x="2205" y="768"/>
                    </a:lnTo>
                    <a:lnTo>
                      <a:pt x="2205" y="746"/>
                    </a:lnTo>
                    <a:lnTo>
                      <a:pt x="2227" y="768"/>
                    </a:lnTo>
                    <a:lnTo>
                      <a:pt x="2235" y="746"/>
                    </a:lnTo>
                    <a:lnTo>
                      <a:pt x="2248" y="759"/>
                    </a:lnTo>
                    <a:lnTo>
                      <a:pt x="2267" y="742"/>
                    </a:lnTo>
                    <a:lnTo>
                      <a:pt x="2263" y="768"/>
                    </a:lnTo>
                    <a:lnTo>
                      <a:pt x="2320" y="742"/>
                    </a:lnTo>
                    <a:lnTo>
                      <a:pt x="2248" y="785"/>
                    </a:lnTo>
                    <a:lnTo>
                      <a:pt x="2244" y="794"/>
                    </a:lnTo>
                    <a:lnTo>
                      <a:pt x="2403" y="699"/>
                    </a:lnTo>
                    <a:lnTo>
                      <a:pt x="2403" y="673"/>
                    </a:lnTo>
                    <a:lnTo>
                      <a:pt x="2420" y="673"/>
                    </a:lnTo>
                    <a:lnTo>
                      <a:pt x="2442" y="652"/>
                    </a:lnTo>
                    <a:lnTo>
                      <a:pt x="2438" y="626"/>
                    </a:lnTo>
                    <a:lnTo>
                      <a:pt x="2429" y="621"/>
                    </a:lnTo>
                    <a:lnTo>
                      <a:pt x="2425" y="591"/>
                    </a:lnTo>
                    <a:lnTo>
                      <a:pt x="2438" y="604"/>
                    </a:lnTo>
                    <a:lnTo>
                      <a:pt x="2469" y="578"/>
                    </a:lnTo>
                    <a:lnTo>
                      <a:pt x="2460" y="621"/>
                    </a:lnTo>
                    <a:lnTo>
                      <a:pt x="2491" y="621"/>
                    </a:lnTo>
                    <a:lnTo>
                      <a:pt x="2460" y="647"/>
                    </a:lnTo>
                    <a:lnTo>
                      <a:pt x="2517" y="617"/>
                    </a:lnTo>
                    <a:lnTo>
                      <a:pt x="2583" y="591"/>
                    </a:lnTo>
                    <a:lnTo>
                      <a:pt x="2675" y="578"/>
                    </a:lnTo>
                    <a:lnTo>
                      <a:pt x="2749" y="608"/>
                    </a:lnTo>
                    <a:lnTo>
                      <a:pt x="2819" y="608"/>
                    </a:lnTo>
                    <a:lnTo>
                      <a:pt x="2811" y="587"/>
                    </a:lnTo>
                    <a:lnTo>
                      <a:pt x="2837" y="570"/>
                    </a:lnTo>
                    <a:lnTo>
                      <a:pt x="2890" y="578"/>
                    </a:lnTo>
                    <a:lnTo>
                      <a:pt x="2894" y="617"/>
                    </a:lnTo>
                    <a:lnTo>
                      <a:pt x="2907" y="608"/>
                    </a:lnTo>
                    <a:lnTo>
                      <a:pt x="2929" y="617"/>
                    </a:lnTo>
                    <a:lnTo>
                      <a:pt x="2951" y="639"/>
                    </a:lnTo>
                    <a:lnTo>
                      <a:pt x="2955" y="660"/>
                    </a:lnTo>
                    <a:lnTo>
                      <a:pt x="2977" y="664"/>
                    </a:lnTo>
                    <a:lnTo>
                      <a:pt x="2995" y="673"/>
                    </a:lnTo>
                    <a:lnTo>
                      <a:pt x="3008" y="669"/>
                    </a:lnTo>
                    <a:lnTo>
                      <a:pt x="3025" y="652"/>
                    </a:lnTo>
                    <a:lnTo>
                      <a:pt x="3025" y="639"/>
                    </a:lnTo>
                    <a:lnTo>
                      <a:pt x="3043" y="656"/>
                    </a:lnTo>
                    <a:lnTo>
                      <a:pt x="3056" y="639"/>
                    </a:lnTo>
                    <a:lnTo>
                      <a:pt x="3074" y="673"/>
                    </a:lnTo>
                    <a:lnTo>
                      <a:pt x="3091" y="656"/>
                    </a:lnTo>
                    <a:lnTo>
                      <a:pt x="3100" y="652"/>
                    </a:lnTo>
                    <a:lnTo>
                      <a:pt x="3091" y="639"/>
                    </a:lnTo>
                    <a:lnTo>
                      <a:pt x="3091" y="608"/>
                    </a:lnTo>
                    <a:lnTo>
                      <a:pt x="3104" y="608"/>
                    </a:lnTo>
                    <a:lnTo>
                      <a:pt x="3122" y="617"/>
                    </a:lnTo>
                    <a:lnTo>
                      <a:pt x="3126" y="634"/>
                    </a:lnTo>
                    <a:lnTo>
                      <a:pt x="3148" y="634"/>
                    </a:lnTo>
                    <a:lnTo>
                      <a:pt x="3170" y="647"/>
                    </a:lnTo>
                    <a:lnTo>
                      <a:pt x="3170" y="639"/>
                    </a:lnTo>
                    <a:lnTo>
                      <a:pt x="3179" y="652"/>
                    </a:lnTo>
                    <a:lnTo>
                      <a:pt x="3196" y="664"/>
                    </a:lnTo>
                    <a:lnTo>
                      <a:pt x="3188" y="686"/>
                    </a:lnTo>
                    <a:lnTo>
                      <a:pt x="3205" y="664"/>
                    </a:lnTo>
                    <a:lnTo>
                      <a:pt x="3218" y="673"/>
                    </a:lnTo>
                    <a:lnTo>
                      <a:pt x="3218" y="664"/>
                    </a:lnTo>
                    <a:lnTo>
                      <a:pt x="3232" y="656"/>
                    </a:lnTo>
                    <a:lnTo>
                      <a:pt x="3232" y="647"/>
                    </a:lnTo>
                    <a:lnTo>
                      <a:pt x="3218" y="643"/>
                    </a:lnTo>
                    <a:lnTo>
                      <a:pt x="3210" y="634"/>
                    </a:lnTo>
                    <a:lnTo>
                      <a:pt x="3196" y="634"/>
                    </a:lnTo>
                    <a:lnTo>
                      <a:pt x="3183" y="621"/>
                    </a:lnTo>
                    <a:lnTo>
                      <a:pt x="3170" y="621"/>
                    </a:lnTo>
                    <a:lnTo>
                      <a:pt x="3153" y="591"/>
                    </a:lnTo>
                    <a:lnTo>
                      <a:pt x="3161" y="583"/>
                    </a:lnTo>
                    <a:lnTo>
                      <a:pt x="3179" y="574"/>
                    </a:lnTo>
                    <a:lnTo>
                      <a:pt x="3179" y="561"/>
                    </a:lnTo>
                    <a:lnTo>
                      <a:pt x="3192" y="557"/>
                    </a:lnTo>
                    <a:lnTo>
                      <a:pt x="3210" y="539"/>
                    </a:lnTo>
                    <a:lnTo>
                      <a:pt x="3201" y="539"/>
                    </a:lnTo>
                    <a:lnTo>
                      <a:pt x="3201" y="505"/>
                    </a:lnTo>
                    <a:lnTo>
                      <a:pt x="3183" y="522"/>
                    </a:lnTo>
                    <a:lnTo>
                      <a:pt x="3161" y="522"/>
                    </a:lnTo>
                    <a:lnTo>
                      <a:pt x="3144" y="548"/>
                    </a:lnTo>
                    <a:lnTo>
                      <a:pt x="3118" y="539"/>
                    </a:lnTo>
                    <a:lnTo>
                      <a:pt x="3122" y="522"/>
                    </a:lnTo>
                    <a:lnTo>
                      <a:pt x="3135" y="522"/>
                    </a:lnTo>
                    <a:lnTo>
                      <a:pt x="3139" y="509"/>
                    </a:lnTo>
                    <a:lnTo>
                      <a:pt x="3131" y="514"/>
                    </a:lnTo>
                    <a:lnTo>
                      <a:pt x="3126" y="509"/>
                    </a:lnTo>
                    <a:lnTo>
                      <a:pt x="3122" y="514"/>
                    </a:lnTo>
                    <a:lnTo>
                      <a:pt x="3113" y="509"/>
                    </a:lnTo>
                    <a:lnTo>
                      <a:pt x="3100" y="522"/>
                    </a:lnTo>
                    <a:lnTo>
                      <a:pt x="3078" y="526"/>
                    </a:lnTo>
                    <a:lnTo>
                      <a:pt x="3043" y="522"/>
                    </a:lnTo>
                    <a:lnTo>
                      <a:pt x="3039" y="509"/>
                    </a:lnTo>
                    <a:lnTo>
                      <a:pt x="3065" y="479"/>
                    </a:lnTo>
                    <a:lnTo>
                      <a:pt x="3082" y="479"/>
                    </a:lnTo>
                    <a:lnTo>
                      <a:pt x="3096" y="492"/>
                    </a:lnTo>
                    <a:lnTo>
                      <a:pt x="3157" y="505"/>
                    </a:lnTo>
                    <a:lnTo>
                      <a:pt x="3170" y="496"/>
                    </a:lnTo>
                    <a:lnTo>
                      <a:pt x="3183" y="470"/>
                    </a:lnTo>
                    <a:lnTo>
                      <a:pt x="3192" y="479"/>
                    </a:lnTo>
                    <a:lnTo>
                      <a:pt x="3218" y="466"/>
                    </a:lnTo>
                    <a:lnTo>
                      <a:pt x="3240" y="462"/>
                    </a:lnTo>
                    <a:lnTo>
                      <a:pt x="3245" y="458"/>
                    </a:lnTo>
                    <a:lnTo>
                      <a:pt x="3262" y="470"/>
                    </a:lnTo>
                    <a:lnTo>
                      <a:pt x="3280" y="458"/>
                    </a:lnTo>
                    <a:lnTo>
                      <a:pt x="3293" y="470"/>
                    </a:lnTo>
                    <a:lnTo>
                      <a:pt x="3306" y="458"/>
                    </a:lnTo>
                    <a:lnTo>
                      <a:pt x="3341" y="466"/>
                    </a:lnTo>
                    <a:lnTo>
                      <a:pt x="3354" y="397"/>
                    </a:lnTo>
                    <a:lnTo>
                      <a:pt x="3363" y="414"/>
                    </a:lnTo>
                    <a:lnTo>
                      <a:pt x="3367" y="449"/>
                    </a:lnTo>
                    <a:lnTo>
                      <a:pt x="3385" y="466"/>
                    </a:lnTo>
                    <a:lnTo>
                      <a:pt x="3359" y="479"/>
                    </a:lnTo>
                    <a:lnTo>
                      <a:pt x="3424" y="462"/>
                    </a:lnTo>
                    <a:lnTo>
                      <a:pt x="3451" y="458"/>
                    </a:lnTo>
                    <a:lnTo>
                      <a:pt x="3464" y="436"/>
                    </a:lnTo>
                    <a:lnTo>
                      <a:pt x="3464" y="423"/>
                    </a:lnTo>
                    <a:lnTo>
                      <a:pt x="3473" y="432"/>
                    </a:lnTo>
                    <a:lnTo>
                      <a:pt x="3486" y="419"/>
                    </a:lnTo>
                    <a:lnTo>
                      <a:pt x="3490" y="432"/>
                    </a:lnTo>
                    <a:lnTo>
                      <a:pt x="3468" y="449"/>
                    </a:lnTo>
                    <a:lnTo>
                      <a:pt x="3538" y="432"/>
                    </a:lnTo>
                    <a:lnTo>
                      <a:pt x="3556" y="419"/>
                    </a:lnTo>
                    <a:lnTo>
                      <a:pt x="3565" y="427"/>
                    </a:lnTo>
                    <a:lnTo>
                      <a:pt x="3591" y="419"/>
                    </a:lnTo>
                    <a:lnTo>
                      <a:pt x="3604" y="427"/>
                    </a:lnTo>
                    <a:lnTo>
                      <a:pt x="3556" y="432"/>
                    </a:lnTo>
                    <a:lnTo>
                      <a:pt x="3569" y="436"/>
                    </a:lnTo>
                    <a:lnTo>
                      <a:pt x="3626" y="449"/>
                    </a:lnTo>
                    <a:lnTo>
                      <a:pt x="3661" y="470"/>
                    </a:lnTo>
                    <a:lnTo>
                      <a:pt x="3648" y="440"/>
                    </a:lnTo>
                    <a:lnTo>
                      <a:pt x="3666" y="462"/>
                    </a:lnTo>
                    <a:lnTo>
                      <a:pt x="3687" y="466"/>
                    </a:lnTo>
                    <a:lnTo>
                      <a:pt x="3670" y="470"/>
                    </a:lnTo>
                    <a:lnTo>
                      <a:pt x="3709" y="492"/>
                    </a:lnTo>
                    <a:lnTo>
                      <a:pt x="3723" y="509"/>
                    </a:lnTo>
                    <a:lnTo>
                      <a:pt x="3723" y="522"/>
                    </a:lnTo>
                    <a:lnTo>
                      <a:pt x="3709" y="505"/>
                    </a:lnTo>
                    <a:lnTo>
                      <a:pt x="3714" y="531"/>
                    </a:lnTo>
                    <a:lnTo>
                      <a:pt x="3744" y="522"/>
                    </a:lnTo>
                    <a:lnTo>
                      <a:pt x="3766" y="522"/>
                    </a:lnTo>
                    <a:lnTo>
                      <a:pt x="3775" y="505"/>
                    </a:lnTo>
                    <a:lnTo>
                      <a:pt x="3784" y="514"/>
                    </a:lnTo>
                    <a:lnTo>
                      <a:pt x="3823" y="483"/>
                    </a:lnTo>
                    <a:lnTo>
                      <a:pt x="3850" y="483"/>
                    </a:lnTo>
                    <a:lnTo>
                      <a:pt x="3841" y="475"/>
                    </a:lnTo>
                    <a:lnTo>
                      <a:pt x="3858" y="449"/>
                    </a:lnTo>
                    <a:lnTo>
                      <a:pt x="3894" y="449"/>
                    </a:lnTo>
                    <a:lnTo>
                      <a:pt x="3933" y="470"/>
                    </a:lnTo>
                    <a:lnTo>
                      <a:pt x="3964" y="496"/>
                    </a:lnTo>
                    <a:lnTo>
                      <a:pt x="3981" y="505"/>
                    </a:lnTo>
                    <a:lnTo>
                      <a:pt x="3986" y="522"/>
                    </a:lnTo>
                    <a:lnTo>
                      <a:pt x="4012" y="539"/>
                    </a:lnTo>
                    <a:lnTo>
                      <a:pt x="4021" y="552"/>
                    </a:lnTo>
                    <a:lnTo>
                      <a:pt x="4034" y="570"/>
                    </a:lnTo>
                    <a:lnTo>
                      <a:pt x="4073" y="570"/>
                    </a:lnTo>
                    <a:lnTo>
                      <a:pt x="4086" y="591"/>
                    </a:lnTo>
                    <a:lnTo>
                      <a:pt x="4104" y="634"/>
                    </a:lnTo>
                    <a:lnTo>
                      <a:pt x="4091" y="716"/>
                    </a:lnTo>
                    <a:lnTo>
                      <a:pt x="4095" y="768"/>
                    </a:lnTo>
                    <a:lnTo>
                      <a:pt x="4121" y="785"/>
                    </a:lnTo>
                    <a:lnTo>
                      <a:pt x="4121" y="759"/>
                    </a:lnTo>
                    <a:lnTo>
                      <a:pt x="4108" y="751"/>
                    </a:lnTo>
                    <a:lnTo>
                      <a:pt x="4108" y="733"/>
                    </a:lnTo>
                    <a:lnTo>
                      <a:pt x="4121" y="742"/>
                    </a:lnTo>
                    <a:lnTo>
                      <a:pt x="4130" y="742"/>
                    </a:lnTo>
                    <a:lnTo>
                      <a:pt x="4135" y="759"/>
                    </a:lnTo>
                    <a:lnTo>
                      <a:pt x="4148" y="742"/>
                    </a:lnTo>
                    <a:lnTo>
                      <a:pt x="4157" y="759"/>
                    </a:lnTo>
                    <a:lnTo>
                      <a:pt x="4126" y="811"/>
                    </a:lnTo>
                    <a:lnTo>
                      <a:pt x="4126" y="820"/>
                    </a:lnTo>
                    <a:lnTo>
                      <a:pt x="4143" y="828"/>
                    </a:lnTo>
                    <a:lnTo>
                      <a:pt x="4161" y="872"/>
                    </a:lnTo>
                    <a:lnTo>
                      <a:pt x="4178" y="894"/>
                    </a:lnTo>
                    <a:lnTo>
                      <a:pt x="4192" y="907"/>
                    </a:lnTo>
                    <a:lnTo>
                      <a:pt x="4209" y="907"/>
                    </a:lnTo>
                    <a:lnTo>
                      <a:pt x="4192" y="885"/>
                    </a:lnTo>
                    <a:lnTo>
                      <a:pt x="4205" y="890"/>
                    </a:lnTo>
                    <a:lnTo>
                      <a:pt x="4218" y="885"/>
                    </a:lnTo>
                    <a:lnTo>
                      <a:pt x="4218" y="894"/>
                    </a:lnTo>
                    <a:lnTo>
                      <a:pt x="4218" y="916"/>
                    </a:lnTo>
                    <a:lnTo>
                      <a:pt x="4231" y="941"/>
                    </a:lnTo>
                    <a:lnTo>
                      <a:pt x="4257" y="959"/>
                    </a:lnTo>
                    <a:lnTo>
                      <a:pt x="4262" y="976"/>
                    </a:lnTo>
                    <a:lnTo>
                      <a:pt x="4284" y="1032"/>
                    </a:lnTo>
                    <a:lnTo>
                      <a:pt x="4314" y="1032"/>
                    </a:lnTo>
                    <a:lnTo>
                      <a:pt x="4336" y="1045"/>
                    </a:lnTo>
                    <a:lnTo>
                      <a:pt x="4380" y="1097"/>
                    </a:lnTo>
                    <a:lnTo>
                      <a:pt x="4415" y="1105"/>
                    </a:lnTo>
                    <a:lnTo>
                      <a:pt x="4415" y="1114"/>
                    </a:lnTo>
                    <a:lnTo>
                      <a:pt x="4406" y="1122"/>
                    </a:lnTo>
                    <a:lnTo>
                      <a:pt x="4380" y="1110"/>
                    </a:lnTo>
                    <a:lnTo>
                      <a:pt x="4385" y="1131"/>
                    </a:lnTo>
                    <a:lnTo>
                      <a:pt x="4420" y="1127"/>
                    </a:lnTo>
                    <a:lnTo>
                      <a:pt x="4446" y="1127"/>
                    </a:lnTo>
                    <a:lnTo>
                      <a:pt x="4463" y="1110"/>
                    </a:lnTo>
                    <a:lnTo>
                      <a:pt x="4485" y="1110"/>
                    </a:lnTo>
                    <a:lnTo>
                      <a:pt x="4494" y="1084"/>
                    </a:lnTo>
                    <a:lnTo>
                      <a:pt x="4490" y="1049"/>
                    </a:lnTo>
                    <a:lnTo>
                      <a:pt x="4503" y="1015"/>
                    </a:lnTo>
                    <a:lnTo>
                      <a:pt x="4512" y="1019"/>
                    </a:lnTo>
                    <a:lnTo>
                      <a:pt x="4503" y="885"/>
                    </a:lnTo>
                    <a:lnTo>
                      <a:pt x="4490" y="846"/>
                    </a:lnTo>
                    <a:lnTo>
                      <a:pt x="4371" y="652"/>
                    </a:lnTo>
                    <a:lnTo>
                      <a:pt x="4345" y="591"/>
                    </a:lnTo>
                    <a:lnTo>
                      <a:pt x="4354" y="591"/>
                    </a:lnTo>
                    <a:lnTo>
                      <a:pt x="4275" y="470"/>
                    </a:lnTo>
                    <a:lnTo>
                      <a:pt x="4218" y="337"/>
                    </a:lnTo>
                    <a:lnTo>
                      <a:pt x="4218" y="320"/>
                    </a:lnTo>
                    <a:lnTo>
                      <a:pt x="4205" y="315"/>
                    </a:lnTo>
                    <a:lnTo>
                      <a:pt x="4214" y="275"/>
                    </a:lnTo>
                    <a:lnTo>
                      <a:pt x="4205" y="271"/>
                    </a:lnTo>
                    <a:lnTo>
                      <a:pt x="4218" y="262"/>
                    </a:lnTo>
                    <a:lnTo>
                      <a:pt x="4196" y="250"/>
                    </a:lnTo>
                    <a:lnTo>
                      <a:pt x="4205" y="241"/>
                    </a:lnTo>
                    <a:lnTo>
                      <a:pt x="4205" y="219"/>
                    </a:lnTo>
                    <a:lnTo>
                      <a:pt x="4231" y="206"/>
                    </a:lnTo>
                    <a:lnTo>
                      <a:pt x="4218" y="185"/>
                    </a:lnTo>
                    <a:lnTo>
                      <a:pt x="4231" y="176"/>
                    </a:lnTo>
                    <a:lnTo>
                      <a:pt x="4240" y="159"/>
                    </a:lnTo>
                    <a:lnTo>
                      <a:pt x="4227" y="155"/>
                    </a:lnTo>
                    <a:lnTo>
                      <a:pt x="4244" y="142"/>
                    </a:lnTo>
                    <a:lnTo>
                      <a:pt x="4240" y="129"/>
                    </a:lnTo>
                    <a:lnTo>
                      <a:pt x="4253" y="129"/>
                    </a:lnTo>
                    <a:lnTo>
                      <a:pt x="4266" y="112"/>
                    </a:lnTo>
                    <a:lnTo>
                      <a:pt x="4257" y="99"/>
                    </a:lnTo>
                    <a:lnTo>
                      <a:pt x="4284" y="68"/>
                    </a:lnTo>
                    <a:lnTo>
                      <a:pt x="433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17680" y="1246320"/>
                <a:ext cx="251280" cy="333720"/>
              </a:xfrm>
              <a:custGeom>
                <a:avLst/>
                <a:gdLst/>
                <a:ahLst/>
                <a:rect l="0" t="0" r="r" b="b"/>
                <a:pathLst>
                  <a:path w="698" h="927">
                    <a:moveTo>
                      <a:pt x="0" y="0"/>
                    </a:moveTo>
                    <a:lnTo>
                      <a:pt x="38" y="0"/>
                    </a:lnTo>
                    <a:lnTo>
                      <a:pt x="46" y="25"/>
                    </a:lnTo>
                    <a:lnTo>
                      <a:pt x="101" y="30"/>
                    </a:lnTo>
                    <a:lnTo>
                      <a:pt x="101" y="42"/>
                    </a:lnTo>
                    <a:lnTo>
                      <a:pt x="114" y="34"/>
                    </a:lnTo>
                    <a:lnTo>
                      <a:pt x="131" y="51"/>
                    </a:lnTo>
                    <a:lnTo>
                      <a:pt x="161" y="47"/>
                    </a:lnTo>
                    <a:lnTo>
                      <a:pt x="196" y="60"/>
                    </a:lnTo>
                    <a:lnTo>
                      <a:pt x="221" y="51"/>
                    </a:lnTo>
                    <a:lnTo>
                      <a:pt x="221" y="55"/>
                    </a:lnTo>
                    <a:lnTo>
                      <a:pt x="234" y="51"/>
                    </a:lnTo>
                    <a:lnTo>
                      <a:pt x="281" y="72"/>
                    </a:lnTo>
                    <a:lnTo>
                      <a:pt x="319" y="639"/>
                    </a:lnTo>
                    <a:lnTo>
                      <a:pt x="370" y="639"/>
                    </a:lnTo>
                    <a:lnTo>
                      <a:pt x="366" y="656"/>
                    </a:lnTo>
                    <a:lnTo>
                      <a:pt x="391" y="669"/>
                    </a:lnTo>
                    <a:lnTo>
                      <a:pt x="425" y="695"/>
                    </a:lnTo>
                    <a:lnTo>
                      <a:pt x="434" y="708"/>
                    </a:lnTo>
                    <a:lnTo>
                      <a:pt x="455" y="695"/>
                    </a:lnTo>
                    <a:lnTo>
                      <a:pt x="464" y="669"/>
                    </a:lnTo>
                    <a:lnTo>
                      <a:pt x="481" y="661"/>
                    </a:lnTo>
                    <a:lnTo>
                      <a:pt x="485" y="656"/>
                    </a:lnTo>
                    <a:lnTo>
                      <a:pt x="498" y="669"/>
                    </a:lnTo>
                    <a:lnTo>
                      <a:pt x="498" y="682"/>
                    </a:lnTo>
                    <a:lnTo>
                      <a:pt x="515" y="686"/>
                    </a:lnTo>
                    <a:lnTo>
                      <a:pt x="519" y="691"/>
                    </a:lnTo>
                    <a:lnTo>
                      <a:pt x="528" y="704"/>
                    </a:lnTo>
                    <a:lnTo>
                      <a:pt x="545" y="712"/>
                    </a:lnTo>
                    <a:lnTo>
                      <a:pt x="626" y="828"/>
                    </a:lnTo>
                    <a:lnTo>
                      <a:pt x="652" y="832"/>
                    </a:lnTo>
                    <a:lnTo>
                      <a:pt x="694" y="849"/>
                    </a:lnTo>
                    <a:lnTo>
                      <a:pt x="698" y="862"/>
                    </a:lnTo>
                    <a:lnTo>
                      <a:pt x="690" y="867"/>
                    </a:lnTo>
                    <a:lnTo>
                      <a:pt x="690" y="888"/>
                    </a:lnTo>
                    <a:lnTo>
                      <a:pt x="685" y="927"/>
                    </a:lnTo>
                    <a:lnTo>
                      <a:pt x="677" y="914"/>
                    </a:lnTo>
                    <a:lnTo>
                      <a:pt x="668" y="927"/>
                    </a:lnTo>
                    <a:lnTo>
                      <a:pt x="660" y="914"/>
                    </a:lnTo>
                    <a:lnTo>
                      <a:pt x="677" y="909"/>
                    </a:lnTo>
                    <a:lnTo>
                      <a:pt x="664" y="892"/>
                    </a:lnTo>
                    <a:lnTo>
                      <a:pt x="664" y="884"/>
                    </a:lnTo>
                    <a:lnTo>
                      <a:pt x="652" y="858"/>
                    </a:lnTo>
                    <a:lnTo>
                      <a:pt x="647" y="858"/>
                    </a:lnTo>
                    <a:lnTo>
                      <a:pt x="630" y="867"/>
                    </a:lnTo>
                    <a:lnTo>
                      <a:pt x="626" y="879"/>
                    </a:lnTo>
                    <a:lnTo>
                      <a:pt x="618" y="884"/>
                    </a:lnTo>
                    <a:lnTo>
                      <a:pt x="613" y="879"/>
                    </a:lnTo>
                    <a:lnTo>
                      <a:pt x="626" y="862"/>
                    </a:lnTo>
                    <a:lnTo>
                      <a:pt x="626" y="849"/>
                    </a:lnTo>
                    <a:lnTo>
                      <a:pt x="622" y="858"/>
                    </a:lnTo>
                    <a:lnTo>
                      <a:pt x="618" y="867"/>
                    </a:lnTo>
                    <a:lnTo>
                      <a:pt x="584" y="849"/>
                    </a:lnTo>
                    <a:lnTo>
                      <a:pt x="588" y="845"/>
                    </a:lnTo>
                    <a:lnTo>
                      <a:pt x="605" y="845"/>
                    </a:lnTo>
                    <a:lnTo>
                      <a:pt x="605" y="832"/>
                    </a:lnTo>
                    <a:lnTo>
                      <a:pt x="613" y="828"/>
                    </a:lnTo>
                    <a:lnTo>
                      <a:pt x="613" y="819"/>
                    </a:lnTo>
                    <a:lnTo>
                      <a:pt x="601" y="828"/>
                    </a:lnTo>
                    <a:lnTo>
                      <a:pt x="596" y="806"/>
                    </a:lnTo>
                    <a:lnTo>
                      <a:pt x="562" y="802"/>
                    </a:lnTo>
                    <a:lnTo>
                      <a:pt x="558" y="781"/>
                    </a:lnTo>
                    <a:lnTo>
                      <a:pt x="562" y="759"/>
                    </a:lnTo>
                    <a:lnTo>
                      <a:pt x="554" y="764"/>
                    </a:lnTo>
                    <a:lnTo>
                      <a:pt x="550" y="751"/>
                    </a:lnTo>
                    <a:lnTo>
                      <a:pt x="541" y="751"/>
                    </a:lnTo>
                    <a:lnTo>
                      <a:pt x="545" y="729"/>
                    </a:lnTo>
                    <a:lnTo>
                      <a:pt x="541" y="725"/>
                    </a:lnTo>
                    <a:lnTo>
                      <a:pt x="537" y="738"/>
                    </a:lnTo>
                    <a:lnTo>
                      <a:pt x="528" y="742"/>
                    </a:lnTo>
                    <a:lnTo>
                      <a:pt x="515" y="738"/>
                    </a:lnTo>
                    <a:lnTo>
                      <a:pt x="515" y="721"/>
                    </a:lnTo>
                    <a:lnTo>
                      <a:pt x="498" y="699"/>
                    </a:lnTo>
                    <a:lnTo>
                      <a:pt x="498" y="686"/>
                    </a:lnTo>
                    <a:lnTo>
                      <a:pt x="489" y="686"/>
                    </a:lnTo>
                    <a:lnTo>
                      <a:pt x="489" y="674"/>
                    </a:lnTo>
                    <a:lnTo>
                      <a:pt x="489" y="678"/>
                    </a:lnTo>
                    <a:lnTo>
                      <a:pt x="498" y="708"/>
                    </a:lnTo>
                    <a:lnTo>
                      <a:pt x="506" y="738"/>
                    </a:lnTo>
                    <a:lnTo>
                      <a:pt x="550" y="768"/>
                    </a:lnTo>
                    <a:lnTo>
                      <a:pt x="550" y="772"/>
                    </a:lnTo>
                    <a:lnTo>
                      <a:pt x="541" y="772"/>
                    </a:lnTo>
                    <a:lnTo>
                      <a:pt x="541" y="781"/>
                    </a:lnTo>
                    <a:lnTo>
                      <a:pt x="545" y="781"/>
                    </a:lnTo>
                    <a:lnTo>
                      <a:pt x="550" y="802"/>
                    </a:lnTo>
                    <a:lnTo>
                      <a:pt x="579" y="811"/>
                    </a:lnTo>
                    <a:lnTo>
                      <a:pt x="592" y="832"/>
                    </a:lnTo>
                    <a:lnTo>
                      <a:pt x="562" y="841"/>
                    </a:lnTo>
                    <a:lnTo>
                      <a:pt x="545" y="879"/>
                    </a:lnTo>
                    <a:lnTo>
                      <a:pt x="537" y="819"/>
                    </a:lnTo>
                    <a:lnTo>
                      <a:pt x="528" y="811"/>
                    </a:lnTo>
                    <a:lnTo>
                      <a:pt x="528" y="798"/>
                    </a:lnTo>
                    <a:lnTo>
                      <a:pt x="533" y="794"/>
                    </a:lnTo>
                    <a:lnTo>
                      <a:pt x="506" y="742"/>
                    </a:lnTo>
                    <a:lnTo>
                      <a:pt x="498" y="742"/>
                    </a:lnTo>
                    <a:lnTo>
                      <a:pt x="493" y="738"/>
                    </a:lnTo>
                    <a:lnTo>
                      <a:pt x="485" y="738"/>
                    </a:lnTo>
                    <a:lnTo>
                      <a:pt x="481" y="734"/>
                    </a:lnTo>
                    <a:lnTo>
                      <a:pt x="472" y="708"/>
                    </a:lnTo>
                    <a:lnTo>
                      <a:pt x="472" y="716"/>
                    </a:lnTo>
                    <a:lnTo>
                      <a:pt x="447" y="708"/>
                    </a:lnTo>
                    <a:lnTo>
                      <a:pt x="442" y="712"/>
                    </a:lnTo>
                    <a:lnTo>
                      <a:pt x="472" y="729"/>
                    </a:lnTo>
                    <a:lnTo>
                      <a:pt x="455" y="738"/>
                    </a:lnTo>
                    <a:lnTo>
                      <a:pt x="455" y="746"/>
                    </a:lnTo>
                    <a:lnTo>
                      <a:pt x="438" y="738"/>
                    </a:lnTo>
                    <a:lnTo>
                      <a:pt x="408" y="708"/>
                    </a:lnTo>
                    <a:lnTo>
                      <a:pt x="366" y="691"/>
                    </a:lnTo>
                    <a:lnTo>
                      <a:pt x="340" y="691"/>
                    </a:lnTo>
                    <a:lnTo>
                      <a:pt x="362" y="665"/>
                    </a:lnTo>
                    <a:lnTo>
                      <a:pt x="366" y="678"/>
                    </a:lnTo>
                    <a:lnTo>
                      <a:pt x="366" y="665"/>
                    </a:lnTo>
                    <a:lnTo>
                      <a:pt x="353" y="656"/>
                    </a:lnTo>
                    <a:lnTo>
                      <a:pt x="345" y="674"/>
                    </a:lnTo>
                    <a:lnTo>
                      <a:pt x="319" y="674"/>
                    </a:lnTo>
                    <a:lnTo>
                      <a:pt x="217" y="665"/>
                    </a:lnTo>
                    <a:lnTo>
                      <a:pt x="217" y="648"/>
                    </a:lnTo>
                    <a:lnTo>
                      <a:pt x="209" y="656"/>
                    </a:lnTo>
                    <a:lnTo>
                      <a:pt x="196" y="635"/>
                    </a:lnTo>
                    <a:lnTo>
                      <a:pt x="179" y="644"/>
                    </a:lnTo>
                    <a:lnTo>
                      <a:pt x="174" y="635"/>
                    </a:lnTo>
                    <a:lnTo>
                      <a:pt x="144" y="644"/>
                    </a:lnTo>
                    <a:lnTo>
                      <a:pt x="144" y="635"/>
                    </a:lnTo>
                    <a:lnTo>
                      <a:pt x="157" y="618"/>
                    </a:lnTo>
                    <a:lnTo>
                      <a:pt x="148" y="618"/>
                    </a:lnTo>
                    <a:lnTo>
                      <a:pt x="157" y="614"/>
                    </a:lnTo>
                    <a:lnTo>
                      <a:pt x="131" y="614"/>
                    </a:lnTo>
                    <a:lnTo>
                      <a:pt x="114" y="605"/>
                    </a:lnTo>
                    <a:lnTo>
                      <a:pt x="106" y="614"/>
                    </a:lnTo>
                    <a:lnTo>
                      <a:pt x="101" y="605"/>
                    </a:lnTo>
                    <a:lnTo>
                      <a:pt x="110" y="592"/>
                    </a:lnTo>
                    <a:lnTo>
                      <a:pt x="93" y="601"/>
                    </a:lnTo>
                    <a:lnTo>
                      <a:pt x="97" y="605"/>
                    </a:lnTo>
                    <a:lnTo>
                      <a:pt x="89" y="614"/>
                    </a:lnTo>
                    <a:lnTo>
                      <a:pt x="97" y="614"/>
                    </a:lnTo>
                    <a:lnTo>
                      <a:pt x="93" y="631"/>
                    </a:lnTo>
                    <a:lnTo>
                      <a:pt x="106" y="635"/>
                    </a:lnTo>
                    <a:lnTo>
                      <a:pt x="118" y="644"/>
                    </a:lnTo>
                    <a:lnTo>
                      <a:pt x="135" y="635"/>
                    </a:lnTo>
                    <a:lnTo>
                      <a:pt x="131" y="674"/>
                    </a:lnTo>
                    <a:lnTo>
                      <a:pt x="101" y="674"/>
                    </a:lnTo>
                    <a:lnTo>
                      <a:pt x="101" y="661"/>
                    </a:lnTo>
                    <a:lnTo>
                      <a:pt x="93" y="656"/>
                    </a:lnTo>
                    <a:lnTo>
                      <a:pt x="67" y="669"/>
                    </a:lnTo>
                    <a:lnTo>
                      <a:pt x="67" y="656"/>
                    </a:lnTo>
                    <a:lnTo>
                      <a:pt x="63" y="665"/>
                    </a:lnTo>
                    <a:lnTo>
                      <a:pt x="59" y="656"/>
                    </a:lnTo>
                    <a:lnTo>
                      <a:pt x="38" y="656"/>
                    </a:lnTo>
                    <a:lnTo>
                      <a:pt x="55" y="674"/>
                    </a:lnTo>
                    <a:lnTo>
                      <a:pt x="50" y="678"/>
                    </a:lnTo>
                    <a:lnTo>
                      <a:pt x="46" y="674"/>
                    </a:lnTo>
                    <a:lnTo>
                      <a:pt x="21" y="682"/>
                    </a:lnTo>
                    <a:lnTo>
                      <a:pt x="4" y="708"/>
                    </a:lnTo>
                    <a:lnTo>
                      <a:pt x="4" y="674"/>
                    </a:lnTo>
                    <a:lnTo>
                      <a:pt x="0" y="609"/>
                    </a:lnTo>
                    <a:lnTo>
                      <a:pt x="46" y="601"/>
                    </a:lnTo>
                    <a:lnTo>
                      <a:pt x="38" y="584"/>
                    </a:lnTo>
                    <a:lnTo>
                      <a:pt x="67" y="566"/>
                    </a:lnTo>
                    <a:lnTo>
                      <a:pt x="29" y="579"/>
                    </a:lnTo>
                    <a:lnTo>
                      <a:pt x="33" y="545"/>
                    </a:lnTo>
                    <a:lnTo>
                      <a:pt x="0" y="5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89040" y="1519200"/>
                <a:ext cx="16200" cy="38520"/>
              </a:xfrm>
              <a:custGeom>
                <a:avLst/>
                <a:gdLst/>
                <a:ahLst/>
                <a:rect l="0" t="0" r="r" b="b"/>
                <a:pathLst>
                  <a:path w="45" h="107">
                    <a:moveTo>
                      <a:pt x="0" y="29"/>
                    </a:moveTo>
                    <a:lnTo>
                      <a:pt x="11" y="0"/>
                    </a:lnTo>
                    <a:lnTo>
                      <a:pt x="36" y="29"/>
                    </a:lnTo>
                    <a:lnTo>
                      <a:pt x="45" y="10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28640" y="1566720"/>
                <a:ext cx="12960" cy="18000"/>
              </a:xfrm>
              <a:custGeom>
                <a:avLst/>
                <a:gdLst/>
                <a:ahLst/>
                <a:rect l="0" t="0" r="r" b="b"/>
                <a:pathLst>
                  <a:path w="36" h="50">
                    <a:moveTo>
                      <a:pt x="0" y="0"/>
                    </a:moveTo>
                    <a:lnTo>
                      <a:pt x="2" y="32"/>
                    </a:lnTo>
                    <a:lnTo>
                      <a:pt x="36" y="5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54200" y="156672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w="5" h="19">
                    <a:moveTo>
                      <a:pt x="5" y="19"/>
                    </a:moveTo>
                    <a:lnTo>
                      <a:pt x="5" y="0"/>
                    </a:lnTo>
                    <a:lnTo>
                      <a:pt x="0" y="1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57080" y="1395360"/>
                <a:ext cx="18000" cy="11520"/>
              </a:xfrm>
              <a:custGeom>
                <a:avLst/>
                <a:gdLst/>
                <a:ahLst/>
                <a:rect l="0" t="0" r="r" b="b"/>
                <a:pathLst>
                  <a:path w="50" h="32">
                    <a:moveTo>
                      <a:pt x="0" y="19"/>
                    </a:moveTo>
                    <a:lnTo>
                      <a:pt x="18" y="32"/>
                    </a:lnTo>
                    <a:lnTo>
                      <a:pt x="29" y="32"/>
                    </a:lnTo>
                    <a:lnTo>
                      <a:pt x="44" y="25"/>
                    </a:lnTo>
                    <a:lnTo>
                      <a:pt x="50" y="10"/>
                    </a:lnTo>
                    <a:lnTo>
                      <a:pt x="39" y="0"/>
                    </a:lnTo>
                    <a:lnTo>
                      <a:pt x="23" y="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38080" y="1425600"/>
                <a:ext cx="19440" cy="16200"/>
              </a:xfrm>
              <a:custGeom>
                <a:avLst/>
                <a:gdLst/>
                <a:ahLst/>
                <a:rect l="0" t="0" r="r" b="b"/>
                <a:pathLst>
                  <a:path w="54" h="45">
                    <a:moveTo>
                      <a:pt x="0" y="11"/>
                    </a:moveTo>
                    <a:lnTo>
                      <a:pt x="11" y="39"/>
                    </a:lnTo>
                    <a:lnTo>
                      <a:pt x="24" y="39"/>
                    </a:lnTo>
                    <a:lnTo>
                      <a:pt x="24" y="31"/>
                    </a:lnTo>
                    <a:lnTo>
                      <a:pt x="43" y="45"/>
                    </a:lnTo>
                    <a:lnTo>
                      <a:pt x="54" y="42"/>
                    </a:lnTo>
                    <a:lnTo>
                      <a:pt x="51" y="28"/>
                    </a:lnTo>
                    <a:lnTo>
                      <a:pt x="39" y="25"/>
                    </a:lnTo>
                    <a:lnTo>
                      <a:pt x="2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85600" y="1450800"/>
                <a:ext cx="22680" cy="3600"/>
              </a:xfrm>
              <a:custGeom>
                <a:avLst/>
                <a:gdLst/>
                <a:ahLst/>
                <a:rect l="0" t="0" r="r" b="b"/>
                <a:pathLst>
                  <a:path w="63" h="10">
                    <a:moveTo>
                      <a:pt x="0" y="3"/>
                    </a:moveTo>
                    <a:lnTo>
                      <a:pt x="6" y="10"/>
                    </a:lnTo>
                    <a:lnTo>
                      <a:pt x="63" y="8"/>
                    </a:lnTo>
                    <a:lnTo>
                      <a:pt x="5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00000" y="146988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17640" y="1461960"/>
                <a:ext cx="28800" cy="12960"/>
              </a:xfrm>
              <a:custGeom>
                <a:avLst/>
                <a:gdLst/>
                <a:ahLst/>
                <a:rect l="0" t="0" r="r" b="b"/>
                <a:pathLst>
                  <a:path w="80" h="36">
                    <a:moveTo>
                      <a:pt x="0" y="10"/>
                    </a:moveTo>
                    <a:lnTo>
                      <a:pt x="9" y="0"/>
                    </a:lnTo>
                    <a:lnTo>
                      <a:pt x="19" y="10"/>
                    </a:lnTo>
                    <a:lnTo>
                      <a:pt x="50" y="7"/>
                    </a:lnTo>
                    <a:lnTo>
                      <a:pt x="80" y="26"/>
                    </a:lnTo>
                    <a:lnTo>
                      <a:pt x="70" y="31"/>
                    </a:lnTo>
                    <a:lnTo>
                      <a:pt x="29" y="3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952560" y="1503360"/>
                <a:ext cx="54360" cy="63720"/>
              </a:xfrm>
              <a:custGeom>
                <a:avLst/>
                <a:gdLst/>
                <a:ahLst/>
                <a:rect l="0" t="0" r="r" b="b"/>
                <a:pathLst>
                  <a:path w="151" h="177">
                    <a:moveTo>
                      <a:pt x="0" y="69"/>
                    </a:moveTo>
                    <a:lnTo>
                      <a:pt x="18" y="119"/>
                    </a:lnTo>
                    <a:lnTo>
                      <a:pt x="14" y="162"/>
                    </a:lnTo>
                    <a:lnTo>
                      <a:pt x="49" y="177"/>
                    </a:lnTo>
                    <a:lnTo>
                      <a:pt x="68" y="150"/>
                    </a:lnTo>
                    <a:lnTo>
                      <a:pt x="129" y="123"/>
                    </a:lnTo>
                    <a:lnTo>
                      <a:pt x="151" y="100"/>
                    </a:lnTo>
                    <a:lnTo>
                      <a:pt x="98" y="38"/>
                    </a:lnTo>
                    <a:lnTo>
                      <a:pt x="26" y="0"/>
                    </a:lnTo>
                    <a:lnTo>
                      <a:pt x="14" y="11"/>
                    </a:lnTo>
                    <a:lnTo>
                      <a:pt x="26" y="3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9400" y="114480"/>
                <a:ext cx="2305440" cy="1419480"/>
              </a:xfrm>
              <a:custGeom>
                <a:avLst/>
                <a:gdLst/>
                <a:ahLst/>
                <a:rect l="0" t="0" r="r" b="b"/>
                <a:pathLst>
                  <a:path w="6404" h="3943">
                    <a:moveTo>
                      <a:pt x="0" y="1204"/>
                    </a:moveTo>
                    <a:lnTo>
                      <a:pt x="26" y="1283"/>
                    </a:lnTo>
                    <a:lnTo>
                      <a:pt x="35" y="1318"/>
                    </a:lnTo>
                    <a:lnTo>
                      <a:pt x="8" y="1445"/>
                    </a:lnTo>
                    <a:lnTo>
                      <a:pt x="26" y="1484"/>
                    </a:lnTo>
                    <a:lnTo>
                      <a:pt x="105" y="1660"/>
                    </a:lnTo>
                    <a:lnTo>
                      <a:pt x="109" y="1655"/>
                    </a:lnTo>
                    <a:lnTo>
                      <a:pt x="114" y="1616"/>
                    </a:lnTo>
                    <a:lnTo>
                      <a:pt x="127" y="1611"/>
                    </a:lnTo>
                    <a:lnTo>
                      <a:pt x="140" y="1620"/>
                    </a:lnTo>
                    <a:lnTo>
                      <a:pt x="118" y="1642"/>
                    </a:lnTo>
                    <a:lnTo>
                      <a:pt x="127" y="1655"/>
                    </a:lnTo>
                    <a:lnTo>
                      <a:pt x="144" y="1730"/>
                    </a:lnTo>
                    <a:lnTo>
                      <a:pt x="131" y="1725"/>
                    </a:lnTo>
                    <a:lnTo>
                      <a:pt x="105" y="1695"/>
                    </a:lnTo>
                    <a:lnTo>
                      <a:pt x="114" y="1664"/>
                    </a:lnTo>
                    <a:lnTo>
                      <a:pt x="101" y="1668"/>
                    </a:lnTo>
                    <a:lnTo>
                      <a:pt x="83" y="1699"/>
                    </a:lnTo>
                    <a:lnTo>
                      <a:pt x="92" y="1769"/>
                    </a:lnTo>
                    <a:lnTo>
                      <a:pt x="109" y="1795"/>
                    </a:lnTo>
                    <a:lnTo>
                      <a:pt x="140" y="1822"/>
                    </a:lnTo>
                    <a:lnTo>
                      <a:pt x="127" y="1857"/>
                    </a:lnTo>
                    <a:lnTo>
                      <a:pt x="109" y="1861"/>
                    </a:lnTo>
                    <a:lnTo>
                      <a:pt x="109" y="1905"/>
                    </a:lnTo>
                    <a:lnTo>
                      <a:pt x="153" y="2002"/>
                    </a:lnTo>
                    <a:lnTo>
                      <a:pt x="193" y="2064"/>
                    </a:lnTo>
                    <a:lnTo>
                      <a:pt x="184" y="2103"/>
                    </a:lnTo>
                    <a:lnTo>
                      <a:pt x="210" y="2125"/>
                    </a:lnTo>
                    <a:lnTo>
                      <a:pt x="202" y="2151"/>
                    </a:lnTo>
                    <a:lnTo>
                      <a:pt x="184" y="2208"/>
                    </a:lnTo>
                    <a:lnTo>
                      <a:pt x="206" y="2226"/>
                    </a:lnTo>
                    <a:lnTo>
                      <a:pt x="320" y="2270"/>
                    </a:lnTo>
                    <a:lnTo>
                      <a:pt x="368" y="2335"/>
                    </a:lnTo>
                    <a:lnTo>
                      <a:pt x="425" y="2353"/>
                    </a:lnTo>
                    <a:lnTo>
                      <a:pt x="430" y="2397"/>
                    </a:lnTo>
                    <a:lnTo>
                      <a:pt x="461" y="2410"/>
                    </a:lnTo>
                    <a:lnTo>
                      <a:pt x="518" y="2475"/>
                    </a:lnTo>
                    <a:lnTo>
                      <a:pt x="540" y="2528"/>
                    </a:lnTo>
                    <a:lnTo>
                      <a:pt x="540" y="2620"/>
                    </a:lnTo>
                    <a:lnTo>
                      <a:pt x="887" y="2642"/>
                    </a:lnTo>
                    <a:lnTo>
                      <a:pt x="830" y="2690"/>
                    </a:lnTo>
                    <a:lnTo>
                      <a:pt x="1005" y="2795"/>
                    </a:lnTo>
                    <a:lnTo>
                      <a:pt x="1247" y="2931"/>
                    </a:lnTo>
                    <a:lnTo>
                      <a:pt x="1361" y="2962"/>
                    </a:lnTo>
                    <a:lnTo>
                      <a:pt x="1545" y="2997"/>
                    </a:lnTo>
                    <a:lnTo>
                      <a:pt x="1652" y="3010"/>
                    </a:lnTo>
                    <a:lnTo>
                      <a:pt x="1665" y="2944"/>
                    </a:lnTo>
                    <a:lnTo>
                      <a:pt x="1880" y="2966"/>
                    </a:lnTo>
                    <a:lnTo>
                      <a:pt x="1902" y="2979"/>
                    </a:lnTo>
                    <a:lnTo>
                      <a:pt x="1920" y="3027"/>
                    </a:lnTo>
                    <a:lnTo>
                      <a:pt x="1942" y="3040"/>
                    </a:lnTo>
                    <a:lnTo>
                      <a:pt x="2016" y="3128"/>
                    </a:lnTo>
                    <a:lnTo>
                      <a:pt x="2069" y="3167"/>
                    </a:lnTo>
                    <a:lnTo>
                      <a:pt x="2095" y="3233"/>
                    </a:lnTo>
                    <a:lnTo>
                      <a:pt x="2095" y="3281"/>
                    </a:lnTo>
                    <a:lnTo>
                      <a:pt x="2117" y="3330"/>
                    </a:lnTo>
                    <a:lnTo>
                      <a:pt x="2179" y="3382"/>
                    </a:lnTo>
                    <a:lnTo>
                      <a:pt x="2205" y="3391"/>
                    </a:lnTo>
                    <a:lnTo>
                      <a:pt x="2271" y="3443"/>
                    </a:lnTo>
                    <a:lnTo>
                      <a:pt x="2293" y="3443"/>
                    </a:lnTo>
                    <a:lnTo>
                      <a:pt x="2332" y="3413"/>
                    </a:lnTo>
                    <a:lnTo>
                      <a:pt x="2363" y="3334"/>
                    </a:lnTo>
                    <a:lnTo>
                      <a:pt x="2398" y="3334"/>
                    </a:lnTo>
                    <a:lnTo>
                      <a:pt x="2411" y="3316"/>
                    </a:lnTo>
                    <a:lnTo>
                      <a:pt x="2447" y="3334"/>
                    </a:lnTo>
                    <a:lnTo>
                      <a:pt x="2486" y="3338"/>
                    </a:lnTo>
                    <a:lnTo>
                      <a:pt x="2539" y="3343"/>
                    </a:lnTo>
                    <a:lnTo>
                      <a:pt x="2556" y="3378"/>
                    </a:lnTo>
                    <a:lnTo>
                      <a:pt x="2609" y="3422"/>
                    </a:lnTo>
                    <a:lnTo>
                      <a:pt x="2684" y="3588"/>
                    </a:lnTo>
                    <a:lnTo>
                      <a:pt x="2728" y="3654"/>
                    </a:lnTo>
                    <a:lnTo>
                      <a:pt x="2767" y="3689"/>
                    </a:lnTo>
                    <a:lnTo>
                      <a:pt x="2767" y="3728"/>
                    </a:lnTo>
                    <a:lnTo>
                      <a:pt x="2780" y="3737"/>
                    </a:lnTo>
                    <a:lnTo>
                      <a:pt x="2780" y="3772"/>
                    </a:lnTo>
                    <a:lnTo>
                      <a:pt x="2798" y="3798"/>
                    </a:lnTo>
                    <a:lnTo>
                      <a:pt x="2815" y="3842"/>
                    </a:lnTo>
                    <a:lnTo>
                      <a:pt x="2824" y="3864"/>
                    </a:lnTo>
                    <a:lnTo>
                      <a:pt x="2895" y="3895"/>
                    </a:lnTo>
                    <a:lnTo>
                      <a:pt x="2952" y="3925"/>
                    </a:lnTo>
                    <a:lnTo>
                      <a:pt x="2996" y="3925"/>
                    </a:lnTo>
                    <a:lnTo>
                      <a:pt x="3039" y="3943"/>
                    </a:lnTo>
                    <a:lnTo>
                      <a:pt x="3092" y="3943"/>
                    </a:lnTo>
                    <a:lnTo>
                      <a:pt x="3053" y="3873"/>
                    </a:lnTo>
                    <a:lnTo>
                      <a:pt x="3039" y="3785"/>
                    </a:lnTo>
                    <a:lnTo>
                      <a:pt x="3053" y="3746"/>
                    </a:lnTo>
                    <a:lnTo>
                      <a:pt x="3013" y="3741"/>
                    </a:lnTo>
                    <a:lnTo>
                      <a:pt x="3009" y="3711"/>
                    </a:lnTo>
                    <a:lnTo>
                      <a:pt x="3031" y="3737"/>
                    </a:lnTo>
                    <a:lnTo>
                      <a:pt x="3048" y="3719"/>
                    </a:lnTo>
                    <a:lnTo>
                      <a:pt x="3048" y="3737"/>
                    </a:lnTo>
                    <a:lnTo>
                      <a:pt x="3070" y="3697"/>
                    </a:lnTo>
                    <a:lnTo>
                      <a:pt x="3079" y="3680"/>
                    </a:lnTo>
                    <a:lnTo>
                      <a:pt x="3066" y="3689"/>
                    </a:lnTo>
                    <a:lnTo>
                      <a:pt x="3061" y="3658"/>
                    </a:lnTo>
                    <a:lnTo>
                      <a:pt x="3044" y="3654"/>
                    </a:lnTo>
                    <a:lnTo>
                      <a:pt x="3101" y="3649"/>
                    </a:lnTo>
                    <a:lnTo>
                      <a:pt x="3088" y="3619"/>
                    </a:lnTo>
                    <a:lnTo>
                      <a:pt x="3092" y="3601"/>
                    </a:lnTo>
                    <a:lnTo>
                      <a:pt x="3123" y="3592"/>
                    </a:lnTo>
                    <a:lnTo>
                      <a:pt x="3136" y="3619"/>
                    </a:lnTo>
                    <a:lnTo>
                      <a:pt x="3149" y="3557"/>
                    </a:lnTo>
                    <a:lnTo>
                      <a:pt x="3162" y="3584"/>
                    </a:lnTo>
                    <a:lnTo>
                      <a:pt x="3198" y="3562"/>
                    </a:lnTo>
                    <a:lnTo>
                      <a:pt x="3167" y="3544"/>
                    </a:lnTo>
                    <a:lnTo>
                      <a:pt x="3167" y="3522"/>
                    </a:lnTo>
                    <a:lnTo>
                      <a:pt x="3189" y="3544"/>
                    </a:lnTo>
                    <a:lnTo>
                      <a:pt x="3198" y="3522"/>
                    </a:lnTo>
                    <a:lnTo>
                      <a:pt x="3215" y="3535"/>
                    </a:lnTo>
                    <a:lnTo>
                      <a:pt x="3228" y="3518"/>
                    </a:lnTo>
                    <a:lnTo>
                      <a:pt x="3228" y="3544"/>
                    </a:lnTo>
                    <a:lnTo>
                      <a:pt x="3281" y="3518"/>
                    </a:lnTo>
                    <a:lnTo>
                      <a:pt x="3206" y="3557"/>
                    </a:lnTo>
                    <a:lnTo>
                      <a:pt x="3206" y="3570"/>
                    </a:lnTo>
                    <a:lnTo>
                      <a:pt x="3364" y="3474"/>
                    </a:lnTo>
                    <a:lnTo>
                      <a:pt x="3369" y="3448"/>
                    </a:lnTo>
                    <a:lnTo>
                      <a:pt x="3382" y="3448"/>
                    </a:lnTo>
                    <a:lnTo>
                      <a:pt x="3404" y="3426"/>
                    </a:lnTo>
                    <a:lnTo>
                      <a:pt x="3404" y="3400"/>
                    </a:lnTo>
                    <a:lnTo>
                      <a:pt x="3391" y="3395"/>
                    </a:lnTo>
                    <a:lnTo>
                      <a:pt x="3391" y="3365"/>
                    </a:lnTo>
                    <a:lnTo>
                      <a:pt x="3404" y="3378"/>
                    </a:lnTo>
                    <a:lnTo>
                      <a:pt x="3430" y="3351"/>
                    </a:lnTo>
                    <a:lnTo>
                      <a:pt x="3422" y="3391"/>
                    </a:lnTo>
                    <a:lnTo>
                      <a:pt x="3457" y="3391"/>
                    </a:lnTo>
                    <a:lnTo>
                      <a:pt x="3422" y="3422"/>
                    </a:lnTo>
                    <a:lnTo>
                      <a:pt x="3479" y="3391"/>
                    </a:lnTo>
                    <a:lnTo>
                      <a:pt x="3545" y="3365"/>
                    </a:lnTo>
                    <a:lnTo>
                      <a:pt x="3641" y="3351"/>
                    </a:lnTo>
                    <a:lnTo>
                      <a:pt x="3716" y="3382"/>
                    </a:lnTo>
                    <a:lnTo>
                      <a:pt x="3782" y="3378"/>
                    </a:lnTo>
                    <a:lnTo>
                      <a:pt x="3777" y="3360"/>
                    </a:lnTo>
                    <a:lnTo>
                      <a:pt x="3799" y="3338"/>
                    </a:lnTo>
                    <a:lnTo>
                      <a:pt x="3852" y="3351"/>
                    </a:lnTo>
                    <a:lnTo>
                      <a:pt x="3856" y="3391"/>
                    </a:lnTo>
                    <a:lnTo>
                      <a:pt x="3869" y="3382"/>
                    </a:lnTo>
                    <a:lnTo>
                      <a:pt x="3891" y="3391"/>
                    </a:lnTo>
                    <a:lnTo>
                      <a:pt x="3913" y="3413"/>
                    </a:lnTo>
                    <a:lnTo>
                      <a:pt x="3918" y="3430"/>
                    </a:lnTo>
                    <a:lnTo>
                      <a:pt x="3940" y="3435"/>
                    </a:lnTo>
                    <a:lnTo>
                      <a:pt x="3957" y="3448"/>
                    </a:lnTo>
                    <a:lnTo>
                      <a:pt x="3975" y="3443"/>
                    </a:lnTo>
                    <a:lnTo>
                      <a:pt x="3992" y="3426"/>
                    </a:lnTo>
                    <a:lnTo>
                      <a:pt x="3988" y="3413"/>
                    </a:lnTo>
                    <a:lnTo>
                      <a:pt x="4010" y="3430"/>
                    </a:lnTo>
                    <a:lnTo>
                      <a:pt x="4023" y="3417"/>
                    </a:lnTo>
                    <a:lnTo>
                      <a:pt x="4036" y="3448"/>
                    </a:lnTo>
                    <a:lnTo>
                      <a:pt x="4054" y="3430"/>
                    </a:lnTo>
                    <a:lnTo>
                      <a:pt x="4067" y="3422"/>
                    </a:lnTo>
                    <a:lnTo>
                      <a:pt x="4054" y="3413"/>
                    </a:lnTo>
                    <a:lnTo>
                      <a:pt x="4058" y="3386"/>
                    </a:lnTo>
                    <a:lnTo>
                      <a:pt x="4067" y="3386"/>
                    </a:lnTo>
                    <a:lnTo>
                      <a:pt x="4089" y="3391"/>
                    </a:lnTo>
                    <a:lnTo>
                      <a:pt x="4093" y="3404"/>
                    </a:lnTo>
                    <a:lnTo>
                      <a:pt x="4111" y="3404"/>
                    </a:lnTo>
                    <a:lnTo>
                      <a:pt x="4133" y="3422"/>
                    </a:lnTo>
                    <a:lnTo>
                      <a:pt x="4133" y="3413"/>
                    </a:lnTo>
                    <a:lnTo>
                      <a:pt x="4146" y="3430"/>
                    </a:lnTo>
                    <a:lnTo>
                      <a:pt x="4159" y="3439"/>
                    </a:lnTo>
                    <a:lnTo>
                      <a:pt x="4151" y="3457"/>
                    </a:lnTo>
                    <a:lnTo>
                      <a:pt x="4172" y="3439"/>
                    </a:lnTo>
                    <a:lnTo>
                      <a:pt x="4181" y="3448"/>
                    </a:lnTo>
                    <a:lnTo>
                      <a:pt x="4181" y="3435"/>
                    </a:lnTo>
                    <a:lnTo>
                      <a:pt x="4199" y="3430"/>
                    </a:lnTo>
                    <a:lnTo>
                      <a:pt x="4199" y="3422"/>
                    </a:lnTo>
                    <a:lnTo>
                      <a:pt x="4181" y="3422"/>
                    </a:lnTo>
                    <a:lnTo>
                      <a:pt x="4172" y="3404"/>
                    </a:lnTo>
                    <a:lnTo>
                      <a:pt x="4159" y="3408"/>
                    </a:lnTo>
                    <a:lnTo>
                      <a:pt x="4151" y="3391"/>
                    </a:lnTo>
                    <a:lnTo>
                      <a:pt x="4133" y="3391"/>
                    </a:lnTo>
                    <a:lnTo>
                      <a:pt x="4115" y="3365"/>
                    </a:lnTo>
                    <a:lnTo>
                      <a:pt x="4129" y="3351"/>
                    </a:lnTo>
                    <a:lnTo>
                      <a:pt x="4142" y="3347"/>
                    </a:lnTo>
                    <a:lnTo>
                      <a:pt x="4142" y="3334"/>
                    </a:lnTo>
                    <a:lnTo>
                      <a:pt x="4159" y="3330"/>
                    </a:lnTo>
                    <a:lnTo>
                      <a:pt x="4172" y="3312"/>
                    </a:lnTo>
                    <a:lnTo>
                      <a:pt x="4164" y="3308"/>
                    </a:lnTo>
                    <a:lnTo>
                      <a:pt x="4168" y="3277"/>
                    </a:lnTo>
                    <a:lnTo>
                      <a:pt x="4146" y="3295"/>
                    </a:lnTo>
                    <a:lnTo>
                      <a:pt x="4129" y="3295"/>
                    </a:lnTo>
                    <a:lnTo>
                      <a:pt x="4111" y="3321"/>
                    </a:lnTo>
                    <a:lnTo>
                      <a:pt x="4080" y="3308"/>
                    </a:lnTo>
                    <a:lnTo>
                      <a:pt x="4089" y="3295"/>
                    </a:lnTo>
                    <a:lnTo>
                      <a:pt x="4098" y="3295"/>
                    </a:lnTo>
                    <a:lnTo>
                      <a:pt x="4111" y="3281"/>
                    </a:lnTo>
                    <a:lnTo>
                      <a:pt x="4093" y="3286"/>
                    </a:lnTo>
                    <a:lnTo>
                      <a:pt x="4093" y="3277"/>
                    </a:lnTo>
                    <a:lnTo>
                      <a:pt x="4093" y="3286"/>
                    </a:lnTo>
                    <a:lnTo>
                      <a:pt x="4076" y="3281"/>
                    </a:lnTo>
                    <a:lnTo>
                      <a:pt x="4063" y="3295"/>
                    </a:lnTo>
                    <a:lnTo>
                      <a:pt x="4045" y="3299"/>
                    </a:lnTo>
                    <a:lnTo>
                      <a:pt x="4006" y="3295"/>
                    </a:lnTo>
                    <a:lnTo>
                      <a:pt x="4001" y="3281"/>
                    </a:lnTo>
                    <a:lnTo>
                      <a:pt x="4028" y="3251"/>
                    </a:lnTo>
                    <a:lnTo>
                      <a:pt x="4050" y="3251"/>
                    </a:lnTo>
                    <a:lnTo>
                      <a:pt x="4063" y="3264"/>
                    </a:lnTo>
                    <a:lnTo>
                      <a:pt x="4124" y="3273"/>
                    </a:lnTo>
                    <a:lnTo>
                      <a:pt x="4133" y="3268"/>
                    </a:lnTo>
                    <a:lnTo>
                      <a:pt x="4146" y="3246"/>
                    </a:lnTo>
                    <a:lnTo>
                      <a:pt x="4159" y="3251"/>
                    </a:lnTo>
                    <a:lnTo>
                      <a:pt x="4181" y="3238"/>
                    </a:lnTo>
                    <a:lnTo>
                      <a:pt x="4208" y="3233"/>
                    </a:lnTo>
                    <a:lnTo>
                      <a:pt x="4208" y="3229"/>
                    </a:lnTo>
                    <a:lnTo>
                      <a:pt x="4225" y="3238"/>
                    </a:lnTo>
                    <a:lnTo>
                      <a:pt x="4247" y="3229"/>
                    </a:lnTo>
                    <a:lnTo>
                      <a:pt x="4260" y="3238"/>
                    </a:lnTo>
                    <a:lnTo>
                      <a:pt x="4274" y="3229"/>
                    </a:lnTo>
                    <a:lnTo>
                      <a:pt x="4304" y="3238"/>
                    </a:lnTo>
                    <a:lnTo>
                      <a:pt x="4317" y="3167"/>
                    </a:lnTo>
                    <a:lnTo>
                      <a:pt x="4335" y="3185"/>
                    </a:lnTo>
                    <a:lnTo>
                      <a:pt x="4335" y="3220"/>
                    </a:lnTo>
                    <a:lnTo>
                      <a:pt x="4353" y="3233"/>
                    </a:lnTo>
                    <a:lnTo>
                      <a:pt x="4326" y="3251"/>
                    </a:lnTo>
                    <a:lnTo>
                      <a:pt x="4388" y="3233"/>
                    </a:lnTo>
                    <a:lnTo>
                      <a:pt x="4414" y="3224"/>
                    </a:lnTo>
                    <a:lnTo>
                      <a:pt x="4432" y="3207"/>
                    </a:lnTo>
                    <a:lnTo>
                      <a:pt x="4427" y="3194"/>
                    </a:lnTo>
                    <a:lnTo>
                      <a:pt x="4440" y="3203"/>
                    </a:lnTo>
                    <a:lnTo>
                      <a:pt x="4449" y="3189"/>
                    </a:lnTo>
                    <a:lnTo>
                      <a:pt x="4462" y="3198"/>
                    </a:lnTo>
                    <a:lnTo>
                      <a:pt x="4432" y="3220"/>
                    </a:lnTo>
                    <a:lnTo>
                      <a:pt x="4506" y="3207"/>
                    </a:lnTo>
                    <a:lnTo>
                      <a:pt x="4519" y="3189"/>
                    </a:lnTo>
                    <a:lnTo>
                      <a:pt x="4533" y="3198"/>
                    </a:lnTo>
                    <a:lnTo>
                      <a:pt x="4559" y="3189"/>
                    </a:lnTo>
                    <a:lnTo>
                      <a:pt x="4572" y="3198"/>
                    </a:lnTo>
                    <a:lnTo>
                      <a:pt x="4524" y="3203"/>
                    </a:lnTo>
                    <a:lnTo>
                      <a:pt x="4533" y="3207"/>
                    </a:lnTo>
                    <a:lnTo>
                      <a:pt x="4590" y="3220"/>
                    </a:lnTo>
                    <a:lnTo>
                      <a:pt x="4625" y="3238"/>
                    </a:lnTo>
                    <a:lnTo>
                      <a:pt x="4616" y="3207"/>
                    </a:lnTo>
                    <a:lnTo>
                      <a:pt x="4629" y="3233"/>
                    </a:lnTo>
                    <a:lnTo>
                      <a:pt x="4656" y="3233"/>
                    </a:lnTo>
                    <a:lnTo>
                      <a:pt x="4638" y="3242"/>
                    </a:lnTo>
                    <a:lnTo>
                      <a:pt x="4673" y="3264"/>
                    </a:lnTo>
                    <a:lnTo>
                      <a:pt x="4686" y="3277"/>
                    </a:lnTo>
                    <a:lnTo>
                      <a:pt x="4686" y="3299"/>
                    </a:lnTo>
                    <a:lnTo>
                      <a:pt x="4673" y="3273"/>
                    </a:lnTo>
                    <a:lnTo>
                      <a:pt x="4686" y="3303"/>
                    </a:lnTo>
                    <a:lnTo>
                      <a:pt x="4713" y="3295"/>
                    </a:lnTo>
                    <a:lnTo>
                      <a:pt x="4730" y="3295"/>
                    </a:lnTo>
                    <a:lnTo>
                      <a:pt x="4739" y="3277"/>
                    </a:lnTo>
                    <a:lnTo>
                      <a:pt x="4748" y="3286"/>
                    </a:lnTo>
                    <a:lnTo>
                      <a:pt x="4787" y="3255"/>
                    </a:lnTo>
                    <a:lnTo>
                      <a:pt x="4815" y="3251"/>
                    </a:lnTo>
                    <a:lnTo>
                      <a:pt x="4806" y="3246"/>
                    </a:lnTo>
                    <a:lnTo>
                      <a:pt x="4823" y="3220"/>
                    </a:lnTo>
                    <a:lnTo>
                      <a:pt x="4863" y="3220"/>
                    </a:lnTo>
                    <a:lnTo>
                      <a:pt x="4902" y="3238"/>
                    </a:lnTo>
                    <a:lnTo>
                      <a:pt x="4929" y="3268"/>
                    </a:lnTo>
                    <a:lnTo>
                      <a:pt x="4951" y="3277"/>
                    </a:lnTo>
                    <a:lnTo>
                      <a:pt x="4955" y="3299"/>
                    </a:lnTo>
                    <a:lnTo>
                      <a:pt x="4977" y="3312"/>
                    </a:lnTo>
                    <a:lnTo>
                      <a:pt x="4990" y="3325"/>
                    </a:lnTo>
                    <a:lnTo>
                      <a:pt x="5004" y="3338"/>
                    </a:lnTo>
                    <a:lnTo>
                      <a:pt x="5039" y="3338"/>
                    </a:lnTo>
                    <a:lnTo>
                      <a:pt x="5052" y="3365"/>
                    </a:lnTo>
                    <a:lnTo>
                      <a:pt x="5069" y="3408"/>
                    </a:lnTo>
                    <a:lnTo>
                      <a:pt x="5061" y="3492"/>
                    </a:lnTo>
                    <a:lnTo>
                      <a:pt x="5065" y="3544"/>
                    </a:lnTo>
                    <a:lnTo>
                      <a:pt x="5087" y="3557"/>
                    </a:lnTo>
                    <a:lnTo>
                      <a:pt x="5091" y="3535"/>
                    </a:lnTo>
                    <a:lnTo>
                      <a:pt x="5074" y="3527"/>
                    </a:lnTo>
                    <a:lnTo>
                      <a:pt x="5078" y="3509"/>
                    </a:lnTo>
                    <a:lnTo>
                      <a:pt x="5087" y="3518"/>
                    </a:lnTo>
                    <a:lnTo>
                      <a:pt x="5096" y="3518"/>
                    </a:lnTo>
                    <a:lnTo>
                      <a:pt x="5105" y="3535"/>
                    </a:lnTo>
                    <a:lnTo>
                      <a:pt x="5113" y="3518"/>
                    </a:lnTo>
                    <a:lnTo>
                      <a:pt x="5122" y="3535"/>
                    </a:lnTo>
                    <a:lnTo>
                      <a:pt x="5091" y="3588"/>
                    </a:lnTo>
                    <a:lnTo>
                      <a:pt x="5091" y="3597"/>
                    </a:lnTo>
                    <a:lnTo>
                      <a:pt x="5109" y="3606"/>
                    </a:lnTo>
                    <a:lnTo>
                      <a:pt x="5126" y="3649"/>
                    </a:lnTo>
                    <a:lnTo>
                      <a:pt x="5148" y="3671"/>
                    </a:lnTo>
                    <a:lnTo>
                      <a:pt x="5157" y="3684"/>
                    </a:lnTo>
                    <a:lnTo>
                      <a:pt x="5175" y="3684"/>
                    </a:lnTo>
                    <a:lnTo>
                      <a:pt x="5157" y="3662"/>
                    </a:lnTo>
                    <a:lnTo>
                      <a:pt x="5170" y="3667"/>
                    </a:lnTo>
                    <a:lnTo>
                      <a:pt x="5188" y="3662"/>
                    </a:lnTo>
                    <a:lnTo>
                      <a:pt x="5179" y="3671"/>
                    </a:lnTo>
                    <a:lnTo>
                      <a:pt x="5188" y="3689"/>
                    </a:lnTo>
                    <a:lnTo>
                      <a:pt x="5197" y="3719"/>
                    </a:lnTo>
                    <a:lnTo>
                      <a:pt x="5223" y="3737"/>
                    </a:lnTo>
                    <a:lnTo>
                      <a:pt x="5232" y="3750"/>
                    </a:lnTo>
                    <a:lnTo>
                      <a:pt x="5249" y="3811"/>
                    </a:lnTo>
                    <a:lnTo>
                      <a:pt x="5280" y="3811"/>
                    </a:lnTo>
                    <a:lnTo>
                      <a:pt x="5307" y="3825"/>
                    </a:lnTo>
                    <a:lnTo>
                      <a:pt x="5346" y="3877"/>
                    </a:lnTo>
                    <a:lnTo>
                      <a:pt x="5381" y="3881"/>
                    </a:lnTo>
                    <a:lnTo>
                      <a:pt x="5381" y="3895"/>
                    </a:lnTo>
                    <a:lnTo>
                      <a:pt x="5377" y="3903"/>
                    </a:lnTo>
                    <a:lnTo>
                      <a:pt x="5346" y="3890"/>
                    </a:lnTo>
                    <a:lnTo>
                      <a:pt x="5355" y="3912"/>
                    </a:lnTo>
                    <a:lnTo>
                      <a:pt x="5390" y="3908"/>
                    </a:lnTo>
                    <a:lnTo>
                      <a:pt x="5416" y="3903"/>
                    </a:lnTo>
                    <a:lnTo>
                      <a:pt x="5429" y="3890"/>
                    </a:lnTo>
                    <a:lnTo>
                      <a:pt x="5447" y="3890"/>
                    </a:lnTo>
                    <a:lnTo>
                      <a:pt x="5460" y="3864"/>
                    </a:lnTo>
                    <a:lnTo>
                      <a:pt x="5456" y="3829"/>
                    </a:lnTo>
                    <a:lnTo>
                      <a:pt x="5469" y="3794"/>
                    </a:lnTo>
                    <a:lnTo>
                      <a:pt x="5482" y="3798"/>
                    </a:lnTo>
                    <a:lnTo>
                      <a:pt x="5469" y="3662"/>
                    </a:lnTo>
                    <a:lnTo>
                      <a:pt x="5456" y="3619"/>
                    </a:lnTo>
                    <a:lnTo>
                      <a:pt x="5337" y="3426"/>
                    </a:lnTo>
                    <a:lnTo>
                      <a:pt x="5311" y="3365"/>
                    </a:lnTo>
                    <a:lnTo>
                      <a:pt x="5320" y="3365"/>
                    </a:lnTo>
                    <a:lnTo>
                      <a:pt x="5241" y="3238"/>
                    </a:lnTo>
                    <a:lnTo>
                      <a:pt x="5188" y="3106"/>
                    </a:lnTo>
                    <a:lnTo>
                      <a:pt x="5184" y="3089"/>
                    </a:lnTo>
                    <a:lnTo>
                      <a:pt x="5170" y="3084"/>
                    </a:lnTo>
                    <a:lnTo>
                      <a:pt x="5179" y="3045"/>
                    </a:lnTo>
                    <a:lnTo>
                      <a:pt x="5170" y="3040"/>
                    </a:lnTo>
                    <a:lnTo>
                      <a:pt x="5184" y="3032"/>
                    </a:lnTo>
                    <a:lnTo>
                      <a:pt x="5166" y="3019"/>
                    </a:lnTo>
                    <a:lnTo>
                      <a:pt x="5175" y="3005"/>
                    </a:lnTo>
                    <a:lnTo>
                      <a:pt x="5175" y="2988"/>
                    </a:lnTo>
                    <a:lnTo>
                      <a:pt x="5197" y="2970"/>
                    </a:lnTo>
                    <a:lnTo>
                      <a:pt x="5188" y="2953"/>
                    </a:lnTo>
                    <a:lnTo>
                      <a:pt x="5201" y="2944"/>
                    </a:lnTo>
                    <a:lnTo>
                      <a:pt x="5206" y="2927"/>
                    </a:lnTo>
                    <a:lnTo>
                      <a:pt x="5192" y="2918"/>
                    </a:lnTo>
                    <a:lnTo>
                      <a:pt x="5214" y="2909"/>
                    </a:lnTo>
                    <a:lnTo>
                      <a:pt x="5206" y="2896"/>
                    </a:lnTo>
                    <a:lnTo>
                      <a:pt x="5219" y="2896"/>
                    </a:lnTo>
                    <a:lnTo>
                      <a:pt x="5232" y="2874"/>
                    </a:lnTo>
                    <a:lnTo>
                      <a:pt x="5227" y="2865"/>
                    </a:lnTo>
                    <a:lnTo>
                      <a:pt x="5249" y="2835"/>
                    </a:lnTo>
                    <a:lnTo>
                      <a:pt x="5223" y="2804"/>
                    </a:lnTo>
                    <a:lnTo>
                      <a:pt x="5254" y="2821"/>
                    </a:lnTo>
                    <a:lnTo>
                      <a:pt x="5263" y="2786"/>
                    </a:lnTo>
                    <a:lnTo>
                      <a:pt x="5285" y="2786"/>
                    </a:lnTo>
                    <a:lnTo>
                      <a:pt x="5333" y="2756"/>
                    </a:lnTo>
                    <a:lnTo>
                      <a:pt x="5364" y="2703"/>
                    </a:lnTo>
                    <a:lnTo>
                      <a:pt x="5408" y="2668"/>
                    </a:lnTo>
                    <a:lnTo>
                      <a:pt x="5403" y="2633"/>
                    </a:lnTo>
                    <a:lnTo>
                      <a:pt x="5429" y="2594"/>
                    </a:lnTo>
                    <a:lnTo>
                      <a:pt x="5478" y="2541"/>
                    </a:lnTo>
                    <a:lnTo>
                      <a:pt x="5495" y="2524"/>
                    </a:lnTo>
                    <a:lnTo>
                      <a:pt x="5539" y="2524"/>
                    </a:lnTo>
                    <a:lnTo>
                      <a:pt x="5548" y="2493"/>
                    </a:lnTo>
                    <a:lnTo>
                      <a:pt x="5557" y="2510"/>
                    </a:lnTo>
                    <a:lnTo>
                      <a:pt x="5570" y="2458"/>
                    </a:lnTo>
                    <a:lnTo>
                      <a:pt x="5588" y="2427"/>
                    </a:lnTo>
                    <a:lnTo>
                      <a:pt x="5610" y="2414"/>
                    </a:lnTo>
                    <a:lnTo>
                      <a:pt x="5601" y="2410"/>
                    </a:lnTo>
                    <a:lnTo>
                      <a:pt x="5601" y="2392"/>
                    </a:lnTo>
                    <a:lnTo>
                      <a:pt x="5592" y="2379"/>
                    </a:lnTo>
                    <a:lnTo>
                      <a:pt x="5610" y="2397"/>
                    </a:lnTo>
                    <a:lnTo>
                      <a:pt x="5605" y="2401"/>
                    </a:lnTo>
                    <a:lnTo>
                      <a:pt x="5614" y="2410"/>
                    </a:lnTo>
                    <a:lnTo>
                      <a:pt x="5627" y="2392"/>
                    </a:lnTo>
                    <a:lnTo>
                      <a:pt x="5631" y="2392"/>
                    </a:lnTo>
                    <a:lnTo>
                      <a:pt x="5627" y="2370"/>
                    </a:lnTo>
                    <a:lnTo>
                      <a:pt x="5631" y="2370"/>
                    </a:lnTo>
                    <a:lnTo>
                      <a:pt x="5640" y="2383"/>
                    </a:lnTo>
                    <a:lnTo>
                      <a:pt x="5680" y="2361"/>
                    </a:lnTo>
                    <a:lnTo>
                      <a:pt x="5711" y="2361"/>
                    </a:lnTo>
                    <a:lnTo>
                      <a:pt x="5728" y="2322"/>
                    </a:lnTo>
                    <a:lnTo>
                      <a:pt x="5719" y="2313"/>
                    </a:lnTo>
                    <a:lnTo>
                      <a:pt x="5711" y="2322"/>
                    </a:lnTo>
                    <a:lnTo>
                      <a:pt x="5706" y="2309"/>
                    </a:lnTo>
                    <a:lnTo>
                      <a:pt x="5689" y="2318"/>
                    </a:lnTo>
                    <a:lnTo>
                      <a:pt x="5697" y="2331"/>
                    </a:lnTo>
                    <a:lnTo>
                      <a:pt x="5684" y="2322"/>
                    </a:lnTo>
                    <a:lnTo>
                      <a:pt x="5684" y="2340"/>
                    </a:lnTo>
                    <a:lnTo>
                      <a:pt x="5649" y="2335"/>
                    </a:lnTo>
                    <a:lnTo>
                      <a:pt x="5623" y="2318"/>
                    </a:lnTo>
                    <a:lnTo>
                      <a:pt x="5627" y="2313"/>
                    </a:lnTo>
                    <a:lnTo>
                      <a:pt x="5667" y="2331"/>
                    </a:lnTo>
                    <a:lnTo>
                      <a:pt x="5689" y="2300"/>
                    </a:lnTo>
                    <a:lnTo>
                      <a:pt x="5680" y="2300"/>
                    </a:lnTo>
                    <a:lnTo>
                      <a:pt x="5689" y="2274"/>
                    </a:lnTo>
                    <a:lnTo>
                      <a:pt x="5675" y="2278"/>
                    </a:lnTo>
                    <a:lnTo>
                      <a:pt x="5623" y="2256"/>
                    </a:lnTo>
                    <a:lnTo>
                      <a:pt x="5649" y="2252"/>
                    </a:lnTo>
                    <a:lnTo>
                      <a:pt x="5671" y="2265"/>
                    </a:lnTo>
                    <a:lnTo>
                      <a:pt x="5675" y="2256"/>
                    </a:lnTo>
                    <a:lnTo>
                      <a:pt x="5667" y="2239"/>
                    </a:lnTo>
                    <a:lnTo>
                      <a:pt x="5671" y="2239"/>
                    </a:lnTo>
                    <a:lnTo>
                      <a:pt x="5689" y="2234"/>
                    </a:lnTo>
                    <a:lnTo>
                      <a:pt x="5680" y="2248"/>
                    </a:lnTo>
                    <a:lnTo>
                      <a:pt x="5689" y="2261"/>
                    </a:lnTo>
                    <a:lnTo>
                      <a:pt x="5697" y="2248"/>
                    </a:lnTo>
                    <a:lnTo>
                      <a:pt x="5711" y="2265"/>
                    </a:lnTo>
                    <a:lnTo>
                      <a:pt x="5719" y="2261"/>
                    </a:lnTo>
                    <a:lnTo>
                      <a:pt x="5733" y="2261"/>
                    </a:lnTo>
                    <a:lnTo>
                      <a:pt x="5746" y="2239"/>
                    </a:lnTo>
                    <a:lnTo>
                      <a:pt x="5759" y="2217"/>
                    </a:lnTo>
                    <a:lnTo>
                      <a:pt x="5772" y="2208"/>
                    </a:lnTo>
                    <a:lnTo>
                      <a:pt x="5772" y="2191"/>
                    </a:lnTo>
                    <a:lnTo>
                      <a:pt x="5763" y="2169"/>
                    </a:lnTo>
                    <a:lnTo>
                      <a:pt x="5746" y="2169"/>
                    </a:lnTo>
                    <a:lnTo>
                      <a:pt x="5733" y="2208"/>
                    </a:lnTo>
                    <a:lnTo>
                      <a:pt x="5728" y="2186"/>
                    </a:lnTo>
                    <a:lnTo>
                      <a:pt x="5719" y="2160"/>
                    </a:lnTo>
                    <a:lnTo>
                      <a:pt x="5689" y="2173"/>
                    </a:lnTo>
                    <a:lnTo>
                      <a:pt x="5645" y="2186"/>
                    </a:lnTo>
                    <a:lnTo>
                      <a:pt x="5649" y="2169"/>
                    </a:lnTo>
                    <a:lnTo>
                      <a:pt x="5671" y="2156"/>
                    </a:lnTo>
                    <a:lnTo>
                      <a:pt x="5715" y="2134"/>
                    </a:lnTo>
                    <a:lnTo>
                      <a:pt x="5702" y="2112"/>
                    </a:lnTo>
                    <a:lnTo>
                      <a:pt x="5733" y="2129"/>
                    </a:lnTo>
                    <a:lnTo>
                      <a:pt x="5724" y="2107"/>
                    </a:lnTo>
                    <a:lnTo>
                      <a:pt x="5750" y="2134"/>
                    </a:lnTo>
                    <a:lnTo>
                      <a:pt x="5733" y="2090"/>
                    </a:lnTo>
                    <a:lnTo>
                      <a:pt x="5711" y="2072"/>
                    </a:lnTo>
                    <a:lnTo>
                      <a:pt x="5715" y="2059"/>
                    </a:lnTo>
                    <a:lnTo>
                      <a:pt x="5733" y="2064"/>
                    </a:lnTo>
                    <a:lnTo>
                      <a:pt x="5702" y="2015"/>
                    </a:lnTo>
                    <a:lnTo>
                      <a:pt x="5680" y="2015"/>
                    </a:lnTo>
                    <a:lnTo>
                      <a:pt x="5667" y="2015"/>
                    </a:lnTo>
                    <a:lnTo>
                      <a:pt x="5667" y="2033"/>
                    </a:lnTo>
                    <a:lnTo>
                      <a:pt x="5653" y="2033"/>
                    </a:lnTo>
                    <a:lnTo>
                      <a:pt x="5618" y="2011"/>
                    </a:lnTo>
                    <a:lnTo>
                      <a:pt x="5614" y="2002"/>
                    </a:lnTo>
                    <a:lnTo>
                      <a:pt x="5574" y="1994"/>
                    </a:lnTo>
                    <a:lnTo>
                      <a:pt x="5583" y="1976"/>
                    </a:lnTo>
                    <a:lnTo>
                      <a:pt x="5588" y="1989"/>
                    </a:lnTo>
                    <a:lnTo>
                      <a:pt x="5623" y="1994"/>
                    </a:lnTo>
                    <a:lnTo>
                      <a:pt x="5627" y="2002"/>
                    </a:lnTo>
                    <a:lnTo>
                      <a:pt x="5653" y="2015"/>
                    </a:lnTo>
                    <a:lnTo>
                      <a:pt x="5667" y="2002"/>
                    </a:lnTo>
                    <a:lnTo>
                      <a:pt x="5662" y="1998"/>
                    </a:lnTo>
                    <a:lnTo>
                      <a:pt x="5653" y="1998"/>
                    </a:lnTo>
                    <a:lnTo>
                      <a:pt x="5653" y="1989"/>
                    </a:lnTo>
                    <a:lnTo>
                      <a:pt x="5640" y="1985"/>
                    </a:lnTo>
                    <a:lnTo>
                      <a:pt x="5627" y="1980"/>
                    </a:lnTo>
                    <a:lnTo>
                      <a:pt x="5596" y="1958"/>
                    </a:lnTo>
                    <a:lnTo>
                      <a:pt x="5588" y="1944"/>
                    </a:lnTo>
                    <a:lnTo>
                      <a:pt x="5601" y="1949"/>
                    </a:lnTo>
                    <a:lnTo>
                      <a:pt x="5631" y="1976"/>
                    </a:lnTo>
                    <a:lnTo>
                      <a:pt x="5645" y="1972"/>
                    </a:lnTo>
                    <a:lnTo>
                      <a:pt x="5640" y="1962"/>
                    </a:lnTo>
                    <a:lnTo>
                      <a:pt x="5631" y="1949"/>
                    </a:lnTo>
                    <a:lnTo>
                      <a:pt x="5645" y="1949"/>
                    </a:lnTo>
                    <a:lnTo>
                      <a:pt x="5658" y="1962"/>
                    </a:lnTo>
                    <a:lnTo>
                      <a:pt x="5658" y="1949"/>
                    </a:lnTo>
                    <a:lnTo>
                      <a:pt x="5627" y="1936"/>
                    </a:lnTo>
                    <a:lnTo>
                      <a:pt x="5645" y="1927"/>
                    </a:lnTo>
                    <a:lnTo>
                      <a:pt x="5614" y="1927"/>
                    </a:lnTo>
                    <a:lnTo>
                      <a:pt x="5557" y="1866"/>
                    </a:lnTo>
                    <a:lnTo>
                      <a:pt x="5601" y="1901"/>
                    </a:lnTo>
                    <a:lnTo>
                      <a:pt x="5623" y="1909"/>
                    </a:lnTo>
                    <a:lnTo>
                      <a:pt x="5640" y="1918"/>
                    </a:lnTo>
                    <a:lnTo>
                      <a:pt x="5636" y="1905"/>
                    </a:lnTo>
                    <a:lnTo>
                      <a:pt x="5631" y="1883"/>
                    </a:lnTo>
                    <a:lnTo>
                      <a:pt x="5640" y="1870"/>
                    </a:lnTo>
                    <a:lnTo>
                      <a:pt x="5601" y="1861"/>
                    </a:lnTo>
                    <a:lnTo>
                      <a:pt x="5588" y="1848"/>
                    </a:lnTo>
                    <a:lnTo>
                      <a:pt x="5548" y="1839"/>
                    </a:lnTo>
                    <a:lnTo>
                      <a:pt x="5539" y="1835"/>
                    </a:lnTo>
                    <a:lnTo>
                      <a:pt x="5530" y="1817"/>
                    </a:lnTo>
                    <a:lnTo>
                      <a:pt x="5530" y="1809"/>
                    </a:lnTo>
                    <a:lnTo>
                      <a:pt x="5548" y="1830"/>
                    </a:lnTo>
                    <a:lnTo>
                      <a:pt x="5552" y="1817"/>
                    </a:lnTo>
                    <a:lnTo>
                      <a:pt x="5566" y="1835"/>
                    </a:lnTo>
                    <a:lnTo>
                      <a:pt x="5574" y="1826"/>
                    </a:lnTo>
                    <a:lnTo>
                      <a:pt x="5596" y="1839"/>
                    </a:lnTo>
                    <a:lnTo>
                      <a:pt x="5605" y="1830"/>
                    </a:lnTo>
                    <a:lnTo>
                      <a:pt x="5623" y="1852"/>
                    </a:lnTo>
                    <a:lnTo>
                      <a:pt x="5610" y="1822"/>
                    </a:lnTo>
                    <a:lnTo>
                      <a:pt x="5574" y="1791"/>
                    </a:lnTo>
                    <a:lnTo>
                      <a:pt x="5610" y="1813"/>
                    </a:lnTo>
                    <a:lnTo>
                      <a:pt x="5588" y="1782"/>
                    </a:lnTo>
                    <a:lnTo>
                      <a:pt x="5579" y="1756"/>
                    </a:lnTo>
                    <a:lnTo>
                      <a:pt x="5583" y="1695"/>
                    </a:lnTo>
                    <a:lnTo>
                      <a:pt x="5557" y="1682"/>
                    </a:lnTo>
                    <a:lnTo>
                      <a:pt x="5605" y="1642"/>
                    </a:lnTo>
                    <a:lnTo>
                      <a:pt x="5605" y="1620"/>
                    </a:lnTo>
                    <a:lnTo>
                      <a:pt x="5631" y="1620"/>
                    </a:lnTo>
                    <a:lnTo>
                      <a:pt x="5627" y="1642"/>
                    </a:lnTo>
                    <a:lnTo>
                      <a:pt x="5610" y="1647"/>
                    </a:lnTo>
                    <a:lnTo>
                      <a:pt x="5601" y="1673"/>
                    </a:lnTo>
                    <a:lnTo>
                      <a:pt x="5605" y="1695"/>
                    </a:lnTo>
                    <a:lnTo>
                      <a:pt x="5618" y="1686"/>
                    </a:lnTo>
                    <a:lnTo>
                      <a:pt x="5614" y="1708"/>
                    </a:lnTo>
                    <a:lnTo>
                      <a:pt x="5618" y="1721"/>
                    </a:lnTo>
                    <a:lnTo>
                      <a:pt x="5623" y="1734"/>
                    </a:lnTo>
                    <a:lnTo>
                      <a:pt x="5610" y="1730"/>
                    </a:lnTo>
                    <a:lnTo>
                      <a:pt x="5601" y="1747"/>
                    </a:lnTo>
                    <a:lnTo>
                      <a:pt x="5631" y="1743"/>
                    </a:lnTo>
                    <a:lnTo>
                      <a:pt x="5627" y="1756"/>
                    </a:lnTo>
                    <a:lnTo>
                      <a:pt x="5640" y="1765"/>
                    </a:lnTo>
                    <a:lnTo>
                      <a:pt x="5618" y="1765"/>
                    </a:lnTo>
                    <a:lnTo>
                      <a:pt x="5623" y="1804"/>
                    </a:lnTo>
                    <a:lnTo>
                      <a:pt x="5653" y="1817"/>
                    </a:lnTo>
                    <a:lnTo>
                      <a:pt x="5667" y="1795"/>
                    </a:lnTo>
                    <a:lnTo>
                      <a:pt x="5667" y="1830"/>
                    </a:lnTo>
                    <a:lnTo>
                      <a:pt x="5689" y="1822"/>
                    </a:lnTo>
                    <a:lnTo>
                      <a:pt x="5680" y="1839"/>
                    </a:lnTo>
                    <a:lnTo>
                      <a:pt x="5689" y="1839"/>
                    </a:lnTo>
                    <a:lnTo>
                      <a:pt x="5684" y="1852"/>
                    </a:lnTo>
                    <a:lnTo>
                      <a:pt x="5684" y="1861"/>
                    </a:lnTo>
                    <a:lnTo>
                      <a:pt x="5711" y="1848"/>
                    </a:lnTo>
                    <a:lnTo>
                      <a:pt x="5689" y="1918"/>
                    </a:lnTo>
                    <a:lnTo>
                      <a:pt x="5689" y="1962"/>
                    </a:lnTo>
                    <a:lnTo>
                      <a:pt x="5697" y="1985"/>
                    </a:lnTo>
                    <a:lnTo>
                      <a:pt x="5711" y="1927"/>
                    </a:lnTo>
                    <a:lnTo>
                      <a:pt x="5728" y="1905"/>
                    </a:lnTo>
                    <a:lnTo>
                      <a:pt x="5741" y="1830"/>
                    </a:lnTo>
                    <a:lnTo>
                      <a:pt x="5750" y="1795"/>
                    </a:lnTo>
                    <a:lnTo>
                      <a:pt x="5754" y="1817"/>
                    </a:lnTo>
                    <a:lnTo>
                      <a:pt x="5750" y="1826"/>
                    </a:lnTo>
                    <a:lnTo>
                      <a:pt x="5746" y="1844"/>
                    </a:lnTo>
                    <a:lnTo>
                      <a:pt x="5746" y="1861"/>
                    </a:lnTo>
                    <a:lnTo>
                      <a:pt x="5759" y="1826"/>
                    </a:lnTo>
                    <a:lnTo>
                      <a:pt x="5763" y="1760"/>
                    </a:lnTo>
                    <a:lnTo>
                      <a:pt x="5759" y="1738"/>
                    </a:lnTo>
                    <a:lnTo>
                      <a:pt x="5741" y="1743"/>
                    </a:lnTo>
                    <a:lnTo>
                      <a:pt x="5759" y="1730"/>
                    </a:lnTo>
                    <a:lnTo>
                      <a:pt x="5746" y="1708"/>
                    </a:lnTo>
                    <a:lnTo>
                      <a:pt x="5728" y="1703"/>
                    </a:lnTo>
                    <a:lnTo>
                      <a:pt x="5715" y="1690"/>
                    </a:lnTo>
                    <a:lnTo>
                      <a:pt x="5706" y="1673"/>
                    </a:lnTo>
                    <a:lnTo>
                      <a:pt x="5697" y="1647"/>
                    </a:lnTo>
                    <a:lnTo>
                      <a:pt x="5680" y="1629"/>
                    </a:lnTo>
                    <a:lnTo>
                      <a:pt x="5667" y="1620"/>
                    </a:lnTo>
                    <a:lnTo>
                      <a:pt x="5662" y="1594"/>
                    </a:lnTo>
                    <a:lnTo>
                      <a:pt x="5667" y="1581"/>
                    </a:lnTo>
                    <a:lnTo>
                      <a:pt x="5675" y="1616"/>
                    </a:lnTo>
                    <a:lnTo>
                      <a:pt x="5689" y="1625"/>
                    </a:lnTo>
                    <a:lnTo>
                      <a:pt x="5728" y="1647"/>
                    </a:lnTo>
                    <a:lnTo>
                      <a:pt x="5754" y="1647"/>
                    </a:lnTo>
                    <a:lnTo>
                      <a:pt x="5763" y="1660"/>
                    </a:lnTo>
                    <a:lnTo>
                      <a:pt x="5759" y="1682"/>
                    </a:lnTo>
                    <a:lnTo>
                      <a:pt x="5768" y="1682"/>
                    </a:lnTo>
                    <a:lnTo>
                      <a:pt x="5794" y="1620"/>
                    </a:lnTo>
                    <a:lnTo>
                      <a:pt x="5807" y="1594"/>
                    </a:lnTo>
                    <a:lnTo>
                      <a:pt x="5803" y="1576"/>
                    </a:lnTo>
                    <a:lnTo>
                      <a:pt x="5812" y="1576"/>
                    </a:lnTo>
                    <a:lnTo>
                      <a:pt x="5820" y="1550"/>
                    </a:lnTo>
                    <a:lnTo>
                      <a:pt x="5820" y="1533"/>
                    </a:lnTo>
                    <a:lnTo>
                      <a:pt x="5825" y="1524"/>
                    </a:lnTo>
                    <a:lnTo>
                      <a:pt x="5820" y="1506"/>
                    </a:lnTo>
                    <a:lnTo>
                      <a:pt x="5820" y="1493"/>
                    </a:lnTo>
                    <a:lnTo>
                      <a:pt x="5829" y="1511"/>
                    </a:lnTo>
                    <a:lnTo>
                      <a:pt x="5829" y="1533"/>
                    </a:lnTo>
                    <a:lnTo>
                      <a:pt x="5829" y="1454"/>
                    </a:lnTo>
                    <a:lnTo>
                      <a:pt x="5820" y="1432"/>
                    </a:lnTo>
                    <a:lnTo>
                      <a:pt x="5816" y="1427"/>
                    </a:lnTo>
                    <a:lnTo>
                      <a:pt x="5816" y="1436"/>
                    </a:lnTo>
                    <a:lnTo>
                      <a:pt x="5807" y="1432"/>
                    </a:lnTo>
                    <a:lnTo>
                      <a:pt x="5798" y="1436"/>
                    </a:lnTo>
                    <a:lnTo>
                      <a:pt x="5781" y="1432"/>
                    </a:lnTo>
                    <a:lnTo>
                      <a:pt x="5794" y="1427"/>
                    </a:lnTo>
                    <a:lnTo>
                      <a:pt x="5807" y="1406"/>
                    </a:lnTo>
                    <a:lnTo>
                      <a:pt x="5798" y="1397"/>
                    </a:lnTo>
                    <a:lnTo>
                      <a:pt x="5812" y="1357"/>
                    </a:lnTo>
                    <a:lnTo>
                      <a:pt x="5816" y="1371"/>
                    </a:lnTo>
                    <a:lnTo>
                      <a:pt x="5825" y="1366"/>
                    </a:lnTo>
                    <a:lnTo>
                      <a:pt x="5838" y="1331"/>
                    </a:lnTo>
                    <a:lnTo>
                      <a:pt x="5855" y="1331"/>
                    </a:lnTo>
                    <a:lnTo>
                      <a:pt x="5860" y="1314"/>
                    </a:lnTo>
                    <a:lnTo>
                      <a:pt x="5891" y="1300"/>
                    </a:lnTo>
                    <a:lnTo>
                      <a:pt x="5904" y="1274"/>
                    </a:lnTo>
                    <a:lnTo>
                      <a:pt x="5913" y="1279"/>
                    </a:lnTo>
                    <a:lnTo>
                      <a:pt x="5939" y="1270"/>
                    </a:lnTo>
                    <a:lnTo>
                      <a:pt x="5970" y="1265"/>
                    </a:lnTo>
                    <a:lnTo>
                      <a:pt x="5970" y="1252"/>
                    </a:lnTo>
                    <a:lnTo>
                      <a:pt x="5978" y="1261"/>
                    </a:lnTo>
                    <a:lnTo>
                      <a:pt x="5992" y="1244"/>
                    </a:lnTo>
                    <a:lnTo>
                      <a:pt x="6005" y="1244"/>
                    </a:lnTo>
                    <a:lnTo>
                      <a:pt x="6027" y="1235"/>
                    </a:lnTo>
                    <a:lnTo>
                      <a:pt x="6031" y="1244"/>
                    </a:lnTo>
                    <a:lnTo>
                      <a:pt x="6066" y="1222"/>
                    </a:lnTo>
                    <a:lnTo>
                      <a:pt x="6066" y="1191"/>
                    </a:lnTo>
                    <a:lnTo>
                      <a:pt x="6071" y="1173"/>
                    </a:lnTo>
                    <a:lnTo>
                      <a:pt x="6079" y="1187"/>
                    </a:lnTo>
                    <a:lnTo>
                      <a:pt x="6084" y="1208"/>
                    </a:lnTo>
                    <a:lnTo>
                      <a:pt x="6088" y="1204"/>
                    </a:lnTo>
                    <a:lnTo>
                      <a:pt x="6101" y="1187"/>
                    </a:lnTo>
                    <a:lnTo>
                      <a:pt x="6115" y="1191"/>
                    </a:lnTo>
                    <a:lnTo>
                      <a:pt x="6119" y="1169"/>
                    </a:lnTo>
                    <a:lnTo>
                      <a:pt x="6132" y="1160"/>
                    </a:lnTo>
                    <a:lnTo>
                      <a:pt x="6137" y="1143"/>
                    </a:lnTo>
                    <a:lnTo>
                      <a:pt x="6145" y="1143"/>
                    </a:lnTo>
                    <a:lnTo>
                      <a:pt x="6150" y="1173"/>
                    </a:lnTo>
                    <a:lnTo>
                      <a:pt x="6172" y="1165"/>
                    </a:lnTo>
                    <a:lnTo>
                      <a:pt x="6176" y="1156"/>
                    </a:lnTo>
                    <a:lnTo>
                      <a:pt x="6198" y="1138"/>
                    </a:lnTo>
                    <a:lnTo>
                      <a:pt x="6216" y="1138"/>
                    </a:lnTo>
                    <a:lnTo>
                      <a:pt x="6224" y="1147"/>
                    </a:lnTo>
                    <a:lnTo>
                      <a:pt x="6220" y="1116"/>
                    </a:lnTo>
                    <a:lnTo>
                      <a:pt x="6202" y="1081"/>
                    </a:lnTo>
                    <a:lnTo>
                      <a:pt x="6194" y="1077"/>
                    </a:lnTo>
                    <a:lnTo>
                      <a:pt x="6176" y="1077"/>
                    </a:lnTo>
                    <a:lnTo>
                      <a:pt x="6176" y="1090"/>
                    </a:lnTo>
                    <a:lnTo>
                      <a:pt x="6185" y="1090"/>
                    </a:lnTo>
                    <a:lnTo>
                      <a:pt x="6198" y="1090"/>
                    </a:lnTo>
                    <a:lnTo>
                      <a:pt x="6207" y="1095"/>
                    </a:lnTo>
                    <a:lnTo>
                      <a:pt x="6211" y="1112"/>
                    </a:lnTo>
                    <a:lnTo>
                      <a:pt x="6207" y="1121"/>
                    </a:lnTo>
                    <a:lnTo>
                      <a:pt x="6172" y="1138"/>
                    </a:lnTo>
                    <a:lnTo>
                      <a:pt x="6154" y="1130"/>
                    </a:lnTo>
                    <a:lnTo>
                      <a:pt x="6145" y="1112"/>
                    </a:lnTo>
                    <a:lnTo>
                      <a:pt x="6132" y="1108"/>
                    </a:lnTo>
                    <a:lnTo>
                      <a:pt x="6132" y="1095"/>
                    </a:lnTo>
                    <a:lnTo>
                      <a:pt x="6119" y="1077"/>
                    </a:lnTo>
                    <a:lnTo>
                      <a:pt x="6097" y="1064"/>
                    </a:lnTo>
                    <a:lnTo>
                      <a:pt x="6093" y="1077"/>
                    </a:lnTo>
                    <a:lnTo>
                      <a:pt x="6079" y="1073"/>
                    </a:lnTo>
                    <a:lnTo>
                      <a:pt x="6079" y="1060"/>
                    </a:lnTo>
                    <a:lnTo>
                      <a:pt x="6079" y="1046"/>
                    </a:lnTo>
                    <a:lnTo>
                      <a:pt x="6093" y="1033"/>
                    </a:lnTo>
                    <a:lnTo>
                      <a:pt x="6088" y="1029"/>
                    </a:lnTo>
                    <a:lnTo>
                      <a:pt x="6110" y="1016"/>
                    </a:lnTo>
                    <a:lnTo>
                      <a:pt x="6088" y="1003"/>
                    </a:lnTo>
                    <a:lnTo>
                      <a:pt x="6079" y="981"/>
                    </a:lnTo>
                    <a:lnTo>
                      <a:pt x="6088" y="954"/>
                    </a:lnTo>
                    <a:lnTo>
                      <a:pt x="6084" y="946"/>
                    </a:lnTo>
                    <a:lnTo>
                      <a:pt x="6088" y="946"/>
                    </a:lnTo>
                    <a:lnTo>
                      <a:pt x="6093" y="902"/>
                    </a:lnTo>
                    <a:lnTo>
                      <a:pt x="6110" y="884"/>
                    </a:lnTo>
                    <a:lnTo>
                      <a:pt x="6101" y="867"/>
                    </a:lnTo>
                    <a:lnTo>
                      <a:pt x="6119" y="854"/>
                    </a:lnTo>
                    <a:lnTo>
                      <a:pt x="6110" y="845"/>
                    </a:lnTo>
                    <a:lnTo>
                      <a:pt x="6110" y="827"/>
                    </a:lnTo>
                    <a:lnTo>
                      <a:pt x="6145" y="805"/>
                    </a:lnTo>
                    <a:lnTo>
                      <a:pt x="6154" y="823"/>
                    </a:lnTo>
                    <a:lnTo>
                      <a:pt x="6150" y="797"/>
                    </a:lnTo>
                    <a:lnTo>
                      <a:pt x="6172" y="801"/>
                    </a:lnTo>
                    <a:lnTo>
                      <a:pt x="6185" y="762"/>
                    </a:lnTo>
                    <a:lnTo>
                      <a:pt x="6198" y="766"/>
                    </a:lnTo>
                    <a:lnTo>
                      <a:pt x="6207" y="762"/>
                    </a:lnTo>
                    <a:lnTo>
                      <a:pt x="6220" y="753"/>
                    </a:lnTo>
                    <a:lnTo>
                      <a:pt x="6216" y="696"/>
                    </a:lnTo>
                    <a:lnTo>
                      <a:pt x="6229" y="665"/>
                    </a:lnTo>
                    <a:lnTo>
                      <a:pt x="6242" y="683"/>
                    </a:lnTo>
                    <a:lnTo>
                      <a:pt x="6233" y="705"/>
                    </a:lnTo>
                    <a:lnTo>
                      <a:pt x="6255" y="709"/>
                    </a:lnTo>
                    <a:lnTo>
                      <a:pt x="6259" y="687"/>
                    </a:lnTo>
                    <a:lnTo>
                      <a:pt x="6277" y="678"/>
                    </a:lnTo>
                    <a:lnTo>
                      <a:pt x="6290" y="657"/>
                    </a:lnTo>
                    <a:lnTo>
                      <a:pt x="6312" y="678"/>
                    </a:lnTo>
                    <a:lnTo>
                      <a:pt x="6317" y="652"/>
                    </a:lnTo>
                    <a:lnTo>
                      <a:pt x="6330" y="657"/>
                    </a:lnTo>
                    <a:lnTo>
                      <a:pt x="6330" y="639"/>
                    </a:lnTo>
                    <a:lnTo>
                      <a:pt x="6343" y="643"/>
                    </a:lnTo>
                    <a:lnTo>
                      <a:pt x="6356" y="630"/>
                    </a:lnTo>
                    <a:lnTo>
                      <a:pt x="6356" y="617"/>
                    </a:lnTo>
                    <a:lnTo>
                      <a:pt x="6374" y="604"/>
                    </a:lnTo>
                    <a:lnTo>
                      <a:pt x="6391" y="608"/>
                    </a:lnTo>
                    <a:lnTo>
                      <a:pt x="6404" y="569"/>
                    </a:lnTo>
                    <a:lnTo>
                      <a:pt x="6387" y="569"/>
                    </a:lnTo>
                    <a:lnTo>
                      <a:pt x="6382" y="560"/>
                    </a:lnTo>
                    <a:lnTo>
                      <a:pt x="6396" y="560"/>
                    </a:lnTo>
                    <a:lnTo>
                      <a:pt x="6361" y="525"/>
                    </a:lnTo>
                    <a:lnTo>
                      <a:pt x="6356" y="534"/>
                    </a:lnTo>
                    <a:lnTo>
                      <a:pt x="6325" y="486"/>
                    </a:lnTo>
                    <a:lnTo>
                      <a:pt x="6334" y="481"/>
                    </a:lnTo>
                    <a:lnTo>
                      <a:pt x="6325" y="473"/>
                    </a:lnTo>
                    <a:lnTo>
                      <a:pt x="6286" y="473"/>
                    </a:lnTo>
                    <a:lnTo>
                      <a:pt x="6229" y="275"/>
                    </a:lnTo>
                    <a:lnTo>
                      <a:pt x="6207" y="254"/>
                    </a:lnTo>
                    <a:lnTo>
                      <a:pt x="6167" y="232"/>
                    </a:lnTo>
                    <a:lnTo>
                      <a:pt x="6150" y="240"/>
                    </a:lnTo>
                    <a:lnTo>
                      <a:pt x="6150" y="249"/>
                    </a:lnTo>
                    <a:lnTo>
                      <a:pt x="6088" y="275"/>
                    </a:lnTo>
                    <a:lnTo>
                      <a:pt x="6079" y="249"/>
                    </a:lnTo>
                    <a:lnTo>
                      <a:pt x="6066" y="249"/>
                    </a:lnTo>
                    <a:lnTo>
                      <a:pt x="6014" y="385"/>
                    </a:lnTo>
                    <a:lnTo>
                      <a:pt x="6014" y="407"/>
                    </a:lnTo>
                    <a:lnTo>
                      <a:pt x="6005" y="468"/>
                    </a:lnTo>
                    <a:lnTo>
                      <a:pt x="6018" y="516"/>
                    </a:lnTo>
                    <a:lnTo>
                      <a:pt x="5987" y="578"/>
                    </a:lnTo>
                    <a:lnTo>
                      <a:pt x="5983" y="622"/>
                    </a:lnTo>
                    <a:lnTo>
                      <a:pt x="5956" y="617"/>
                    </a:lnTo>
                    <a:lnTo>
                      <a:pt x="5926" y="643"/>
                    </a:lnTo>
                    <a:lnTo>
                      <a:pt x="5926" y="678"/>
                    </a:lnTo>
                    <a:lnTo>
                      <a:pt x="5728" y="727"/>
                    </a:lnTo>
                    <a:lnTo>
                      <a:pt x="5583" y="762"/>
                    </a:lnTo>
                    <a:lnTo>
                      <a:pt x="5574" y="762"/>
                    </a:lnTo>
                    <a:lnTo>
                      <a:pt x="5526" y="797"/>
                    </a:lnTo>
                    <a:lnTo>
                      <a:pt x="5491" y="854"/>
                    </a:lnTo>
                    <a:lnTo>
                      <a:pt x="5487" y="876"/>
                    </a:lnTo>
                    <a:lnTo>
                      <a:pt x="5465" y="906"/>
                    </a:lnTo>
                    <a:lnTo>
                      <a:pt x="5429" y="933"/>
                    </a:lnTo>
                    <a:lnTo>
                      <a:pt x="5443" y="954"/>
                    </a:lnTo>
                    <a:lnTo>
                      <a:pt x="5447" y="937"/>
                    </a:lnTo>
                    <a:lnTo>
                      <a:pt x="5460" y="941"/>
                    </a:lnTo>
                    <a:lnTo>
                      <a:pt x="5456" y="950"/>
                    </a:lnTo>
                    <a:lnTo>
                      <a:pt x="5460" y="954"/>
                    </a:lnTo>
                    <a:lnTo>
                      <a:pt x="5456" y="968"/>
                    </a:lnTo>
                    <a:lnTo>
                      <a:pt x="5447" y="963"/>
                    </a:lnTo>
                    <a:lnTo>
                      <a:pt x="5447" y="972"/>
                    </a:lnTo>
                    <a:lnTo>
                      <a:pt x="5465" y="994"/>
                    </a:lnTo>
                    <a:lnTo>
                      <a:pt x="5465" y="1011"/>
                    </a:lnTo>
                    <a:lnTo>
                      <a:pt x="5443" y="1024"/>
                    </a:lnTo>
                    <a:lnTo>
                      <a:pt x="5416" y="1060"/>
                    </a:lnTo>
                    <a:lnTo>
                      <a:pt x="5394" y="1077"/>
                    </a:lnTo>
                    <a:lnTo>
                      <a:pt x="5346" y="1077"/>
                    </a:lnTo>
                    <a:lnTo>
                      <a:pt x="5333" y="1090"/>
                    </a:lnTo>
                    <a:lnTo>
                      <a:pt x="5307" y="1077"/>
                    </a:lnTo>
                    <a:lnTo>
                      <a:pt x="5223" y="1090"/>
                    </a:lnTo>
                    <a:lnTo>
                      <a:pt x="5166" y="1112"/>
                    </a:lnTo>
                    <a:lnTo>
                      <a:pt x="5170" y="1134"/>
                    </a:lnTo>
                    <a:lnTo>
                      <a:pt x="5166" y="1143"/>
                    </a:lnTo>
                    <a:lnTo>
                      <a:pt x="5170" y="1143"/>
                    </a:lnTo>
                    <a:lnTo>
                      <a:pt x="5179" y="1160"/>
                    </a:lnTo>
                    <a:lnTo>
                      <a:pt x="5188" y="1160"/>
                    </a:lnTo>
                    <a:lnTo>
                      <a:pt x="5197" y="1182"/>
                    </a:lnTo>
                    <a:lnTo>
                      <a:pt x="5197" y="1191"/>
                    </a:lnTo>
                    <a:lnTo>
                      <a:pt x="5179" y="1200"/>
                    </a:lnTo>
                    <a:lnTo>
                      <a:pt x="5175" y="1222"/>
                    </a:lnTo>
                    <a:lnTo>
                      <a:pt x="5109" y="1283"/>
                    </a:lnTo>
                    <a:lnTo>
                      <a:pt x="5030" y="1340"/>
                    </a:lnTo>
                    <a:lnTo>
                      <a:pt x="4982" y="1366"/>
                    </a:lnTo>
                    <a:lnTo>
                      <a:pt x="4946" y="1384"/>
                    </a:lnTo>
                    <a:lnTo>
                      <a:pt x="4929" y="1406"/>
                    </a:lnTo>
                    <a:lnTo>
                      <a:pt x="4898" y="1436"/>
                    </a:lnTo>
                    <a:lnTo>
                      <a:pt x="4867" y="1436"/>
                    </a:lnTo>
                    <a:lnTo>
                      <a:pt x="4837" y="1454"/>
                    </a:lnTo>
                    <a:lnTo>
                      <a:pt x="4819" y="1463"/>
                    </a:lnTo>
                    <a:lnTo>
                      <a:pt x="4800" y="1449"/>
                    </a:lnTo>
                    <a:lnTo>
                      <a:pt x="4770" y="1463"/>
                    </a:lnTo>
                    <a:lnTo>
                      <a:pt x="4765" y="1458"/>
                    </a:lnTo>
                    <a:lnTo>
                      <a:pt x="4792" y="1445"/>
                    </a:lnTo>
                    <a:lnTo>
                      <a:pt x="4779" y="1436"/>
                    </a:lnTo>
                    <a:lnTo>
                      <a:pt x="4765" y="1445"/>
                    </a:lnTo>
                    <a:lnTo>
                      <a:pt x="4717" y="1427"/>
                    </a:lnTo>
                    <a:lnTo>
                      <a:pt x="4699" y="1436"/>
                    </a:lnTo>
                    <a:lnTo>
                      <a:pt x="4704" y="1419"/>
                    </a:lnTo>
                    <a:lnTo>
                      <a:pt x="4717" y="1388"/>
                    </a:lnTo>
                    <a:lnTo>
                      <a:pt x="4730" y="1371"/>
                    </a:lnTo>
                    <a:lnTo>
                      <a:pt x="4730" y="1331"/>
                    </a:lnTo>
                    <a:lnTo>
                      <a:pt x="4752" y="1318"/>
                    </a:lnTo>
                    <a:lnTo>
                      <a:pt x="4757" y="1305"/>
                    </a:lnTo>
                    <a:lnTo>
                      <a:pt x="4757" y="1274"/>
                    </a:lnTo>
                    <a:lnTo>
                      <a:pt x="4770" y="1265"/>
                    </a:lnTo>
                    <a:lnTo>
                      <a:pt x="4779" y="1287"/>
                    </a:lnTo>
                    <a:lnTo>
                      <a:pt x="4787" y="1265"/>
                    </a:lnTo>
                    <a:lnTo>
                      <a:pt x="4783" y="1235"/>
                    </a:lnTo>
                    <a:lnTo>
                      <a:pt x="4792" y="1217"/>
                    </a:lnTo>
                    <a:lnTo>
                      <a:pt x="4783" y="1191"/>
                    </a:lnTo>
                    <a:lnTo>
                      <a:pt x="4757" y="1112"/>
                    </a:lnTo>
                    <a:lnTo>
                      <a:pt x="4739" y="1073"/>
                    </a:lnTo>
                    <a:lnTo>
                      <a:pt x="4717" y="1060"/>
                    </a:lnTo>
                    <a:lnTo>
                      <a:pt x="4678" y="1081"/>
                    </a:lnTo>
                    <a:lnTo>
                      <a:pt x="4664" y="1116"/>
                    </a:lnTo>
                    <a:lnTo>
                      <a:pt x="4642" y="1143"/>
                    </a:lnTo>
                    <a:lnTo>
                      <a:pt x="4616" y="1130"/>
                    </a:lnTo>
                    <a:lnTo>
                      <a:pt x="4612" y="1095"/>
                    </a:lnTo>
                    <a:lnTo>
                      <a:pt x="4616" y="1081"/>
                    </a:lnTo>
                    <a:lnTo>
                      <a:pt x="4642" y="1068"/>
                    </a:lnTo>
                    <a:lnTo>
                      <a:pt x="4647" y="1051"/>
                    </a:lnTo>
                    <a:lnTo>
                      <a:pt x="4664" y="1024"/>
                    </a:lnTo>
                    <a:lnTo>
                      <a:pt x="4664" y="994"/>
                    </a:lnTo>
                    <a:lnTo>
                      <a:pt x="4660" y="954"/>
                    </a:lnTo>
                    <a:lnTo>
                      <a:pt x="4642" y="924"/>
                    </a:lnTo>
                    <a:lnTo>
                      <a:pt x="4642" y="915"/>
                    </a:lnTo>
                    <a:lnTo>
                      <a:pt x="4660" y="915"/>
                    </a:lnTo>
                    <a:lnTo>
                      <a:pt x="4642" y="893"/>
                    </a:lnTo>
                    <a:lnTo>
                      <a:pt x="4625" y="871"/>
                    </a:lnTo>
                    <a:lnTo>
                      <a:pt x="4563" y="854"/>
                    </a:lnTo>
                    <a:lnTo>
                      <a:pt x="4541" y="836"/>
                    </a:lnTo>
                    <a:lnTo>
                      <a:pt x="4489" y="819"/>
                    </a:lnTo>
                    <a:lnTo>
                      <a:pt x="4462" y="827"/>
                    </a:lnTo>
                    <a:lnTo>
                      <a:pt x="4449" y="854"/>
                    </a:lnTo>
                    <a:lnTo>
                      <a:pt x="4458" y="876"/>
                    </a:lnTo>
                    <a:lnTo>
                      <a:pt x="4471" y="884"/>
                    </a:lnTo>
                    <a:lnTo>
                      <a:pt x="4454" y="884"/>
                    </a:lnTo>
                    <a:lnTo>
                      <a:pt x="4427" y="915"/>
                    </a:lnTo>
                    <a:lnTo>
                      <a:pt x="4427" y="968"/>
                    </a:lnTo>
                    <a:lnTo>
                      <a:pt x="4405" y="981"/>
                    </a:lnTo>
                    <a:lnTo>
                      <a:pt x="4414" y="915"/>
                    </a:lnTo>
                    <a:lnTo>
                      <a:pt x="4388" y="959"/>
                    </a:lnTo>
                    <a:lnTo>
                      <a:pt x="4357" y="972"/>
                    </a:lnTo>
                    <a:lnTo>
                      <a:pt x="4361" y="989"/>
                    </a:lnTo>
                    <a:lnTo>
                      <a:pt x="4344" y="1003"/>
                    </a:lnTo>
                    <a:lnTo>
                      <a:pt x="4348" y="1029"/>
                    </a:lnTo>
                    <a:lnTo>
                      <a:pt x="4335" y="1090"/>
                    </a:lnTo>
                    <a:lnTo>
                      <a:pt x="4322" y="1108"/>
                    </a:lnTo>
                    <a:lnTo>
                      <a:pt x="4335" y="1143"/>
                    </a:lnTo>
                    <a:lnTo>
                      <a:pt x="4326" y="1165"/>
                    </a:lnTo>
                    <a:lnTo>
                      <a:pt x="4335" y="1195"/>
                    </a:lnTo>
                    <a:lnTo>
                      <a:pt x="4366" y="1244"/>
                    </a:lnTo>
                    <a:lnTo>
                      <a:pt x="4375" y="1300"/>
                    </a:lnTo>
                    <a:lnTo>
                      <a:pt x="4375" y="1353"/>
                    </a:lnTo>
                    <a:lnTo>
                      <a:pt x="4366" y="1384"/>
                    </a:lnTo>
                    <a:lnTo>
                      <a:pt x="4317" y="1463"/>
                    </a:lnTo>
                    <a:lnTo>
                      <a:pt x="4274" y="1484"/>
                    </a:lnTo>
                    <a:lnTo>
                      <a:pt x="4238" y="1471"/>
                    </a:lnTo>
                    <a:lnTo>
                      <a:pt x="4208" y="1414"/>
                    </a:lnTo>
                    <a:lnTo>
                      <a:pt x="4199" y="1357"/>
                    </a:lnTo>
                    <a:lnTo>
                      <a:pt x="4181" y="1252"/>
                    </a:lnTo>
                    <a:lnTo>
                      <a:pt x="4194" y="1143"/>
                    </a:lnTo>
                    <a:lnTo>
                      <a:pt x="4208" y="1095"/>
                    </a:lnTo>
                    <a:lnTo>
                      <a:pt x="4208" y="1051"/>
                    </a:lnTo>
                    <a:lnTo>
                      <a:pt x="4247" y="954"/>
                    </a:lnTo>
                    <a:lnTo>
                      <a:pt x="4256" y="924"/>
                    </a:lnTo>
                    <a:lnTo>
                      <a:pt x="4243" y="919"/>
                    </a:lnTo>
                    <a:lnTo>
                      <a:pt x="4225" y="941"/>
                    </a:lnTo>
                    <a:lnTo>
                      <a:pt x="4212" y="994"/>
                    </a:lnTo>
                    <a:lnTo>
                      <a:pt x="4186" y="998"/>
                    </a:lnTo>
                    <a:lnTo>
                      <a:pt x="4177" y="1029"/>
                    </a:lnTo>
                    <a:lnTo>
                      <a:pt x="4151" y="1051"/>
                    </a:lnTo>
                    <a:lnTo>
                      <a:pt x="4151" y="1016"/>
                    </a:lnTo>
                    <a:lnTo>
                      <a:pt x="4168" y="981"/>
                    </a:lnTo>
                    <a:lnTo>
                      <a:pt x="4186" y="972"/>
                    </a:lnTo>
                    <a:lnTo>
                      <a:pt x="4190" y="959"/>
                    </a:lnTo>
                    <a:lnTo>
                      <a:pt x="4221" y="884"/>
                    </a:lnTo>
                    <a:lnTo>
                      <a:pt x="4225" y="867"/>
                    </a:lnTo>
                    <a:lnTo>
                      <a:pt x="4234" y="854"/>
                    </a:lnTo>
                    <a:lnTo>
                      <a:pt x="4234" y="845"/>
                    </a:lnTo>
                    <a:lnTo>
                      <a:pt x="4247" y="823"/>
                    </a:lnTo>
                    <a:lnTo>
                      <a:pt x="4247" y="827"/>
                    </a:lnTo>
                    <a:lnTo>
                      <a:pt x="4247" y="836"/>
                    </a:lnTo>
                    <a:lnTo>
                      <a:pt x="4247" y="858"/>
                    </a:lnTo>
                    <a:lnTo>
                      <a:pt x="4260" y="854"/>
                    </a:lnTo>
                    <a:lnTo>
                      <a:pt x="4269" y="832"/>
                    </a:lnTo>
                    <a:lnTo>
                      <a:pt x="4278" y="836"/>
                    </a:lnTo>
                    <a:lnTo>
                      <a:pt x="4291" y="823"/>
                    </a:lnTo>
                    <a:lnTo>
                      <a:pt x="4291" y="827"/>
                    </a:lnTo>
                    <a:lnTo>
                      <a:pt x="4274" y="862"/>
                    </a:lnTo>
                    <a:lnTo>
                      <a:pt x="4287" y="867"/>
                    </a:lnTo>
                    <a:lnTo>
                      <a:pt x="4300" y="849"/>
                    </a:lnTo>
                    <a:lnTo>
                      <a:pt x="4313" y="836"/>
                    </a:lnTo>
                    <a:lnTo>
                      <a:pt x="4322" y="810"/>
                    </a:lnTo>
                    <a:lnTo>
                      <a:pt x="4361" y="805"/>
                    </a:lnTo>
                    <a:lnTo>
                      <a:pt x="4379" y="805"/>
                    </a:lnTo>
                    <a:lnTo>
                      <a:pt x="4414" y="779"/>
                    </a:lnTo>
                    <a:lnTo>
                      <a:pt x="4458" y="788"/>
                    </a:lnTo>
                    <a:lnTo>
                      <a:pt x="4489" y="810"/>
                    </a:lnTo>
                    <a:lnTo>
                      <a:pt x="4489" y="779"/>
                    </a:lnTo>
                    <a:lnTo>
                      <a:pt x="4502" y="779"/>
                    </a:lnTo>
                    <a:lnTo>
                      <a:pt x="4541" y="784"/>
                    </a:lnTo>
                    <a:lnTo>
                      <a:pt x="4572" y="779"/>
                    </a:lnTo>
                    <a:lnTo>
                      <a:pt x="4533" y="753"/>
                    </a:lnTo>
                    <a:lnTo>
                      <a:pt x="4524" y="713"/>
                    </a:lnTo>
                    <a:lnTo>
                      <a:pt x="4493" y="722"/>
                    </a:lnTo>
                    <a:lnTo>
                      <a:pt x="4484" y="713"/>
                    </a:lnTo>
                    <a:lnTo>
                      <a:pt x="4471" y="722"/>
                    </a:lnTo>
                    <a:lnTo>
                      <a:pt x="4449" y="718"/>
                    </a:lnTo>
                    <a:lnTo>
                      <a:pt x="4445" y="718"/>
                    </a:lnTo>
                    <a:lnTo>
                      <a:pt x="4445" y="696"/>
                    </a:lnTo>
                    <a:lnTo>
                      <a:pt x="4445" y="674"/>
                    </a:lnTo>
                    <a:lnTo>
                      <a:pt x="4418" y="683"/>
                    </a:lnTo>
                    <a:lnTo>
                      <a:pt x="4388" y="696"/>
                    </a:lnTo>
                    <a:lnTo>
                      <a:pt x="4317" y="705"/>
                    </a:lnTo>
                    <a:lnTo>
                      <a:pt x="4274" y="744"/>
                    </a:lnTo>
                    <a:lnTo>
                      <a:pt x="4265" y="740"/>
                    </a:lnTo>
                    <a:lnTo>
                      <a:pt x="4247" y="744"/>
                    </a:lnTo>
                    <a:lnTo>
                      <a:pt x="4230" y="731"/>
                    </a:lnTo>
                    <a:lnTo>
                      <a:pt x="4221" y="735"/>
                    </a:lnTo>
                    <a:lnTo>
                      <a:pt x="4194" y="740"/>
                    </a:lnTo>
                    <a:lnTo>
                      <a:pt x="4159" y="692"/>
                    </a:lnTo>
                    <a:lnTo>
                      <a:pt x="4115" y="683"/>
                    </a:lnTo>
                    <a:lnTo>
                      <a:pt x="4102" y="687"/>
                    </a:lnTo>
                    <a:lnTo>
                      <a:pt x="4093" y="696"/>
                    </a:lnTo>
                    <a:lnTo>
                      <a:pt x="4102" y="678"/>
                    </a:lnTo>
                    <a:lnTo>
                      <a:pt x="4085" y="692"/>
                    </a:lnTo>
                    <a:lnTo>
                      <a:pt x="4076" y="713"/>
                    </a:lnTo>
                    <a:lnTo>
                      <a:pt x="4076" y="683"/>
                    </a:lnTo>
                    <a:lnTo>
                      <a:pt x="4093" y="643"/>
                    </a:lnTo>
                    <a:lnTo>
                      <a:pt x="4124" y="613"/>
                    </a:lnTo>
                    <a:lnTo>
                      <a:pt x="4146" y="604"/>
                    </a:lnTo>
                    <a:lnTo>
                      <a:pt x="4142" y="600"/>
                    </a:lnTo>
                    <a:lnTo>
                      <a:pt x="4098" y="600"/>
                    </a:lnTo>
                    <a:lnTo>
                      <a:pt x="4076" y="613"/>
                    </a:lnTo>
                    <a:lnTo>
                      <a:pt x="4067" y="626"/>
                    </a:lnTo>
                    <a:lnTo>
                      <a:pt x="4036" y="652"/>
                    </a:lnTo>
                    <a:lnTo>
                      <a:pt x="4023" y="674"/>
                    </a:lnTo>
                    <a:lnTo>
                      <a:pt x="4001" y="683"/>
                    </a:lnTo>
                    <a:lnTo>
                      <a:pt x="3988" y="696"/>
                    </a:lnTo>
                    <a:lnTo>
                      <a:pt x="3975" y="705"/>
                    </a:lnTo>
                    <a:lnTo>
                      <a:pt x="3935" y="709"/>
                    </a:lnTo>
                    <a:lnTo>
                      <a:pt x="3922" y="718"/>
                    </a:lnTo>
                    <a:lnTo>
                      <a:pt x="3905" y="735"/>
                    </a:lnTo>
                    <a:lnTo>
                      <a:pt x="3869" y="753"/>
                    </a:lnTo>
                    <a:lnTo>
                      <a:pt x="3839" y="740"/>
                    </a:lnTo>
                    <a:lnTo>
                      <a:pt x="3821" y="753"/>
                    </a:lnTo>
                    <a:lnTo>
                      <a:pt x="3812" y="753"/>
                    </a:lnTo>
                    <a:lnTo>
                      <a:pt x="3826" y="740"/>
                    </a:lnTo>
                    <a:lnTo>
                      <a:pt x="3826" y="722"/>
                    </a:lnTo>
                    <a:lnTo>
                      <a:pt x="3826" y="713"/>
                    </a:lnTo>
                    <a:lnTo>
                      <a:pt x="3830" y="705"/>
                    </a:lnTo>
                    <a:lnTo>
                      <a:pt x="3821" y="696"/>
                    </a:lnTo>
                    <a:lnTo>
                      <a:pt x="3747" y="731"/>
                    </a:lnTo>
                    <a:lnTo>
                      <a:pt x="3716" y="740"/>
                    </a:lnTo>
                    <a:lnTo>
                      <a:pt x="3703" y="744"/>
                    </a:lnTo>
                    <a:lnTo>
                      <a:pt x="3685" y="735"/>
                    </a:lnTo>
                    <a:lnTo>
                      <a:pt x="3685" y="740"/>
                    </a:lnTo>
                    <a:lnTo>
                      <a:pt x="3681" y="735"/>
                    </a:lnTo>
                    <a:lnTo>
                      <a:pt x="3760" y="670"/>
                    </a:lnTo>
                    <a:lnTo>
                      <a:pt x="3799" y="617"/>
                    </a:lnTo>
                    <a:lnTo>
                      <a:pt x="3852" y="582"/>
                    </a:lnTo>
                    <a:lnTo>
                      <a:pt x="3953" y="530"/>
                    </a:lnTo>
                    <a:lnTo>
                      <a:pt x="3918" y="530"/>
                    </a:lnTo>
                    <a:lnTo>
                      <a:pt x="3878" y="516"/>
                    </a:lnTo>
                    <a:lnTo>
                      <a:pt x="3826" y="516"/>
                    </a:lnTo>
                    <a:lnTo>
                      <a:pt x="3812" y="494"/>
                    </a:lnTo>
                    <a:lnTo>
                      <a:pt x="3795" y="503"/>
                    </a:lnTo>
                    <a:lnTo>
                      <a:pt x="3755" y="530"/>
                    </a:lnTo>
                    <a:lnTo>
                      <a:pt x="3729" y="521"/>
                    </a:lnTo>
                    <a:lnTo>
                      <a:pt x="3716" y="512"/>
                    </a:lnTo>
                    <a:lnTo>
                      <a:pt x="3694" y="503"/>
                    </a:lnTo>
                    <a:lnTo>
                      <a:pt x="3681" y="486"/>
                    </a:lnTo>
                    <a:lnTo>
                      <a:pt x="3663" y="486"/>
                    </a:lnTo>
                    <a:lnTo>
                      <a:pt x="3659" y="503"/>
                    </a:lnTo>
                    <a:lnTo>
                      <a:pt x="3654" y="508"/>
                    </a:lnTo>
                    <a:lnTo>
                      <a:pt x="3637" y="473"/>
                    </a:lnTo>
                    <a:lnTo>
                      <a:pt x="3619" y="473"/>
                    </a:lnTo>
                    <a:lnTo>
                      <a:pt x="3628" y="459"/>
                    </a:lnTo>
                    <a:lnTo>
                      <a:pt x="3580" y="451"/>
                    </a:lnTo>
                    <a:lnTo>
                      <a:pt x="3558" y="446"/>
                    </a:lnTo>
                    <a:lnTo>
                      <a:pt x="3505" y="468"/>
                    </a:lnTo>
                    <a:lnTo>
                      <a:pt x="3492" y="451"/>
                    </a:lnTo>
                    <a:lnTo>
                      <a:pt x="3413" y="433"/>
                    </a:lnTo>
                    <a:lnTo>
                      <a:pt x="3395" y="341"/>
                    </a:lnTo>
                    <a:lnTo>
                      <a:pt x="3360" y="337"/>
                    </a:lnTo>
                    <a:lnTo>
                      <a:pt x="3360" y="394"/>
                    </a:lnTo>
                    <a:lnTo>
                      <a:pt x="3149" y="389"/>
                    </a:lnTo>
                    <a:lnTo>
                      <a:pt x="2846" y="385"/>
                    </a:lnTo>
                    <a:lnTo>
                      <a:pt x="2447" y="359"/>
                    </a:lnTo>
                    <a:lnTo>
                      <a:pt x="1893" y="293"/>
                    </a:lnTo>
                    <a:lnTo>
                      <a:pt x="1617" y="249"/>
                    </a:lnTo>
                    <a:lnTo>
                      <a:pt x="1225" y="170"/>
                    </a:lnTo>
                    <a:lnTo>
                      <a:pt x="1128" y="148"/>
                    </a:lnTo>
                    <a:lnTo>
                      <a:pt x="562" y="0"/>
                    </a:lnTo>
                    <a:lnTo>
                      <a:pt x="553" y="4"/>
                    </a:lnTo>
                    <a:lnTo>
                      <a:pt x="557" y="13"/>
                    </a:lnTo>
                    <a:lnTo>
                      <a:pt x="553" y="13"/>
                    </a:lnTo>
                    <a:lnTo>
                      <a:pt x="557" y="26"/>
                    </a:lnTo>
                    <a:lnTo>
                      <a:pt x="557" y="35"/>
                    </a:lnTo>
                    <a:lnTo>
                      <a:pt x="557" y="39"/>
                    </a:lnTo>
                    <a:lnTo>
                      <a:pt x="566" y="39"/>
                    </a:lnTo>
                    <a:lnTo>
                      <a:pt x="575" y="39"/>
                    </a:lnTo>
                    <a:lnTo>
                      <a:pt x="570" y="61"/>
                    </a:lnTo>
                    <a:lnTo>
                      <a:pt x="575" y="65"/>
                    </a:lnTo>
                    <a:lnTo>
                      <a:pt x="562" y="87"/>
                    </a:lnTo>
                    <a:lnTo>
                      <a:pt x="548" y="78"/>
                    </a:lnTo>
                    <a:lnTo>
                      <a:pt x="544" y="78"/>
                    </a:lnTo>
                    <a:lnTo>
                      <a:pt x="544" y="87"/>
                    </a:lnTo>
                    <a:lnTo>
                      <a:pt x="557" y="87"/>
                    </a:lnTo>
                    <a:lnTo>
                      <a:pt x="566" y="113"/>
                    </a:lnTo>
                    <a:lnTo>
                      <a:pt x="562" y="144"/>
                    </a:lnTo>
                    <a:lnTo>
                      <a:pt x="566" y="153"/>
                    </a:lnTo>
                    <a:lnTo>
                      <a:pt x="575" y="157"/>
                    </a:lnTo>
                    <a:lnTo>
                      <a:pt x="570" y="166"/>
                    </a:lnTo>
                    <a:lnTo>
                      <a:pt x="562" y="166"/>
                    </a:lnTo>
                    <a:lnTo>
                      <a:pt x="544" y="183"/>
                    </a:lnTo>
                    <a:lnTo>
                      <a:pt x="544" y="192"/>
                    </a:lnTo>
                    <a:lnTo>
                      <a:pt x="540" y="205"/>
                    </a:lnTo>
                    <a:lnTo>
                      <a:pt x="540" y="214"/>
                    </a:lnTo>
                    <a:lnTo>
                      <a:pt x="531" y="214"/>
                    </a:lnTo>
                    <a:lnTo>
                      <a:pt x="531" y="249"/>
                    </a:lnTo>
                    <a:lnTo>
                      <a:pt x="522" y="254"/>
                    </a:lnTo>
                    <a:lnTo>
                      <a:pt x="522" y="262"/>
                    </a:lnTo>
                    <a:lnTo>
                      <a:pt x="509" y="254"/>
                    </a:lnTo>
                    <a:lnTo>
                      <a:pt x="509" y="262"/>
                    </a:lnTo>
                    <a:lnTo>
                      <a:pt x="487" y="280"/>
                    </a:lnTo>
                    <a:lnTo>
                      <a:pt x="478" y="275"/>
                    </a:lnTo>
                    <a:lnTo>
                      <a:pt x="474" y="267"/>
                    </a:lnTo>
                    <a:lnTo>
                      <a:pt x="474" y="275"/>
                    </a:lnTo>
                    <a:lnTo>
                      <a:pt x="465" y="271"/>
                    </a:lnTo>
                    <a:lnTo>
                      <a:pt x="461" y="284"/>
                    </a:lnTo>
                    <a:lnTo>
                      <a:pt x="461" y="280"/>
                    </a:lnTo>
                    <a:lnTo>
                      <a:pt x="461" y="275"/>
                    </a:lnTo>
                    <a:lnTo>
                      <a:pt x="452" y="275"/>
                    </a:lnTo>
                    <a:lnTo>
                      <a:pt x="461" y="262"/>
                    </a:lnTo>
                    <a:lnTo>
                      <a:pt x="447" y="262"/>
                    </a:lnTo>
                    <a:lnTo>
                      <a:pt x="461" y="258"/>
                    </a:lnTo>
                    <a:lnTo>
                      <a:pt x="447" y="254"/>
                    </a:lnTo>
                    <a:lnTo>
                      <a:pt x="452" y="249"/>
                    </a:lnTo>
                    <a:lnTo>
                      <a:pt x="461" y="254"/>
                    </a:lnTo>
                    <a:lnTo>
                      <a:pt x="469" y="245"/>
                    </a:lnTo>
                    <a:lnTo>
                      <a:pt x="487" y="232"/>
                    </a:lnTo>
                    <a:lnTo>
                      <a:pt x="474" y="258"/>
                    </a:lnTo>
                    <a:lnTo>
                      <a:pt x="478" y="267"/>
                    </a:lnTo>
                    <a:lnTo>
                      <a:pt x="491" y="249"/>
                    </a:lnTo>
                    <a:lnTo>
                      <a:pt x="505" y="236"/>
                    </a:lnTo>
                    <a:lnTo>
                      <a:pt x="496" y="249"/>
                    </a:lnTo>
                    <a:lnTo>
                      <a:pt x="505" y="258"/>
                    </a:lnTo>
                    <a:lnTo>
                      <a:pt x="505" y="249"/>
                    </a:lnTo>
                    <a:lnTo>
                      <a:pt x="513" y="240"/>
                    </a:lnTo>
                    <a:lnTo>
                      <a:pt x="522" y="223"/>
                    </a:lnTo>
                    <a:lnTo>
                      <a:pt x="522" y="214"/>
                    </a:lnTo>
                    <a:lnTo>
                      <a:pt x="505" y="214"/>
                    </a:lnTo>
                    <a:lnTo>
                      <a:pt x="505" y="205"/>
                    </a:lnTo>
                    <a:lnTo>
                      <a:pt x="518" y="210"/>
                    </a:lnTo>
                    <a:lnTo>
                      <a:pt x="518" y="188"/>
                    </a:lnTo>
                    <a:lnTo>
                      <a:pt x="531" y="192"/>
                    </a:lnTo>
                    <a:lnTo>
                      <a:pt x="535" y="166"/>
                    </a:lnTo>
                    <a:lnTo>
                      <a:pt x="526" y="157"/>
                    </a:lnTo>
                    <a:lnTo>
                      <a:pt x="526" y="179"/>
                    </a:lnTo>
                    <a:lnTo>
                      <a:pt x="522" y="170"/>
                    </a:lnTo>
                    <a:lnTo>
                      <a:pt x="509" y="179"/>
                    </a:lnTo>
                    <a:lnTo>
                      <a:pt x="505" y="192"/>
                    </a:lnTo>
                    <a:lnTo>
                      <a:pt x="491" y="192"/>
                    </a:lnTo>
                    <a:lnTo>
                      <a:pt x="474" y="210"/>
                    </a:lnTo>
                    <a:lnTo>
                      <a:pt x="456" y="223"/>
                    </a:lnTo>
                    <a:lnTo>
                      <a:pt x="483" y="227"/>
                    </a:lnTo>
                    <a:lnTo>
                      <a:pt x="461" y="232"/>
                    </a:lnTo>
                    <a:lnTo>
                      <a:pt x="447" y="227"/>
                    </a:lnTo>
                    <a:lnTo>
                      <a:pt x="474" y="192"/>
                    </a:lnTo>
                    <a:lnTo>
                      <a:pt x="491" y="183"/>
                    </a:lnTo>
                    <a:lnTo>
                      <a:pt x="505" y="166"/>
                    </a:lnTo>
                    <a:lnTo>
                      <a:pt x="509" y="179"/>
                    </a:lnTo>
                    <a:lnTo>
                      <a:pt x="522" y="166"/>
                    </a:lnTo>
                    <a:lnTo>
                      <a:pt x="526" y="144"/>
                    </a:lnTo>
                    <a:lnTo>
                      <a:pt x="526" y="131"/>
                    </a:lnTo>
                    <a:lnTo>
                      <a:pt x="522" y="144"/>
                    </a:lnTo>
                    <a:lnTo>
                      <a:pt x="518" y="144"/>
                    </a:lnTo>
                    <a:lnTo>
                      <a:pt x="522" y="122"/>
                    </a:lnTo>
                    <a:lnTo>
                      <a:pt x="513" y="122"/>
                    </a:lnTo>
                    <a:lnTo>
                      <a:pt x="513" y="140"/>
                    </a:lnTo>
                    <a:lnTo>
                      <a:pt x="505" y="144"/>
                    </a:lnTo>
                    <a:lnTo>
                      <a:pt x="505" y="127"/>
                    </a:lnTo>
                    <a:lnTo>
                      <a:pt x="500" y="122"/>
                    </a:lnTo>
                    <a:lnTo>
                      <a:pt x="496" y="131"/>
                    </a:lnTo>
                    <a:lnTo>
                      <a:pt x="483" y="113"/>
                    </a:lnTo>
                    <a:lnTo>
                      <a:pt x="461" y="109"/>
                    </a:lnTo>
                    <a:lnTo>
                      <a:pt x="390" y="78"/>
                    </a:lnTo>
                    <a:lnTo>
                      <a:pt x="342" y="30"/>
                    </a:lnTo>
                    <a:lnTo>
                      <a:pt x="329" y="61"/>
                    </a:lnTo>
                    <a:lnTo>
                      <a:pt x="329" y="100"/>
                    </a:lnTo>
                    <a:lnTo>
                      <a:pt x="342" y="131"/>
                    </a:lnTo>
                    <a:lnTo>
                      <a:pt x="338" y="166"/>
                    </a:lnTo>
                    <a:lnTo>
                      <a:pt x="333" y="192"/>
                    </a:lnTo>
                    <a:lnTo>
                      <a:pt x="338" y="210"/>
                    </a:lnTo>
                    <a:lnTo>
                      <a:pt x="333" y="254"/>
                    </a:lnTo>
                    <a:lnTo>
                      <a:pt x="346" y="245"/>
                    </a:lnTo>
                    <a:lnTo>
                      <a:pt x="364" y="262"/>
                    </a:lnTo>
                    <a:lnTo>
                      <a:pt x="342" y="262"/>
                    </a:lnTo>
                    <a:lnTo>
                      <a:pt x="329" y="262"/>
                    </a:lnTo>
                    <a:lnTo>
                      <a:pt x="329" y="280"/>
                    </a:lnTo>
                    <a:lnTo>
                      <a:pt x="329" y="293"/>
                    </a:lnTo>
                    <a:lnTo>
                      <a:pt x="346" y="293"/>
                    </a:lnTo>
                    <a:lnTo>
                      <a:pt x="346" y="302"/>
                    </a:lnTo>
                    <a:lnTo>
                      <a:pt x="333" y="306"/>
                    </a:lnTo>
                    <a:lnTo>
                      <a:pt x="338" y="324"/>
                    </a:lnTo>
                    <a:lnTo>
                      <a:pt x="324" y="346"/>
                    </a:lnTo>
                    <a:lnTo>
                      <a:pt x="320" y="346"/>
                    </a:lnTo>
                    <a:lnTo>
                      <a:pt x="329" y="315"/>
                    </a:lnTo>
                    <a:lnTo>
                      <a:pt x="320" y="306"/>
                    </a:lnTo>
                    <a:lnTo>
                      <a:pt x="307" y="350"/>
                    </a:lnTo>
                    <a:lnTo>
                      <a:pt x="329" y="367"/>
                    </a:lnTo>
                    <a:lnTo>
                      <a:pt x="364" y="385"/>
                    </a:lnTo>
                    <a:lnTo>
                      <a:pt x="307" y="363"/>
                    </a:lnTo>
                    <a:lnTo>
                      <a:pt x="184" y="713"/>
                    </a:lnTo>
                    <a:lnTo>
                      <a:pt x="109" y="832"/>
                    </a:lnTo>
                    <a:lnTo>
                      <a:pt x="96" y="981"/>
                    </a:lnTo>
                    <a:lnTo>
                      <a:pt x="79" y="1007"/>
                    </a:lnTo>
                    <a:lnTo>
                      <a:pt x="83" y="1064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33280" y="1531800"/>
                <a:ext cx="12600" cy="0"/>
              </a:xfrm>
              <a:custGeom>
                <a:avLst/>
                <a:gdLst/>
                <a:ahLst/>
                <a:rect l="0" t="0" r="r" b="b"/>
                <a:pathLst>
                  <a:path w="35" h="0">
                    <a:moveTo>
                      <a:pt x="0" y="0"/>
                    </a:moveTo>
                    <a:lnTo>
                      <a:pt x="10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64960" y="1527120"/>
                <a:ext cx="3600" cy="1800"/>
              </a:xfrm>
              <a:custGeom>
                <a:avLst/>
                <a:gdLst/>
                <a:ahLst/>
                <a:rect l="0" t="0" r="r" b="b"/>
                <a:pathLst>
                  <a:path w="10" h="5">
                    <a:moveTo>
                      <a:pt x="0" y="0"/>
                    </a:moveTo>
                    <a:lnTo>
                      <a:pt x="3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93760" y="1515960"/>
                <a:ext cx="12600" cy="0"/>
              </a:xfrm>
              <a:custGeom>
                <a:avLst/>
                <a:gdLst/>
                <a:ahLst/>
                <a:rect l="0" t="0" r="r" b="b"/>
                <a:pathLst>
                  <a:path w="35" h="0">
                    <a:moveTo>
                      <a:pt x="0" y="0"/>
                    </a:moveTo>
                    <a:lnTo>
                      <a:pt x="7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16080" y="1176480"/>
                <a:ext cx="419400" cy="351360"/>
              </a:xfrm>
              <a:custGeom>
                <a:avLst/>
                <a:gdLst/>
                <a:ahLst/>
                <a:rect l="0" t="0" r="r" b="b"/>
                <a:pathLst>
                  <a:path w="1165" h="976">
                    <a:moveTo>
                      <a:pt x="0" y="933"/>
                    </a:moveTo>
                    <a:lnTo>
                      <a:pt x="12" y="916"/>
                    </a:lnTo>
                    <a:lnTo>
                      <a:pt x="17" y="916"/>
                    </a:lnTo>
                    <a:lnTo>
                      <a:pt x="64" y="882"/>
                    </a:lnTo>
                    <a:lnTo>
                      <a:pt x="94" y="890"/>
                    </a:lnTo>
                    <a:lnTo>
                      <a:pt x="103" y="903"/>
                    </a:lnTo>
                    <a:lnTo>
                      <a:pt x="107" y="890"/>
                    </a:lnTo>
                    <a:lnTo>
                      <a:pt x="137" y="873"/>
                    </a:lnTo>
                    <a:lnTo>
                      <a:pt x="181" y="852"/>
                    </a:lnTo>
                    <a:lnTo>
                      <a:pt x="219" y="821"/>
                    </a:lnTo>
                    <a:lnTo>
                      <a:pt x="232" y="826"/>
                    </a:lnTo>
                    <a:lnTo>
                      <a:pt x="237" y="779"/>
                    </a:lnTo>
                    <a:lnTo>
                      <a:pt x="263" y="744"/>
                    </a:lnTo>
                    <a:lnTo>
                      <a:pt x="219" y="749"/>
                    </a:lnTo>
                    <a:lnTo>
                      <a:pt x="224" y="730"/>
                    </a:lnTo>
                    <a:lnTo>
                      <a:pt x="237" y="736"/>
                    </a:lnTo>
                    <a:lnTo>
                      <a:pt x="224" y="726"/>
                    </a:lnTo>
                    <a:lnTo>
                      <a:pt x="206" y="744"/>
                    </a:lnTo>
                    <a:lnTo>
                      <a:pt x="202" y="757"/>
                    </a:lnTo>
                    <a:lnTo>
                      <a:pt x="181" y="726"/>
                    </a:lnTo>
                    <a:lnTo>
                      <a:pt x="168" y="730"/>
                    </a:lnTo>
                    <a:lnTo>
                      <a:pt x="159" y="717"/>
                    </a:lnTo>
                    <a:lnTo>
                      <a:pt x="125" y="726"/>
                    </a:lnTo>
                    <a:lnTo>
                      <a:pt x="116" y="726"/>
                    </a:lnTo>
                    <a:lnTo>
                      <a:pt x="90" y="722"/>
                    </a:lnTo>
                    <a:lnTo>
                      <a:pt x="120" y="700"/>
                    </a:lnTo>
                    <a:lnTo>
                      <a:pt x="112" y="696"/>
                    </a:lnTo>
                    <a:lnTo>
                      <a:pt x="120" y="679"/>
                    </a:lnTo>
                    <a:lnTo>
                      <a:pt x="116" y="632"/>
                    </a:lnTo>
                    <a:lnTo>
                      <a:pt x="129" y="606"/>
                    </a:lnTo>
                    <a:lnTo>
                      <a:pt x="107" y="623"/>
                    </a:lnTo>
                    <a:lnTo>
                      <a:pt x="107" y="640"/>
                    </a:lnTo>
                    <a:lnTo>
                      <a:pt x="81" y="653"/>
                    </a:lnTo>
                    <a:lnTo>
                      <a:pt x="60" y="644"/>
                    </a:lnTo>
                    <a:lnTo>
                      <a:pt x="51" y="602"/>
                    </a:lnTo>
                    <a:lnTo>
                      <a:pt x="34" y="593"/>
                    </a:lnTo>
                    <a:lnTo>
                      <a:pt x="34" y="576"/>
                    </a:lnTo>
                    <a:lnTo>
                      <a:pt x="43" y="576"/>
                    </a:lnTo>
                    <a:lnTo>
                      <a:pt x="51" y="571"/>
                    </a:lnTo>
                    <a:lnTo>
                      <a:pt x="60" y="567"/>
                    </a:lnTo>
                    <a:lnTo>
                      <a:pt x="51" y="567"/>
                    </a:lnTo>
                    <a:lnTo>
                      <a:pt x="60" y="559"/>
                    </a:lnTo>
                    <a:lnTo>
                      <a:pt x="47" y="546"/>
                    </a:lnTo>
                    <a:lnTo>
                      <a:pt x="43" y="550"/>
                    </a:lnTo>
                    <a:lnTo>
                      <a:pt x="30" y="520"/>
                    </a:lnTo>
                    <a:lnTo>
                      <a:pt x="34" y="503"/>
                    </a:lnTo>
                    <a:lnTo>
                      <a:pt x="90" y="468"/>
                    </a:lnTo>
                    <a:lnTo>
                      <a:pt x="103" y="443"/>
                    </a:lnTo>
                    <a:lnTo>
                      <a:pt x="116" y="438"/>
                    </a:lnTo>
                    <a:lnTo>
                      <a:pt x="142" y="451"/>
                    </a:lnTo>
                    <a:lnTo>
                      <a:pt x="159" y="451"/>
                    </a:lnTo>
                    <a:lnTo>
                      <a:pt x="163" y="438"/>
                    </a:lnTo>
                    <a:lnTo>
                      <a:pt x="206" y="443"/>
                    </a:lnTo>
                    <a:lnTo>
                      <a:pt x="211" y="400"/>
                    </a:lnTo>
                    <a:lnTo>
                      <a:pt x="202" y="387"/>
                    </a:lnTo>
                    <a:lnTo>
                      <a:pt x="228" y="374"/>
                    </a:lnTo>
                    <a:lnTo>
                      <a:pt x="206" y="365"/>
                    </a:lnTo>
                    <a:lnTo>
                      <a:pt x="172" y="387"/>
                    </a:lnTo>
                    <a:lnTo>
                      <a:pt x="168" y="365"/>
                    </a:lnTo>
                    <a:lnTo>
                      <a:pt x="112" y="361"/>
                    </a:lnTo>
                    <a:lnTo>
                      <a:pt x="81" y="340"/>
                    </a:lnTo>
                    <a:lnTo>
                      <a:pt x="77" y="301"/>
                    </a:lnTo>
                    <a:lnTo>
                      <a:pt x="99" y="310"/>
                    </a:lnTo>
                    <a:lnTo>
                      <a:pt x="60" y="267"/>
                    </a:lnTo>
                    <a:lnTo>
                      <a:pt x="163" y="245"/>
                    </a:lnTo>
                    <a:lnTo>
                      <a:pt x="181" y="250"/>
                    </a:lnTo>
                    <a:lnTo>
                      <a:pt x="163" y="271"/>
                    </a:lnTo>
                    <a:lnTo>
                      <a:pt x="219" y="292"/>
                    </a:lnTo>
                    <a:lnTo>
                      <a:pt x="250" y="288"/>
                    </a:lnTo>
                    <a:lnTo>
                      <a:pt x="241" y="280"/>
                    </a:lnTo>
                    <a:lnTo>
                      <a:pt x="224" y="271"/>
                    </a:lnTo>
                    <a:lnTo>
                      <a:pt x="211" y="231"/>
                    </a:lnTo>
                    <a:lnTo>
                      <a:pt x="228" y="250"/>
                    </a:lnTo>
                    <a:lnTo>
                      <a:pt x="232" y="271"/>
                    </a:lnTo>
                    <a:lnTo>
                      <a:pt x="258" y="284"/>
                    </a:lnTo>
                    <a:lnTo>
                      <a:pt x="280" y="280"/>
                    </a:lnTo>
                    <a:lnTo>
                      <a:pt x="275" y="267"/>
                    </a:lnTo>
                    <a:lnTo>
                      <a:pt x="237" y="262"/>
                    </a:lnTo>
                    <a:lnTo>
                      <a:pt x="241" y="231"/>
                    </a:lnTo>
                    <a:lnTo>
                      <a:pt x="194" y="218"/>
                    </a:lnTo>
                    <a:lnTo>
                      <a:pt x="194" y="188"/>
                    </a:lnTo>
                    <a:lnTo>
                      <a:pt x="181" y="163"/>
                    </a:lnTo>
                    <a:lnTo>
                      <a:pt x="146" y="124"/>
                    </a:lnTo>
                    <a:lnTo>
                      <a:pt x="159" y="120"/>
                    </a:lnTo>
                    <a:lnTo>
                      <a:pt x="176" y="94"/>
                    </a:lnTo>
                    <a:lnTo>
                      <a:pt x="211" y="107"/>
                    </a:lnTo>
                    <a:lnTo>
                      <a:pt x="245" y="94"/>
                    </a:lnTo>
                    <a:lnTo>
                      <a:pt x="288" y="38"/>
                    </a:lnTo>
                    <a:lnTo>
                      <a:pt x="301" y="47"/>
                    </a:lnTo>
                    <a:lnTo>
                      <a:pt x="332" y="30"/>
                    </a:lnTo>
                    <a:lnTo>
                      <a:pt x="332" y="42"/>
                    </a:lnTo>
                    <a:lnTo>
                      <a:pt x="344" y="38"/>
                    </a:lnTo>
                    <a:lnTo>
                      <a:pt x="340" y="30"/>
                    </a:lnTo>
                    <a:lnTo>
                      <a:pt x="379" y="25"/>
                    </a:lnTo>
                    <a:lnTo>
                      <a:pt x="409" y="0"/>
                    </a:lnTo>
                    <a:lnTo>
                      <a:pt x="426" y="17"/>
                    </a:lnTo>
                    <a:lnTo>
                      <a:pt x="422" y="38"/>
                    </a:lnTo>
                    <a:lnTo>
                      <a:pt x="435" y="38"/>
                    </a:lnTo>
                    <a:lnTo>
                      <a:pt x="444" y="21"/>
                    </a:lnTo>
                    <a:lnTo>
                      <a:pt x="461" y="47"/>
                    </a:lnTo>
                    <a:lnTo>
                      <a:pt x="491" y="47"/>
                    </a:lnTo>
                    <a:lnTo>
                      <a:pt x="500" y="68"/>
                    </a:lnTo>
                    <a:lnTo>
                      <a:pt x="556" y="77"/>
                    </a:lnTo>
                    <a:lnTo>
                      <a:pt x="556" y="90"/>
                    </a:lnTo>
                    <a:lnTo>
                      <a:pt x="573" y="81"/>
                    </a:lnTo>
                    <a:lnTo>
                      <a:pt x="587" y="98"/>
                    </a:lnTo>
                    <a:lnTo>
                      <a:pt x="621" y="94"/>
                    </a:lnTo>
                    <a:lnTo>
                      <a:pt x="652" y="107"/>
                    </a:lnTo>
                    <a:lnTo>
                      <a:pt x="677" y="94"/>
                    </a:lnTo>
                    <a:lnTo>
                      <a:pt x="677" y="103"/>
                    </a:lnTo>
                    <a:lnTo>
                      <a:pt x="690" y="98"/>
                    </a:lnTo>
                    <a:lnTo>
                      <a:pt x="738" y="120"/>
                    </a:lnTo>
                    <a:lnTo>
                      <a:pt x="777" y="687"/>
                    </a:lnTo>
                    <a:lnTo>
                      <a:pt x="833" y="687"/>
                    </a:lnTo>
                    <a:lnTo>
                      <a:pt x="833" y="700"/>
                    </a:lnTo>
                    <a:lnTo>
                      <a:pt x="846" y="717"/>
                    </a:lnTo>
                    <a:lnTo>
                      <a:pt x="884" y="744"/>
                    </a:lnTo>
                    <a:lnTo>
                      <a:pt x="893" y="757"/>
                    </a:lnTo>
                    <a:lnTo>
                      <a:pt x="915" y="744"/>
                    </a:lnTo>
                    <a:lnTo>
                      <a:pt x="928" y="722"/>
                    </a:lnTo>
                    <a:lnTo>
                      <a:pt x="940" y="709"/>
                    </a:lnTo>
                    <a:lnTo>
                      <a:pt x="945" y="705"/>
                    </a:lnTo>
                    <a:lnTo>
                      <a:pt x="962" y="722"/>
                    </a:lnTo>
                    <a:lnTo>
                      <a:pt x="962" y="736"/>
                    </a:lnTo>
                    <a:lnTo>
                      <a:pt x="975" y="736"/>
                    </a:lnTo>
                    <a:lnTo>
                      <a:pt x="979" y="740"/>
                    </a:lnTo>
                    <a:lnTo>
                      <a:pt x="988" y="749"/>
                    </a:lnTo>
                    <a:lnTo>
                      <a:pt x="1009" y="761"/>
                    </a:lnTo>
                    <a:lnTo>
                      <a:pt x="1091" y="877"/>
                    </a:lnTo>
                    <a:lnTo>
                      <a:pt x="1117" y="882"/>
                    </a:lnTo>
                    <a:lnTo>
                      <a:pt x="1160" y="899"/>
                    </a:lnTo>
                    <a:lnTo>
                      <a:pt x="1165" y="907"/>
                    </a:lnTo>
                    <a:lnTo>
                      <a:pt x="1152" y="916"/>
                    </a:lnTo>
                    <a:lnTo>
                      <a:pt x="1156" y="937"/>
                    </a:lnTo>
                    <a:lnTo>
                      <a:pt x="1147" y="976"/>
                    </a:lnTo>
                    <a:lnTo>
                      <a:pt x="1143" y="963"/>
                    </a:lnTo>
                    <a:lnTo>
                      <a:pt x="1134" y="976"/>
                    </a:lnTo>
                    <a:lnTo>
                      <a:pt x="1126" y="963"/>
                    </a:lnTo>
                    <a:lnTo>
                      <a:pt x="1139" y="955"/>
                    </a:lnTo>
                    <a:lnTo>
                      <a:pt x="1130" y="942"/>
                    </a:lnTo>
                    <a:lnTo>
                      <a:pt x="1130" y="933"/>
                    </a:lnTo>
                    <a:lnTo>
                      <a:pt x="1117" y="907"/>
                    </a:lnTo>
                    <a:lnTo>
                      <a:pt x="1104" y="907"/>
                    </a:lnTo>
                    <a:lnTo>
                      <a:pt x="1091" y="916"/>
                    </a:lnTo>
                    <a:lnTo>
                      <a:pt x="1091" y="929"/>
                    </a:lnTo>
                    <a:lnTo>
                      <a:pt x="1083" y="933"/>
                    </a:lnTo>
                    <a:lnTo>
                      <a:pt x="1083" y="929"/>
                    </a:lnTo>
                    <a:lnTo>
                      <a:pt x="1087" y="912"/>
                    </a:lnTo>
                    <a:lnTo>
                      <a:pt x="1091" y="899"/>
                    </a:lnTo>
                    <a:lnTo>
                      <a:pt x="1083" y="907"/>
                    </a:lnTo>
                    <a:lnTo>
                      <a:pt x="1083" y="916"/>
                    </a:lnTo>
                    <a:lnTo>
                      <a:pt x="1053" y="899"/>
                    </a:lnTo>
                    <a:lnTo>
                      <a:pt x="1053" y="894"/>
                    </a:lnTo>
                    <a:lnTo>
                      <a:pt x="1065" y="894"/>
                    </a:lnTo>
                    <a:lnTo>
                      <a:pt x="1065" y="882"/>
                    </a:lnTo>
                    <a:lnTo>
                      <a:pt x="1083" y="877"/>
                    </a:lnTo>
                    <a:lnTo>
                      <a:pt x="1078" y="873"/>
                    </a:lnTo>
                    <a:lnTo>
                      <a:pt x="1061" y="873"/>
                    </a:lnTo>
                    <a:lnTo>
                      <a:pt x="1057" y="852"/>
                    </a:lnTo>
                    <a:lnTo>
                      <a:pt x="1022" y="852"/>
                    </a:lnTo>
                    <a:lnTo>
                      <a:pt x="1018" y="830"/>
                    </a:lnTo>
                    <a:lnTo>
                      <a:pt x="1022" y="809"/>
                    </a:lnTo>
                    <a:lnTo>
                      <a:pt x="1018" y="813"/>
                    </a:lnTo>
                    <a:lnTo>
                      <a:pt x="1009" y="800"/>
                    </a:lnTo>
                    <a:lnTo>
                      <a:pt x="1005" y="800"/>
                    </a:lnTo>
                    <a:lnTo>
                      <a:pt x="1001" y="796"/>
                    </a:lnTo>
                    <a:lnTo>
                      <a:pt x="1009" y="779"/>
                    </a:lnTo>
                    <a:lnTo>
                      <a:pt x="1001" y="774"/>
                    </a:lnTo>
                    <a:lnTo>
                      <a:pt x="997" y="787"/>
                    </a:lnTo>
                    <a:lnTo>
                      <a:pt x="988" y="791"/>
                    </a:lnTo>
                    <a:lnTo>
                      <a:pt x="975" y="783"/>
                    </a:lnTo>
                    <a:lnTo>
                      <a:pt x="975" y="770"/>
                    </a:lnTo>
                    <a:lnTo>
                      <a:pt x="958" y="749"/>
                    </a:lnTo>
                    <a:lnTo>
                      <a:pt x="958" y="736"/>
                    </a:lnTo>
                    <a:lnTo>
                      <a:pt x="953" y="736"/>
                    </a:lnTo>
                    <a:lnTo>
                      <a:pt x="949" y="722"/>
                    </a:lnTo>
                    <a:lnTo>
                      <a:pt x="949" y="726"/>
                    </a:lnTo>
                    <a:lnTo>
                      <a:pt x="958" y="757"/>
                    </a:lnTo>
                    <a:lnTo>
                      <a:pt x="966" y="783"/>
                    </a:lnTo>
                    <a:lnTo>
                      <a:pt x="1014" y="817"/>
                    </a:lnTo>
                    <a:lnTo>
                      <a:pt x="1014" y="826"/>
                    </a:lnTo>
                    <a:lnTo>
                      <a:pt x="1001" y="821"/>
                    </a:lnTo>
                    <a:lnTo>
                      <a:pt x="1001" y="830"/>
                    </a:lnTo>
                    <a:lnTo>
                      <a:pt x="1009" y="826"/>
                    </a:lnTo>
                    <a:lnTo>
                      <a:pt x="1014" y="852"/>
                    </a:lnTo>
                    <a:lnTo>
                      <a:pt x="1040" y="864"/>
                    </a:lnTo>
                    <a:lnTo>
                      <a:pt x="1053" y="882"/>
                    </a:lnTo>
                    <a:lnTo>
                      <a:pt x="1022" y="894"/>
                    </a:lnTo>
                    <a:lnTo>
                      <a:pt x="1009" y="933"/>
                    </a:lnTo>
                    <a:lnTo>
                      <a:pt x="997" y="864"/>
                    </a:lnTo>
                    <a:lnTo>
                      <a:pt x="992" y="860"/>
                    </a:lnTo>
                    <a:lnTo>
                      <a:pt x="992" y="847"/>
                    </a:lnTo>
                    <a:lnTo>
                      <a:pt x="997" y="839"/>
                    </a:lnTo>
                    <a:lnTo>
                      <a:pt x="966" y="791"/>
                    </a:lnTo>
                    <a:lnTo>
                      <a:pt x="958" y="791"/>
                    </a:lnTo>
                    <a:lnTo>
                      <a:pt x="953" y="783"/>
                    </a:lnTo>
                    <a:lnTo>
                      <a:pt x="945" y="787"/>
                    </a:lnTo>
                    <a:lnTo>
                      <a:pt x="940" y="783"/>
                    </a:lnTo>
                    <a:lnTo>
                      <a:pt x="932" y="753"/>
                    </a:lnTo>
                    <a:lnTo>
                      <a:pt x="928" y="766"/>
                    </a:lnTo>
                    <a:lnTo>
                      <a:pt x="910" y="757"/>
                    </a:lnTo>
                    <a:lnTo>
                      <a:pt x="906" y="761"/>
                    </a:lnTo>
                    <a:lnTo>
                      <a:pt x="932" y="779"/>
                    </a:lnTo>
                    <a:lnTo>
                      <a:pt x="919" y="783"/>
                    </a:lnTo>
                    <a:lnTo>
                      <a:pt x="919" y="796"/>
                    </a:lnTo>
                    <a:lnTo>
                      <a:pt x="902" y="787"/>
                    </a:lnTo>
                    <a:lnTo>
                      <a:pt x="871" y="757"/>
                    </a:lnTo>
                    <a:lnTo>
                      <a:pt x="828" y="740"/>
                    </a:lnTo>
                    <a:lnTo>
                      <a:pt x="798" y="740"/>
                    </a:lnTo>
                    <a:lnTo>
                      <a:pt x="820" y="713"/>
                    </a:lnTo>
                    <a:lnTo>
                      <a:pt x="833" y="726"/>
                    </a:lnTo>
                    <a:lnTo>
                      <a:pt x="833" y="713"/>
                    </a:lnTo>
                    <a:lnTo>
                      <a:pt x="815" y="700"/>
                    </a:lnTo>
                    <a:lnTo>
                      <a:pt x="802" y="722"/>
                    </a:lnTo>
                    <a:lnTo>
                      <a:pt x="777" y="722"/>
                    </a:lnTo>
                    <a:lnTo>
                      <a:pt x="673" y="713"/>
                    </a:lnTo>
                    <a:lnTo>
                      <a:pt x="677" y="696"/>
                    </a:lnTo>
                    <a:lnTo>
                      <a:pt x="669" y="700"/>
                    </a:lnTo>
                    <a:lnTo>
                      <a:pt x="652" y="683"/>
                    </a:lnTo>
                    <a:lnTo>
                      <a:pt x="634" y="692"/>
                    </a:lnTo>
                    <a:lnTo>
                      <a:pt x="630" y="679"/>
                    </a:lnTo>
                    <a:lnTo>
                      <a:pt x="600" y="696"/>
                    </a:lnTo>
                    <a:lnTo>
                      <a:pt x="600" y="683"/>
                    </a:lnTo>
                    <a:lnTo>
                      <a:pt x="613" y="666"/>
                    </a:lnTo>
                    <a:lnTo>
                      <a:pt x="604" y="666"/>
                    </a:lnTo>
                    <a:lnTo>
                      <a:pt x="617" y="657"/>
                    </a:lnTo>
                    <a:lnTo>
                      <a:pt x="583" y="662"/>
                    </a:lnTo>
                    <a:lnTo>
                      <a:pt x="573" y="653"/>
                    </a:lnTo>
                    <a:lnTo>
                      <a:pt x="560" y="657"/>
                    </a:lnTo>
                    <a:lnTo>
                      <a:pt x="556" y="653"/>
                    </a:lnTo>
                    <a:lnTo>
                      <a:pt x="569" y="644"/>
                    </a:lnTo>
                    <a:lnTo>
                      <a:pt x="547" y="644"/>
                    </a:lnTo>
                    <a:lnTo>
                      <a:pt x="551" y="653"/>
                    </a:lnTo>
                    <a:lnTo>
                      <a:pt x="538" y="657"/>
                    </a:lnTo>
                    <a:lnTo>
                      <a:pt x="551" y="657"/>
                    </a:lnTo>
                    <a:lnTo>
                      <a:pt x="547" y="675"/>
                    </a:lnTo>
                    <a:lnTo>
                      <a:pt x="560" y="683"/>
                    </a:lnTo>
                    <a:lnTo>
                      <a:pt x="577" y="687"/>
                    </a:lnTo>
                    <a:lnTo>
                      <a:pt x="596" y="683"/>
                    </a:lnTo>
                    <a:lnTo>
                      <a:pt x="591" y="722"/>
                    </a:lnTo>
                    <a:lnTo>
                      <a:pt x="556" y="722"/>
                    </a:lnTo>
                    <a:lnTo>
                      <a:pt x="556" y="709"/>
                    </a:lnTo>
                    <a:lnTo>
                      <a:pt x="547" y="705"/>
                    </a:lnTo>
                    <a:lnTo>
                      <a:pt x="526" y="717"/>
                    </a:lnTo>
                    <a:lnTo>
                      <a:pt x="526" y="705"/>
                    </a:lnTo>
                    <a:lnTo>
                      <a:pt x="517" y="713"/>
                    </a:lnTo>
                    <a:lnTo>
                      <a:pt x="513" y="700"/>
                    </a:lnTo>
                    <a:lnTo>
                      <a:pt x="491" y="700"/>
                    </a:lnTo>
                    <a:lnTo>
                      <a:pt x="508" y="722"/>
                    </a:lnTo>
                    <a:lnTo>
                      <a:pt x="504" y="726"/>
                    </a:lnTo>
                    <a:lnTo>
                      <a:pt x="500" y="722"/>
                    </a:lnTo>
                    <a:lnTo>
                      <a:pt x="474" y="736"/>
                    </a:lnTo>
                    <a:lnTo>
                      <a:pt x="469" y="726"/>
                    </a:lnTo>
                    <a:lnTo>
                      <a:pt x="457" y="757"/>
                    </a:lnTo>
                    <a:lnTo>
                      <a:pt x="448" y="744"/>
                    </a:lnTo>
                    <a:lnTo>
                      <a:pt x="444" y="753"/>
                    </a:lnTo>
                    <a:lnTo>
                      <a:pt x="426" y="749"/>
                    </a:lnTo>
                    <a:lnTo>
                      <a:pt x="426" y="736"/>
                    </a:lnTo>
                    <a:lnTo>
                      <a:pt x="444" y="736"/>
                    </a:lnTo>
                    <a:lnTo>
                      <a:pt x="457" y="722"/>
                    </a:lnTo>
                    <a:lnTo>
                      <a:pt x="426" y="722"/>
                    </a:lnTo>
                    <a:lnTo>
                      <a:pt x="452" y="657"/>
                    </a:lnTo>
                    <a:lnTo>
                      <a:pt x="500" y="644"/>
                    </a:lnTo>
                    <a:lnTo>
                      <a:pt x="491" y="632"/>
                    </a:lnTo>
                    <a:lnTo>
                      <a:pt x="521" y="614"/>
                    </a:lnTo>
                    <a:lnTo>
                      <a:pt x="487" y="627"/>
                    </a:lnTo>
                    <a:lnTo>
                      <a:pt x="491" y="593"/>
                    </a:lnTo>
                    <a:lnTo>
                      <a:pt x="469" y="632"/>
                    </a:lnTo>
                    <a:lnTo>
                      <a:pt x="444" y="644"/>
                    </a:lnTo>
                    <a:lnTo>
                      <a:pt x="413" y="679"/>
                    </a:lnTo>
                    <a:lnTo>
                      <a:pt x="396" y="679"/>
                    </a:lnTo>
                    <a:lnTo>
                      <a:pt x="405" y="700"/>
                    </a:lnTo>
                    <a:lnTo>
                      <a:pt x="353" y="744"/>
                    </a:lnTo>
                    <a:lnTo>
                      <a:pt x="379" y="753"/>
                    </a:lnTo>
                    <a:lnTo>
                      <a:pt x="375" y="770"/>
                    </a:lnTo>
                    <a:lnTo>
                      <a:pt x="254" y="860"/>
                    </a:lnTo>
                    <a:lnTo>
                      <a:pt x="168" y="882"/>
                    </a:lnTo>
                    <a:lnTo>
                      <a:pt x="194" y="894"/>
                    </a:lnTo>
                    <a:lnTo>
                      <a:pt x="142" y="920"/>
                    </a:lnTo>
                    <a:lnTo>
                      <a:pt x="133" y="907"/>
                    </a:lnTo>
                    <a:lnTo>
                      <a:pt x="99" y="920"/>
                    </a:lnTo>
                    <a:lnTo>
                      <a:pt x="68" y="920"/>
                    </a:lnTo>
                    <a:lnTo>
                      <a:pt x="68" y="907"/>
                    </a:lnTo>
                    <a:lnTo>
                      <a:pt x="43" y="937"/>
                    </a:lnTo>
                    <a:lnTo>
                      <a:pt x="30" y="933"/>
                    </a:lnTo>
                    <a:lnTo>
                      <a:pt x="30" y="920"/>
                    </a:lnTo>
                    <a:lnTo>
                      <a:pt x="21" y="933"/>
                    </a:lnTo>
                    <a:lnTo>
                      <a:pt x="0" y="933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31920" y="127080"/>
                <a:ext cx="3600" cy="6840"/>
              </a:xfrm>
              <a:custGeom>
                <a:avLst/>
                <a:gdLst/>
                <a:ahLst/>
                <a:rect l="0" t="0" r="r" b="b"/>
                <a:pathLst>
                  <a:path w="10" h="19">
                    <a:moveTo>
                      <a:pt x="0" y="8"/>
                    </a:moveTo>
                    <a:lnTo>
                      <a:pt x="8" y="0"/>
                    </a:lnTo>
                    <a:lnTo>
                      <a:pt x="10" y="8"/>
                    </a:lnTo>
                    <a:lnTo>
                      <a:pt x="8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39840" y="149400"/>
                <a:ext cx="0" cy="12600"/>
              </a:xfrm>
              <a:custGeom>
                <a:avLst/>
                <a:gdLst/>
                <a:ahLst/>
                <a:rect l="0" t="0" r="r" b="b"/>
                <a:pathLst>
                  <a:path w="0" h="35">
                    <a:moveTo>
                      <a:pt x="0" y="7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30200" y="1468440"/>
                <a:ext cx="33840" cy="33840"/>
              </a:xfrm>
              <a:custGeom>
                <a:avLst/>
                <a:gdLst/>
                <a:ahLst/>
                <a:rect l="0" t="0" r="r" b="b"/>
                <a:pathLst>
                  <a:path w="94" h="94">
                    <a:moveTo>
                      <a:pt x="0" y="94"/>
                    </a:moveTo>
                    <a:lnTo>
                      <a:pt x="28" y="69"/>
                    </a:lnTo>
                    <a:lnTo>
                      <a:pt x="6" y="38"/>
                    </a:lnTo>
                    <a:lnTo>
                      <a:pt x="31" y="49"/>
                    </a:lnTo>
                    <a:lnTo>
                      <a:pt x="69" y="0"/>
                    </a:lnTo>
                    <a:lnTo>
                      <a:pt x="94" y="6"/>
                    </a:lnTo>
                    <a:lnTo>
                      <a:pt x="74" y="5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55560" y="1467000"/>
                <a:ext cx="16200" cy="38520"/>
              </a:xfrm>
              <a:custGeom>
                <a:avLst/>
                <a:gdLst/>
                <a:ahLst/>
                <a:rect l="0" t="0" r="r" b="b"/>
                <a:pathLst>
                  <a:path w="45" h="107">
                    <a:moveTo>
                      <a:pt x="0" y="29"/>
                    </a:moveTo>
                    <a:lnTo>
                      <a:pt x="11" y="0"/>
                    </a:lnTo>
                    <a:lnTo>
                      <a:pt x="34" y="29"/>
                    </a:lnTo>
                    <a:lnTo>
                      <a:pt x="45" y="10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93720" y="1514520"/>
                <a:ext cx="14760" cy="18000"/>
              </a:xfrm>
              <a:custGeom>
                <a:avLst/>
                <a:gdLst/>
                <a:ahLst/>
                <a:rect l="0" t="0" r="r" b="b"/>
                <a:pathLst>
                  <a:path w="41" h="50">
                    <a:moveTo>
                      <a:pt x="0" y="0"/>
                    </a:moveTo>
                    <a:lnTo>
                      <a:pt x="5" y="32"/>
                    </a:lnTo>
                    <a:lnTo>
                      <a:pt x="41" y="50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19280" y="151452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w="5" h="14">
                    <a:moveTo>
                      <a:pt x="5" y="14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2160" y="1343160"/>
                <a:ext cx="18000" cy="11520"/>
              </a:xfrm>
              <a:custGeom>
                <a:avLst/>
                <a:gdLst/>
                <a:ahLst/>
                <a:rect l="0" t="0" r="r" b="b"/>
                <a:pathLst>
                  <a:path w="50" h="32">
                    <a:moveTo>
                      <a:pt x="0" y="19"/>
                    </a:moveTo>
                    <a:lnTo>
                      <a:pt x="20" y="32"/>
                    </a:lnTo>
                    <a:lnTo>
                      <a:pt x="29" y="32"/>
                    </a:lnTo>
                    <a:lnTo>
                      <a:pt x="44" y="25"/>
                    </a:lnTo>
                    <a:lnTo>
                      <a:pt x="50" y="7"/>
                    </a:lnTo>
                    <a:lnTo>
                      <a:pt x="41" y="0"/>
                    </a:lnTo>
                    <a:lnTo>
                      <a:pt x="2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3160" y="1373040"/>
                <a:ext cx="20880" cy="16200"/>
              </a:xfrm>
              <a:custGeom>
                <a:avLst/>
                <a:gdLst/>
                <a:ahLst/>
                <a:rect l="0" t="0" r="r" b="b"/>
                <a:pathLst>
                  <a:path w="58" h="45">
                    <a:moveTo>
                      <a:pt x="0" y="11"/>
                    </a:moveTo>
                    <a:lnTo>
                      <a:pt x="12" y="39"/>
                    </a:lnTo>
                    <a:lnTo>
                      <a:pt x="24" y="39"/>
                    </a:lnTo>
                    <a:lnTo>
                      <a:pt x="24" y="31"/>
                    </a:lnTo>
                    <a:lnTo>
                      <a:pt x="43" y="45"/>
                    </a:lnTo>
                    <a:lnTo>
                      <a:pt x="58" y="42"/>
                    </a:lnTo>
                    <a:lnTo>
                      <a:pt x="55" y="28"/>
                    </a:lnTo>
                    <a:lnTo>
                      <a:pt x="43" y="25"/>
                    </a:lnTo>
                    <a:lnTo>
                      <a:pt x="31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49240" y="1398600"/>
                <a:ext cx="24120" cy="1800"/>
              </a:xfrm>
              <a:custGeom>
                <a:avLst/>
                <a:gdLst/>
                <a:ahLst/>
                <a:rect l="0" t="0" r="r" b="b"/>
                <a:pathLst>
                  <a:path w="67" h="5">
                    <a:moveTo>
                      <a:pt x="0" y="4"/>
                    </a:moveTo>
                    <a:lnTo>
                      <a:pt x="9" y="0"/>
                    </a:lnTo>
                    <a:lnTo>
                      <a:pt x="67" y="1"/>
                    </a:lnTo>
                    <a:lnTo>
                      <a:pt x="54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65080" y="14158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5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82720" y="1409760"/>
                <a:ext cx="30600" cy="14760"/>
              </a:xfrm>
              <a:custGeom>
                <a:avLst/>
                <a:gdLst/>
                <a:ahLst/>
                <a:rect l="0" t="0" r="r" b="b"/>
                <a:pathLst>
                  <a:path w="85" h="41">
                    <a:moveTo>
                      <a:pt x="0" y="7"/>
                    </a:moveTo>
                    <a:lnTo>
                      <a:pt x="13" y="0"/>
                    </a:lnTo>
                    <a:lnTo>
                      <a:pt x="24" y="7"/>
                    </a:lnTo>
                    <a:lnTo>
                      <a:pt x="51" y="7"/>
                    </a:lnTo>
                    <a:lnTo>
                      <a:pt x="85" y="27"/>
                    </a:lnTo>
                    <a:lnTo>
                      <a:pt x="72" y="33"/>
                    </a:lnTo>
                    <a:lnTo>
                      <a:pt x="34" y="41"/>
                    </a:lnTo>
                    <a:lnTo>
                      <a:pt x="27" y="22"/>
                    </a:lnTo>
                    <a:lnTo>
                      <a:pt x="13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17640" y="1450800"/>
                <a:ext cx="55800" cy="63720"/>
              </a:xfrm>
              <a:custGeom>
                <a:avLst/>
                <a:gdLst/>
                <a:ahLst/>
                <a:rect l="0" t="0" r="r" b="b"/>
                <a:pathLst>
                  <a:path w="155" h="177">
                    <a:moveTo>
                      <a:pt x="0" y="72"/>
                    </a:moveTo>
                    <a:lnTo>
                      <a:pt x="18" y="119"/>
                    </a:lnTo>
                    <a:lnTo>
                      <a:pt x="15" y="158"/>
                    </a:lnTo>
                    <a:lnTo>
                      <a:pt x="48" y="177"/>
                    </a:lnTo>
                    <a:lnTo>
                      <a:pt x="67" y="150"/>
                    </a:lnTo>
                    <a:lnTo>
                      <a:pt x="132" y="119"/>
                    </a:lnTo>
                    <a:lnTo>
                      <a:pt x="155" y="100"/>
                    </a:lnTo>
                    <a:lnTo>
                      <a:pt x="102" y="38"/>
                    </a:lnTo>
                    <a:lnTo>
                      <a:pt x="26" y="0"/>
                    </a:lnTo>
                    <a:lnTo>
                      <a:pt x="18" y="11"/>
                    </a:lnTo>
                    <a:lnTo>
                      <a:pt x="26" y="3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47840" y="576360"/>
                <a:ext cx="73440" cy="41760"/>
              </a:xfrm>
              <a:custGeom>
                <a:avLst/>
                <a:gdLst/>
                <a:ahLst/>
                <a:rect l="0" t="0" r="r" b="b"/>
                <a:pathLst>
                  <a:path w="204" h="116">
                    <a:moveTo>
                      <a:pt x="0" y="102"/>
                    </a:moveTo>
                    <a:lnTo>
                      <a:pt x="3" y="113"/>
                    </a:lnTo>
                    <a:lnTo>
                      <a:pt x="7" y="113"/>
                    </a:lnTo>
                    <a:lnTo>
                      <a:pt x="15" y="102"/>
                    </a:lnTo>
                    <a:lnTo>
                      <a:pt x="27" y="102"/>
                    </a:lnTo>
                    <a:lnTo>
                      <a:pt x="31" y="102"/>
                    </a:lnTo>
                    <a:lnTo>
                      <a:pt x="15" y="116"/>
                    </a:lnTo>
                    <a:lnTo>
                      <a:pt x="31" y="105"/>
                    </a:lnTo>
                    <a:lnTo>
                      <a:pt x="35" y="102"/>
                    </a:lnTo>
                    <a:lnTo>
                      <a:pt x="63" y="91"/>
                    </a:lnTo>
                    <a:lnTo>
                      <a:pt x="86" y="76"/>
                    </a:lnTo>
                    <a:lnTo>
                      <a:pt x="114" y="65"/>
                    </a:lnTo>
                    <a:lnTo>
                      <a:pt x="133" y="54"/>
                    </a:lnTo>
                    <a:lnTo>
                      <a:pt x="90" y="86"/>
                    </a:lnTo>
                    <a:lnTo>
                      <a:pt x="82" y="86"/>
                    </a:lnTo>
                    <a:lnTo>
                      <a:pt x="90" y="91"/>
                    </a:lnTo>
                    <a:lnTo>
                      <a:pt x="98" y="83"/>
                    </a:lnTo>
                    <a:lnTo>
                      <a:pt x="165" y="40"/>
                    </a:lnTo>
                    <a:lnTo>
                      <a:pt x="173" y="33"/>
                    </a:lnTo>
                    <a:lnTo>
                      <a:pt x="204" y="10"/>
                    </a:lnTo>
                    <a:lnTo>
                      <a:pt x="204" y="0"/>
                    </a:lnTo>
                    <a:lnTo>
                      <a:pt x="200" y="0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61" y="21"/>
                    </a:lnTo>
                    <a:lnTo>
                      <a:pt x="149" y="47"/>
                    </a:lnTo>
                    <a:lnTo>
                      <a:pt x="145" y="40"/>
                    </a:lnTo>
                    <a:lnTo>
                      <a:pt x="133" y="40"/>
                    </a:lnTo>
                    <a:lnTo>
                      <a:pt x="149" y="21"/>
                    </a:lnTo>
                    <a:lnTo>
                      <a:pt x="149" y="14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29" y="28"/>
                    </a:lnTo>
                    <a:lnTo>
                      <a:pt x="98" y="43"/>
                    </a:lnTo>
                    <a:lnTo>
                      <a:pt x="79" y="47"/>
                    </a:lnTo>
                    <a:lnTo>
                      <a:pt x="75" y="51"/>
                    </a:lnTo>
                    <a:lnTo>
                      <a:pt x="55" y="54"/>
                    </a:lnTo>
                    <a:lnTo>
                      <a:pt x="46" y="54"/>
                    </a:lnTo>
                    <a:lnTo>
                      <a:pt x="46" y="61"/>
                    </a:lnTo>
                    <a:lnTo>
                      <a:pt x="39" y="61"/>
                    </a:lnTo>
                    <a:lnTo>
                      <a:pt x="31" y="65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3" y="83"/>
                    </a:lnTo>
                    <a:lnTo>
                      <a:pt x="7" y="86"/>
                    </a:lnTo>
                    <a:lnTo>
                      <a:pt x="3" y="91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0240" y="541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w="10" h="10">
                    <a:moveTo>
                      <a:pt x="0" y="10"/>
                    </a:moveTo>
                    <a:lnTo>
                      <a:pt x="4" y="0"/>
                    </a:lnTo>
                    <a:lnTo>
                      <a:pt x="1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94000" y="53964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3" y="5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00160" y="399960"/>
            <a:ext cx="6800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19447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olbe</dc:creator>
  <dc:description/>
  <dc:language>en-US</dc:language>
  <cp:lastModifiedBy>Mike Kolbe</cp:lastModifiedBy>
  <cp:revision>0</cp:revision>
  <dc:subject/>
  <dc:title/>
</cp:coreProperties>
</file>