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5440" y="-358920"/>
            <a:ext cx="6631200" cy="7318440"/>
            <a:chOff x="325440" y="-358920"/>
            <a:chExt cx="6631200" cy="7318440"/>
          </a:xfrm>
        </p:grpSpPr>
        <p:sp>
          <p:nvSpPr>
            <p:cNvPr id="1" name=""/>
            <p:cNvSpPr/>
            <p:nvPr/>
          </p:nvSpPr>
          <p:spPr>
            <a:xfrm>
              <a:off x="730080" y="5979960"/>
              <a:ext cx="6226560" cy="425880"/>
            </a:xfrm>
            <a:custGeom>
              <a:avLst/>
              <a:gdLst/>
              <a:ahLst/>
              <a:rect l="0" t="0" r="r" b="b"/>
              <a:pathLst>
                <a:path w="17296" h="1183">
                  <a:moveTo>
                    <a:pt x="0" y="1183"/>
                  </a:moveTo>
                  <a:lnTo>
                    <a:pt x="17296" y="1183"/>
                  </a:lnTo>
                  <a:lnTo>
                    <a:pt x="16068" y="0"/>
                  </a:lnTo>
                  <a:lnTo>
                    <a:pt x="0" y="4"/>
                  </a:lnTo>
                  <a:lnTo>
                    <a:pt x="0" y="1183"/>
                  </a:lnTo>
                  <a:close/>
                </a:path>
              </a:pathLst>
            </a:custGeom>
            <a:solidFill>
              <a:srgbClr val="0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80880" y="3157560"/>
              <a:ext cx="346320" cy="3258000"/>
            </a:xfrm>
            <a:custGeom>
              <a:avLst/>
              <a:gdLst/>
              <a:ahLst/>
              <a:rect l="0" t="0" r="r" b="b"/>
              <a:pathLst>
                <a:path w="962" h="9050">
                  <a:moveTo>
                    <a:pt x="0" y="0"/>
                  </a:moveTo>
                  <a:lnTo>
                    <a:pt x="0" y="9050"/>
                  </a:lnTo>
                  <a:lnTo>
                    <a:pt x="962" y="9050"/>
                  </a:lnTo>
                  <a:lnTo>
                    <a:pt x="9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2680" y="-352440"/>
              <a:ext cx="641880" cy="3570480"/>
            </a:xfrm>
            <a:custGeom>
              <a:avLst/>
              <a:gdLst/>
              <a:ahLst/>
              <a:rect l="0" t="0" r="r" b="b"/>
              <a:pathLst>
                <a:path w="1783" h="9918">
                  <a:moveTo>
                    <a:pt x="0" y="0"/>
                  </a:moveTo>
                  <a:lnTo>
                    <a:pt x="978" y="0"/>
                  </a:lnTo>
                  <a:lnTo>
                    <a:pt x="1783" y="699"/>
                  </a:lnTo>
                  <a:lnTo>
                    <a:pt x="969" y="1402"/>
                  </a:lnTo>
                  <a:lnTo>
                    <a:pt x="1783" y="2106"/>
                  </a:lnTo>
                  <a:lnTo>
                    <a:pt x="969" y="2814"/>
                  </a:lnTo>
                  <a:lnTo>
                    <a:pt x="1761" y="3522"/>
                  </a:lnTo>
                  <a:lnTo>
                    <a:pt x="974" y="4226"/>
                  </a:lnTo>
                  <a:lnTo>
                    <a:pt x="1783" y="4930"/>
                  </a:lnTo>
                  <a:lnTo>
                    <a:pt x="969" y="5639"/>
                  </a:lnTo>
                  <a:lnTo>
                    <a:pt x="1774" y="6338"/>
                  </a:lnTo>
                  <a:lnTo>
                    <a:pt x="969" y="7046"/>
                  </a:lnTo>
                  <a:lnTo>
                    <a:pt x="1757" y="7767"/>
                  </a:lnTo>
                  <a:lnTo>
                    <a:pt x="978" y="8453"/>
                  </a:lnTo>
                  <a:lnTo>
                    <a:pt x="1774" y="9201"/>
                  </a:lnTo>
                  <a:lnTo>
                    <a:pt x="978" y="9918"/>
                  </a:lnTo>
                  <a:lnTo>
                    <a:pt x="0" y="99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0440" y="5815080"/>
              <a:ext cx="541800" cy="546480"/>
            </a:xfrm>
            <a:custGeom>
              <a:avLst/>
              <a:gdLst/>
              <a:ahLst/>
              <a:rect l="0" t="0" r="r" b="b"/>
              <a:pathLst>
                <a:path w="1505" h="1518">
                  <a:moveTo>
                    <a:pt x="0" y="763"/>
                  </a:moveTo>
                  <a:lnTo>
                    <a:pt x="755" y="1518"/>
                  </a:lnTo>
                  <a:lnTo>
                    <a:pt x="1505" y="763"/>
                  </a:lnTo>
                  <a:lnTo>
                    <a:pt x="755" y="0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c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25440" y="-358920"/>
              <a:ext cx="34920" cy="6770520"/>
            </a:xfrm>
            <a:prstGeom prst="rect">
              <a:avLst/>
            </a:prstGeom>
            <a:solidFill>
              <a:srgbClr val="004000"/>
            </a:solidFill>
            <a:ln w="12600">
              <a:solidFill>
                <a:srgbClr val="004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8360" y="2193840"/>
              <a:ext cx="269640" cy="252360"/>
            </a:xfrm>
            <a:prstGeom prst="line">
              <a:avLst/>
            </a:prstGeom>
            <a:ln w="12600">
              <a:solidFill>
                <a:srgbClr val="0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41240" y="2708280"/>
              <a:ext cx="273240" cy="254160"/>
            </a:xfrm>
            <a:prstGeom prst="line">
              <a:avLst/>
            </a:prstGeom>
            <a:ln w="12600">
              <a:solidFill>
                <a:srgbClr val="0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41240" y="1687680"/>
              <a:ext cx="273240" cy="241200"/>
            </a:xfrm>
            <a:prstGeom prst="line">
              <a:avLst/>
            </a:prstGeom>
            <a:ln w="12600">
              <a:solidFill>
                <a:srgbClr val="0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1240" y="1176480"/>
              <a:ext cx="279360" cy="247680"/>
            </a:xfrm>
            <a:prstGeom prst="line">
              <a:avLst/>
            </a:prstGeom>
            <a:ln w="12600">
              <a:solidFill>
                <a:srgbClr val="0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41240" y="665280"/>
              <a:ext cx="273240" cy="244440"/>
            </a:xfrm>
            <a:prstGeom prst="line">
              <a:avLst/>
            </a:prstGeom>
            <a:ln w="12600">
              <a:solidFill>
                <a:srgbClr val="0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41240" y="157320"/>
              <a:ext cx="279360" cy="241200"/>
            </a:xfrm>
            <a:prstGeom prst="line">
              <a:avLst/>
            </a:prstGeom>
            <a:ln w="12600">
              <a:solidFill>
                <a:srgbClr val="0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41240" y="-344520"/>
              <a:ext cx="279360" cy="239760"/>
            </a:xfrm>
            <a:prstGeom prst="line">
              <a:avLst/>
            </a:prstGeom>
            <a:ln w="12600">
              <a:solidFill>
                <a:srgbClr val="0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1066680" y="5940360"/>
              <a:ext cx="2633760" cy="5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ETING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 txBox="1"/>
            <p:nvPr/>
          </p:nvSpPr>
          <p:spPr>
            <a:xfrm>
              <a:off x="1066680" y="6394320"/>
              <a:ext cx="1212840" cy="5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 txBox="1"/>
            <p:nvPr/>
          </p:nvSpPr>
          <p:spPr>
            <a:xfrm>
              <a:off x="1030320" y="5905440"/>
              <a:ext cx="2633760" cy="5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100" spc="-1" strike="noStrike">
                  <a:solidFill>
                    <a:srgbClr val="fcfeb9"/>
                  </a:solidFill>
                  <a:latin typeface="Arial"/>
                  <a:ea typeface="Arial"/>
                </a:rPr>
                <a:t>MARKETING</a:t>
              </a:r>
              <a:r>
                <a:rPr b="0" lang="en-US" sz="3100" spc="-1" strike="noStrike">
                  <a:solidFill>
                    <a:srgbClr val="00a000"/>
                  </a:solidFill>
                  <a:latin typeface="Arial"/>
                  <a:ea typeface="Arial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1030320" y="6361200"/>
              <a:ext cx="1212840" cy="5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100" spc="-1" strike="noStrike">
                  <a:solidFill>
                    <a:srgbClr val="fcfeb9"/>
                  </a:solidFill>
                  <a:latin typeface="Arial"/>
                  <a:ea typeface="Arial"/>
                </a:rPr>
                <a:t>PLAN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2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392120" y="60948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52560" y="1884240"/>
            <a:ext cx="754380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