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0120" y="-369720"/>
            <a:ext cx="10221840" cy="8113680"/>
            <a:chOff x="-600120" y="-369720"/>
            <a:chExt cx="10221840" cy="8113680"/>
          </a:xfrm>
        </p:grpSpPr>
        <p:sp>
          <p:nvSpPr>
            <p:cNvPr id="1" name=""/>
            <p:cNvSpPr/>
            <p:nvPr/>
          </p:nvSpPr>
          <p:spPr>
            <a:xfrm>
              <a:off x="-600120" y="-369720"/>
              <a:ext cx="10221840" cy="656892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26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314280" y="414360"/>
              <a:ext cx="3134160" cy="7329600"/>
              <a:chOff x="-314280" y="414360"/>
              <a:chExt cx="3134160" cy="7329600"/>
            </a:xfrm>
          </p:grpSpPr>
          <p:sp>
            <p:nvSpPr>
              <p:cNvPr id="3" name=""/>
              <p:cNvSpPr/>
              <p:nvPr/>
            </p:nvSpPr>
            <p:spPr>
              <a:xfrm>
                <a:off x="-311040" y="644400"/>
                <a:ext cx="1144800" cy="7099560"/>
              </a:xfrm>
              <a:custGeom>
                <a:avLst/>
                <a:gdLst/>
                <a:ahLst/>
                <a:rect l="0" t="0" r="r" b="b"/>
                <a:pathLst>
                  <a:path w="3180" h="19721">
                    <a:moveTo>
                      <a:pt x="0" y="19690"/>
                    </a:moveTo>
                    <a:lnTo>
                      <a:pt x="148" y="19721"/>
                    </a:lnTo>
                    <a:lnTo>
                      <a:pt x="3180" y="30"/>
                    </a:lnTo>
                    <a:lnTo>
                      <a:pt x="3031" y="0"/>
                    </a:lnTo>
                    <a:lnTo>
                      <a:pt x="0" y="1969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-314280" y="642960"/>
                <a:ext cx="1105200" cy="7069320"/>
              </a:xfrm>
              <a:custGeom>
                <a:avLst/>
                <a:gdLst/>
                <a:ahLst/>
                <a:rect l="0" t="0" r="r" b="b"/>
                <a:pathLst>
                  <a:path w="3070" h="19637">
                    <a:moveTo>
                      <a:pt x="0" y="19633"/>
                    </a:moveTo>
                    <a:lnTo>
                      <a:pt x="30" y="19637"/>
                    </a:lnTo>
                    <a:lnTo>
                      <a:pt x="3070" y="4"/>
                    </a:lnTo>
                    <a:lnTo>
                      <a:pt x="3043" y="0"/>
                    </a:lnTo>
                    <a:lnTo>
                      <a:pt x="0" y="19633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8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115920" y="598320"/>
                <a:ext cx="957600" cy="6061320"/>
              </a:xfrm>
              <a:custGeom>
                <a:avLst/>
                <a:gdLst/>
                <a:ahLst/>
                <a:rect l="0" t="0" r="r" b="b"/>
                <a:pathLst>
                  <a:path w="2660" h="16837">
                    <a:moveTo>
                      <a:pt x="0" y="16824"/>
                    </a:moveTo>
                    <a:lnTo>
                      <a:pt x="82" y="16837"/>
                    </a:lnTo>
                    <a:lnTo>
                      <a:pt x="2660" y="17"/>
                    </a:lnTo>
                    <a:lnTo>
                      <a:pt x="2577" y="0"/>
                    </a:lnTo>
                    <a:lnTo>
                      <a:pt x="0" y="16824"/>
                    </a:lnTo>
                    <a:close/>
                  </a:path>
                </a:pathLst>
              </a:custGeom>
              <a:solidFill>
                <a:srgbClr val="c0c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7480" y="414360"/>
                <a:ext cx="222480" cy="238320"/>
              </a:xfrm>
              <a:custGeom>
                <a:avLst/>
                <a:gdLst/>
                <a:ahLst/>
                <a:rect l="0" t="0" r="r" b="b"/>
                <a:pathLst>
                  <a:path w="618" h="662">
                    <a:moveTo>
                      <a:pt x="360" y="0"/>
                    </a:moveTo>
                    <a:lnTo>
                      <a:pt x="245" y="0"/>
                    </a:lnTo>
                    <a:lnTo>
                      <a:pt x="135" y="59"/>
                    </a:lnTo>
                    <a:lnTo>
                      <a:pt x="0" y="267"/>
                    </a:lnTo>
                    <a:lnTo>
                      <a:pt x="8" y="391"/>
                    </a:lnTo>
                    <a:lnTo>
                      <a:pt x="59" y="514"/>
                    </a:lnTo>
                    <a:lnTo>
                      <a:pt x="253" y="662"/>
                    </a:lnTo>
                    <a:lnTo>
                      <a:pt x="368" y="658"/>
                    </a:lnTo>
                    <a:lnTo>
                      <a:pt x="483" y="603"/>
                    </a:lnTo>
                    <a:lnTo>
                      <a:pt x="618" y="395"/>
                    </a:lnTo>
                    <a:lnTo>
                      <a:pt x="609" y="271"/>
                    </a:lnTo>
                    <a:lnTo>
                      <a:pt x="554" y="148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16120" y="425520"/>
                <a:ext cx="90720" cy="216360"/>
              </a:xfrm>
              <a:custGeom>
                <a:avLst/>
                <a:gdLst/>
                <a:ahLst/>
                <a:rect l="0" t="0" r="r" b="b"/>
                <a:pathLst>
                  <a:path w="252" h="601">
                    <a:moveTo>
                      <a:pt x="0" y="593"/>
                    </a:moveTo>
                    <a:lnTo>
                      <a:pt x="83" y="496"/>
                    </a:lnTo>
                    <a:lnTo>
                      <a:pt x="136" y="309"/>
                    </a:lnTo>
                    <a:lnTo>
                      <a:pt x="144" y="207"/>
                    </a:lnTo>
                    <a:lnTo>
                      <a:pt x="136" y="114"/>
                    </a:lnTo>
                    <a:lnTo>
                      <a:pt x="75" y="0"/>
                    </a:lnTo>
                    <a:lnTo>
                      <a:pt x="79" y="4"/>
                    </a:lnTo>
                    <a:lnTo>
                      <a:pt x="216" y="126"/>
                    </a:lnTo>
                    <a:lnTo>
                      <a:pt x="248" y="220"/>
                    </a:lnTo>
                    <a:lnTo>
                      <a:pt x="252" y="330"/>
                    </a:lnTo>
                    <a:lnTo>
                      <a:pt x="184" y="513"/>
                    </a:lnTo>
                    <a:lnTo>
                      <a:pt x="27" y="601"/>
                    </a:lnTo>
                    <a:lnTo>
                      <a:pt x="0" y="593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97040" y="426960"/>
                <a:ext cx="76680" cy="216360"/>
              </a:xfrm>
              <a:custGeom>
                <a:avLst/>
                <a:gdLst/>
                <a:ahLst/>
                <a:rect l="0" t="0" r="r" b="b"/>
                <a:pathLst>
                  <a:path w="213" h="601">
                    <a:moveTo>
                      <a:pt x="0" y="601"/>
                    </a:moveTo>
                    <a:lnTo>
                      <a:pt x="102" y="517"/>
                    </a:lnTo>
                    <a:lnTo>
                      <a:pt x="174" y="338"/>
                    </a:lnTo>
                    <a:lnTo>
                      <a:pt x="182" y="241"/>
                    </a:lnTo>
                    <a:lnTo>
                      <a:pt x="170" y="147"/>
                    </a:lnTo>
                    <a:lnTo>
                      <a:pt x="47" y="0"/>
                    </a:lnTo>
                    <a:lnTo>
                      <a:pt x="126" y="0"/>
                    </a:lnTo>
                    <a:lnTo>
                      <a:pt x="190" y="88"/>
                    </a:lnTo>
                    <a:lnTo>
                      <a:pt x="209" y="174"/>
                    </a:lnTo>
                    <a:lnTo>
                      <a:pt x="213" y="267"/>
                    </a:lnTo>
                    <a:lnTo>
                      <a:pt x="205" y="364"/>
                    </a:lnTo>
                    <a:lnTo>
                      <a:pt x="178" y="458"/>
                    </a:lnTo>
                    <a:lnTo>
                      <a:pt x="59" y="601"/>
                    </a:lnTo>
                    <a:lnTo>
                      <a:pt x="0" y="601"/>
                    </a:lnTo>
                    <a:close/>
                  </a:path>
                </a:pathLst>
              </a:custGeom>
              <a:solidFill>
                <a:srgbClr val="c0c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7880" y="1374840"/>
                <a:ext cx="2062440" cy="889200"/>
              </a:xfrm>
              <a:custGeom>
                <a:avLst/>
                <a:gdLst/>
                <a:ahLst/>
                <a:rect l="0" t="0" r="r" b="b"/>
                <a:pathLst>
                  <a:path w="5729" h="2470">
                    <a:moveTo>
                      <a:pt x="403" y="296"/>
                    </a:moveTo>
                    <a:lnTo>
                      <a:pt x="1479" y="0"/>
                    </a:lnTo>
                    <a:lnTo>
                      <a:pt x="2876" y="458"/>
                    </a:lnTo>
                    <a:lnTo>
                      <a:pt x="3986" y="471"/>
                    </a:lnTo>
                    <a:lnTo>
                      <a:pt x="5220" y="933"/>
                    </a:lnTo>
                    <a:lnTo>
                      <a:pt x="5707" y="1432"/>
                    </a:lnTo>
                    <a:lnTo>
                      <a:pt x="5729" y="1850"/>
                    </a:lnTo>
                    <a:lnTo>
                      <a:pt x="5650" y="2470"/>
                    </a:lnTo>
                    <a:lnTo>
                      <a:pt x="5470" y="2378"/>
                    </a:lnTo>
                    <a:lnTo>
                      <a:pt x="5263" y="2287"/>
                    </a:lnTo>
                    <a:lnTo>
                      <a:pt x="5097" y="2221"/>
                    </a:lnTo>
                    <a:lnTo>
                      <a:pt x="5083" y="2217"/>
                    </a:lnTo>
                    <a:lnTo>
                      <a:pt x="5062" y="2213"/>
                    </a:lnTo>
                    <a:lnTo>
                      <a:pt x="5004" y="2221"/>
                    </a:lnTo>
                    <a:lnTo>
                      <a:pt x="4947" y="2217"/>
                    </a:lnTo>
                    <a:lnTo>
                      <a:pt x="4921" y="2226"/>
                    </a:lnTo>
                    <a:lnTo>
                      <a:pt x="4904" y="2213"/>
                    </a:lnTo>
                    <a:lnTo>
                      <a:pt x="4763" y="2151"/>
                    </a:lnTo>
                    <a:lnTo>
                      <a:pt x="4605" y="2086"/>
                    </a:lnTo>
                    <a:lnTo>
                      <a:pt x="4508" y="2060"/>
                    </a:lnTo>
                    <a:lnTo>
                      <a:pt x="4412" y="2021"/>
                    </a:lnTo>
                    <a:lnTo>
                      <a:pt x="4350" y="1981"/>
                    </a:lnTo>
                    <a:lnTo>
                      <a:pt x="4315" y="1938"/>
                    </a:lnTo>
                    <a:lnTo>
                      <a:pt x="4342" y="1903"/>
                    </a:lnTo>
                    <a:lnTo>
                      <a:pt x="4368" y="1863"/>
                    </a:lnTo>
                    <a:lnTo>
                      <a:pt x="4399" y="1850"/>
                    </a:lnTo>
                    <a:lnTo>
                      <a:pt x="4451" y="1815"/>
                    </a:lnTo>
                    <a:lnTo>
                      <a:pt x="4487" y="1807"/>
                    </a:lnTo>
                    <a:lnTo>
                      <a:pt x="4552" y="1811"/>
                    </a:lnTo>
                    <a:lnTo>
                      <a:pt x="4618" y="1802"/>
                    </a:lnTo>
                    <a:lnTo>
                      <a:pt x="4544" y="1772"/>
                    </a:lnTo>
                    <a:lnTo>
                      <a:pt x="4469" y="1759"/>
                    </a:lnTo>
                    <a:lnTo>
                      <a:pt x="4372" y="1746"/>
                    </a:lnTo>
                    <a:lnTo>
                      <a:pt x="4210" y="1737"/>
                    </a:lnTo>
                    <a:lnTo>
                      <a:pt x="4039" y="1750"/>
                    </a:lnTo>
                    <a:lnTo>
                      <a:pt x="3881" y="1768"/>
                    </a:lnTo>
                    <a:lnTo>
                      <a:pt x="3126" y="1685"/>
                    </a:lnTo>
                    <a:lnTo>
                      <a:pt x="2523" y="1584"/>
                    </a:lnTo>
                    <a:lnTo>
                      <a:pt x="1918" y="1501"/>
                    </a:lnTo>
                    <a:lnTo>
                      <a:pt x="1896" y="1488"/>
                    </a:lnTo>
                    <a:lnTo>
                      <a:pt x="1843" y="1449"/>
                    </a:lnTo>
                    <a:lnTo>
                      <a:pt x="1768" y="1414"/>
                    </a:lnTo>
                    <a:lnTo>
                      <a:pt x="1659" y="1375"/>
                    </a:lnTo>
                    <a:lnTo>
                      <a:pt x="1610" y="1427"/>
                    </a:lnTo>
                    <a:lnTo>
                      <a:pt x="1527" y="1493"/>
                    </a:lnTo>
                    <a:lnTo>
                      <a:pt x="1479" y="1510"/>
                    </a:lnTo>
                    <a:lnTo>
                      <a:pt x="1395" y="1528"/>
                    </a:lnTo>
                    <a:lnTo>
                      <a:pt x="1185" y="1523"/>
                    </a:lnTo>
                    <a:lnTo>
                      <a:pt x="930" y="1501"/>
                    </a:lnTo>
                    <a:lnTo>
                      <a:pt x="667" y="1466"/>
                    </a:lnTo>
                    <a:lnTo>
                      <a:pt x="197" y="1384"/>
                    </a:lnTo>
                    <a:lnTo>
                      <a:pt x="52" y="1357"/>
                    </a:lnTo>
                    <a:lnTo>
                      <a:pt x="0" y="1349"/>
                    </a:lnTo>
                    <a:lnTo>
                      <a:pt x="0" y="1305"/>
                    </a:lnTo>
                    <a:lnTo>
                      <a:pt x="4" y="1288"/>
                    </a:lnTo>
                    <a:lnTo>
                      <a:pt x="4" y="1266"/>
                    </a:lnTo>
                    <a:lnTo>
                      <a:pt x="26" y="1186"/>
                    </a:lnTo>
                    <a:lnTo>
                      <a:pt x="109" y="1016"/>
                    </a:lnTo>
                    <a:lnTo>
                      <a:pt x="294" y="737"/>
                    </a:lnTo>
                    <a:lnTo>
                      <a:pt x="403" y="296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4320" y="1082520"/>
                <a:ext cx="1919520" cy="787680"/>
              </a:xfrm>
              <a:custGeom>
                <a:avLst/>
                <a:gdLst/>
                <a:ahLst/>
                <a:rect l="0" t="0" r="r" b="b"/>
                <a:pathLst>
                  <a:path w="5332" h="2188">
                    <a:moveTo>
                      <a:pt x="26" y="1116"/>
                    </a:moveTo>
                    <a:lnTo>
                      <a:pt x="87" y="1067"/>
                    </a:lnTo>
                    <a:lnTo>
                      <a:pt x="877" y="971"/>
                    </a:lnTo>
                    <a:lnTo>
                      <a:pt x="1083" y="962"/>
                    </a:lnTo>
                    <a:lnTo>
                      <a:pt x="1189" y="962"/>
                    </a:lnTo>
                    <a:lnTo>
                      <a:pt x="1294" y="967"/>
                    </a:lnTo>
                    <a:lnTo>
                      <a:pt x="1680" y="1036"/>
                    </a:lnTo>
                    <a:lnTo>
                      <a:pt x="2277" y="1286"/>
                    </a:lnTo>
                    <a:lnTo>
                      <a:pt x="2826" y="1469"/>
                    </a:lnTo>
                    <a:lnTo>
                      <a:pt x="3173" y="1329"/>
                    </a:lnTo>
                    <a:lnTo>
                      <a:pt x="3436" y="1295"/>
                    </a:lnTo>
                    <a:lnTo>
                      <a:pt x="3542" y="1295"/>
                    </a:lnTo>
                    <a:lnTo>
                      <a:pt x="3691" y="1347"/>
                    </a:lnTo>
                    <a:lnTo>
                      <a:pt x="3972" y="1482"/>
                    </a:lnTo>
                    <a:lnTo>
                      <a:pt x="4147" y="1613"/>
                    </a:lnTo>
                    <a:lnTo>
                      <a:pt x="4735" y="1791"/>
                    </a:lnTo>
                    <a:lnTo>
                      <a:pt x="4924" y="1979"/>
                    </a:lnTo>
                    <a:lnTo>
                      <a:pt x="5174" y="2122"/>
                    </a:lnTo>
                    <a:lnTo>
                      <a:pt x="5288" y="2188"/>
                    </a:lnTo>
                    <a:lnTo>
                      <a:pt x="5332" y="2179"/>
                    </a:lnTo>
                    <a:lnTo>
                      <a:pt x="5284" y="1473"/>
                    </a:lnTo>
                    <a:lnTo>
                      <a:pt x="5314" y="1212"/>
                    </a:lnTo>
                    <a:lnTo>
                      <a:pt x="5323" y="1058"/>
                    </a:lnTo>
                    <a:lnTo>
                      <a:pt x="5301" y="962"/>
                    </a:lnTo>
                    <a:lnTo>
                      <a:pt x="5227" y="858"/>
                    </a:lnTo>
                    <a:lnTo>
                      <a:pt x="5121" y="845"/>
                    </a:lnTo>
                    <a:lnTo>
                      <a:pt x="4985" y="867"/>
                    </a:lnTo>
                    <a:lnTo>
                      <a:pt x="4739" y="906"/>
                    </a:lnTo>
                    <a:lnTo>
                      <a:pt x="4402" y="862"/>
                    </a:lnTo>
                    <a:lnTo>
                      <a:pt x="4015" y="727"/>
                    </a:lnTo>
                    <a:lnTo>
                      <a:pt x="3901" y="601"/>
                    </a:lnTo>
                    <a:lnTo>
                      <a:pt x="3858" y="531"/>
                    </a:lnTo>
                    <a:lnTo>
                      <a:pt x="3783" y="487"/>
                    </a:lnTo>
                    <a:lnTo>
                      <a:pt x="2949" y="392"/>
                    </a:lnTo>
                    <a:lnTo>
                      <a:pt x="2690" y="418"/>
                    </a:lnTo>
                    <a:lnTo>
                      <a:pt x="2553" y="426"/>
                    </a:lnTo>
                    <a:lnTo>
                      <a:pt x="2417" y="413"/>
                    </a:lnTo>
                    <a:lnTo>
                      <a:pt x="2172" y="287"/>
                    </a:lnTo>
                    <a:lnTo>
                      <a:pt x="1913" y="139"/>
                    </a:lnTo>
                    <a:lnTo>
                      <a:pt x="1018" y="17"/>
                    </a:lnTo>
                    <a:lnTo>
                      <a:pt x="767" y="0"/>
                    </a:lnTo>
                    <a:lnTo>
                      <a:pt x="601" y="0"/>
                    </a:lnTo>
                    <a:lnTo>
                      <a:pt x="517" y="0"/>
                    </a:lnTo>
                    <a:lnTo>
                      <a:pt x="425" y="0"/>
                    </a:lnTo>
                    <a:lnTo>
                      <a:pt x="0" y="17"/>
                    </a:lnTo>
                    <a:lnTo>
                      <a:pt x="26" y="1116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11080" y="676440"/>
                <a:ext cx="2008440" cy="798840"/>
              </a:xfrm>
              <a:custGeom>
                <a:avLst/>
                <a:gdLst/>
                <a:ahLst/>
                <a:rect l="0" t="0" r="r" b="b"/>
                <a:pathLst>
                  <a:path w="5579" h="2219">
                    <a:moveTo>
                      <a:pt x="0" y="1160"/>
                    </a:moveTo>
                    <a:lnTo>
                      <a:pt x="847" y="1181"/>
                    </a:lnTo>
                    <a:lnTo>
                      <a:pt x="2040" y="1312"/>
                    </a:lnTo>
                    <a:lnTo>
                      <a:pt x="2233" y="1439"/>
                    </a:lnTo>
                    <a:lnTo>
                      <a:pt x="2427" y="1552"/>
                    </a:lnTo>
                    <a:lnTo>
                      <a:pt x="2642" y="1561"/>
                    </a:lnTo>
                    <a:lnTo>
                      <a:pt x="2716" y="1539"/>
                    </a:lnTo>
                    <a:lnTo>
                      <a:pt x="2954" y="1534"/>
                    </a:lnTo>
                    <a:lnTo>
                      <a:pt x="3090" y="1534"/>
                    </a:lnTo>
                    <a:lnTo>
                      <a:pt x="3235" y="1543"/>
                    </a:lnTo>
                    <a:lnTo>
                      <a:pt x="3744" y="1630"/>
                    </a:lnTo>
                    <a:lnTo>
                      <a:pt x="3977" y="1822"/>
                    </a:lnTo>
                    <a:lnTo>
                      <a:pt x="4218" y="1957"/>
                    </a:lnTo>
                    <a:lnTo>
                      <a:pt x="4591" y="2127"/>
                    </a:lnTo>
                    <a:lnTo>
                      <a:pt x="4697" y="2149"/>
                    </a:lnTo>
                    <a:lnTo>
                      <a:pt x="4789" y="2145"/>
                    </a:lnTo>
                    <a:lnTo>
                      <a:pt x="4859" y="2110"/>
                    </a:lnTo>
                    <a:lnTo>
                      <a:pt x="4912" y="2027"/>
                    </a:lnTo>
                    <a:lnTo>
                      <a:pt x="5215" y="1988"/>
                    </a:lnTo>
                    <a:lnTo>
                      <a:pt x="5315" y="2145"/>
                    </a:lnTo>
                    <a:lnTo>
                      <a:pt x="5315" y="2219"/>
                    </a:lnTo>
                    <a:lnTo>
                      <a:pt x="5342" y="1861"/>
                    </a:lnTo>
                    <a:lnTo>
                      <a:pt x="5447" y="1412"/>
                    </a:lnTo>
                    <a:lnTo>
                      <a:pt x="5531" y="1282"/>
                    </a:lnTo>
                    <a:lnTo>
                      <a:pt x="5579" y="1147"/>
                    </a:lnTo>
                    <a:lnTo>
                      <a:pt x="5495" y="1076"/>
                    </a:lnTo>
                    <a:lnTo>
                      <a:pt x="5368" y="1010"/>
                    </a:lnTo>
                    <a:lnTo>
                      <a:pt x="5267" y="928"/>
                    </a:lnTo>
                    <a:lnTo>
                      <a:pt x="5162" y="915"/>
                    </a:lnTo>
                    <a:lnTo>
                      <a:pt x="5026" y="932"/>
                    </a:lnTo>
                    <a:lnTo>
                      <a:pt x="4894" y="954"/>
                    </a:lnTo>
                    <a:lnTo>
                      <a:pt x="4780" y="971"/>
                    </a:lnTo>
                    <a:lnTo>
                      <a:pt x="4618" y="958"/>
                    </a:lnTo>
                    <a:lnTo>
                      <a:pt x="4455" y="932"/>
                    </a:lnTo>
                    <a:lnTo>
                      <a:pt x="4056" y="793"/>
                    </a:lnTo>
                    <a:lnTo>
                      <a:pt x="3573" y="640"/>
                    </a:lnTo>
                    <a:lnTo>
                      <a:pt x="3060" y="614"/>
                    </a:lnTo>
                    <a:lnTo>
                      <a:pt x="2919" y="618"/>
                    </a:lnTo>
                    <a:lnTo>
                      <a:pt x="2747" y="636"/>
                    </a:lnTo>
                    <a:lnTo>
                      <a:pt x="2580" y="644"/>
                    </a:lnTo>
                    <a:lnTo>
                      <a:pt x="2506" y="644"/>
                    </a:lnTo>
                    <a:lnTo>
                      <a:pt x="2435" y="636"/>
                    </a:lnTo>
                    <a:lnTo>
                      <a:pt x="2137" y="496"/>
                    </a:lnTo>
                    <a:lnTo>
                      <a:pt x="1843" y="344"/>
                    </a:lnTo>
                    <a:lnTo>
                      <a:pt x="1123" y="161"/>
                    </a:lnTo>
                    <a:lnTo>
                      <a:pt x="13" y="0"/>
                    </a:lnTo>
                    <a:lnTo>
                      <a:pt x="92" y="357"/>
                    </a:lnTo>
                    <a:lnTo>
                      <a:pt x="92" y="448"/>
                    </a:lnTo>
                    <a:lnTo>
                      <a:pt x="92" y="544"/>
                    </a:lnTo>
                    <a:lnTo>
                      <a:pt x="74" y="732"/>
                    </a:lnTo>
                    <a:lnTo>
                      <a:pt x="0" y="1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035080" y="2004840"/>
                <a:ext cx="376560" cy="39960"/>
              </a:xfrm>
              <a:custGeom>
                <a:avLst/>
                <a:gdLst/>
                <a:ahLst/>
                <a:rect l="0" t="0" r="r" b="b"/>
                <a:pathLst>
                  <a:path w="1046" h="111">
                    <a:moveTo>
                      <a:pt x="1041" y="111"/>
                    </a:moveTo>
                    <a:lnTo>
                      <a:pt x="1033" y="82"/>
                    </a:lnTo>
                    <a:lnTo>
                      <a:pt x="1041" y="68"/>
                    </a:lnTo>
                    <a:lnTo>
                      <a:pt x="1003" y="68"/>
                    </a:lnTo>
                    <a:lnTo>
                      <a:pt x="968" y="61"/>
                    </a:lnTo>
                    <a:lnTo>
                      <a:pt x="929" y="53"/>
                    </a:lnTo>
                    <a:lnTo>
                      <a:pt x="826" y="28"/>
                    </a:lnTo>
                    <a:lnTo>
                      <a:pt x="719" y="21"/>
                    </a:lnTo>
                    <a:lnTo>
                      <a:pt x="555" y="0"/>
                    </a:lnTo>
                    <a:lnTo>
                      <a:pt x="309" y="10"/>
                    </a:lnTo>
                    <a:lnTo>
                      <a:pt x="47" y="17"/>
                    </a:lnTo>
                    <a:lnTo>
                      <a:pt x="0" y="10"/>
                    </a:lnTo>
                    <a:lnTo>
                      <a:pt x="51" y="10"/>
                    </a:lnTo>
                    <a:lnTo>
                      <a:pt x="124" y="28"/>
                    </a:lnTo>
                    <a:lnTo>
                      <a:pt x="412" y="7"/>
                    </a:lnTo>
                    <a:lnTo>
                      <a:pt x="598" y="14"/>
                    </a:lnTo>
                    <a:lnTo>
                      <a:pt x="693" y="28"/>
                    </a:lnTo>
                    <a:lnTo>
                      <a:pt x="856" y="61"/>
                    </a:lnTo>
                    <a:lnTo>
                      <a:pt x="1046" y="104"/>
                    </a:lnTo>
                    <a:lnTo>
                      <a:pt x="1041" y="111"/>
                    </a:lnTo>
                    <a:close/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9320" y="2152800"/>
                <a:ext cx="324360" cy="111600"/>
              </a:xfrm>
              <a:custGeom>
                <a:avLst/>
                <a:gdLst/>
                <a:ahLst/>
                <a:rect l="0" t="0" r="r" b="b"/>
                <a:pathLst>
                  <a:path w="901" h="310">
                    <a:moveTo>
                      <a:pt x="64" y="56"/>
                    </a:moveTo>
                    <a:lnTo>
                      <a:pt x="149" y="86"/>
                    </a:lnTo>
                    <a:lnTo>
                      <a:pt x="365" y="110"/>
                    </a:lnTo>
                    <a:lnTo>
                      <a:pt x="888" y="310"/>
                    </a:lnTo>
                    <a:lnTo>
                      <a:pt x="901" y="310"/>
                    </a:lnTo>
                    <a:lnTo>
                      <a:pt x="888" y="310"/>
                    </a:lnTo>
                    <a:lnTo>
                      <a:pt x="884" y="294"/>
                    </a:lnTo>
                    <a:lnTo>
                      <a:pt x="828" y="253"/>
                    </a:lnTo>
                    <a:lnTo>
                      <a:pt x="704" y="191"/>
                    </a:lnTo>
                    <a:lnTo>
                      <a:pt x="557" y="118"/>
                    </a:lnTo>
                    <a:lnTo>
                      <a:pt x="446" y="78"/>
                    </a:lnTo>
                    <a:lnTo>
                      <a:pt x="429" y="69"/>
                    </a:lnTo>
                    <a:lnTo>
                      <a:pt x="399" y="64"/>
                    </a:lnTo>
                    <a:lnTo>
                      <a:pt x="343" y="64"/>
                    </a:lnTo>
                    <a:lnTo>
                      <a:pt x="240" y="69"/>
                    </a:lnTo>
                    <a:lnTo>
                      <a:pt x="214" y="64"/>
                    </a:lnTo>
                    <a:lnTo>
                      <a:pt x="184" y="60"/>
                    </a:lnTo>
                    <a:lnTo>
                      <a:pt x="98" y="36"/>
                    </a:lnTo>
                    <a:lnTo>
                      <a:pt x="0" y="0"/>
                    </a:lnTo>
                    <a:lnTo>
                      <a:pt x="64" y="56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166840" y="934920"/>
                <a:ext cx="414720" cy="89280"/>
              </a:xfrm>
              <a:custGeom>
                <a:avLst/>
                <a:gdLst/>
                <a:ahLst/>
                <a:rect l="0" t="0" r="r" b="b"/>
                <a:pathLst>
                  <a:path w="1152" h="248">
                    <a:moveTo>
                      <a:pt x="0" y="0"/>
                    </a:moveTo>
                    <a:lnTo>
                      <a:pt x="380" y="120"/>
                    </a:lnTo>
                    <a:lnTo>
                      <a:pt x="630" y="172"/>
                    </a:lnTo>
                    <a:lnTo>
                      <a:pt x="712" y="193"/>
                    </a:lnTo>
                    <a:lnTo>
                      <a:pt x="815" y="205"/>
                    </a:lnTo>
                    <a:lnTo>
                      <a:pt x="1027" y="229"/>
                    </a:lnTo>
                    <a:lnTo>
                      <a:pt x="1152" y="221"/>
                    </a:lnTo>
                    <a:lnTo>
                      <a:pt x="1152" y="240"/>
                    </a:lnTo>
                    <a:lnTo>
                      <a:pt x="1101" y="248"/>
                    </a:lnTo>
                    <a:lnTo>
                      <a:pt x="954" y="240"/>
                    </a:lnTo>
                    <a:lnTo>
                      <a:pt x="677" y="229"/>
                    </a:lnTo>
                    <a:lnTo>
                      <a:pt x="535" y="233"/>
                    </a:lnTo>
                    <a:lnTo>
                      <a:pt x="457" y="225"/>
                    </a:lnTo>
                    <a:lnTo>
                      <a:pt x="410" y="221"/>
                    </a:lnTo>
                    <a:lnTo>
                      <a:pt x="363" y="197"/>
                    </a:lnTo>
                    <a:lnTo>
                      <a:pt x="298" y="156"/>
                    </a:lnTo>
                    <a:lnTo>
                      <a:pt x="172" y="76"/>
                    </a:lnTo>
                    <a:lnTo>
                      <a:pt x="159" y="43"/>
                    </a:lnTo>
                    <a:lnTo>
                      <a:pt x="68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65280" y="841320"/>
                <a:ext cx="530640" cy="87840"/>
              </a:xfrm>
              <a:custGeom>
                <a:avLst/>
                <a:gdLst/>
                <a:ahLst/>
                <a:rect l="0" t="0" r="r" b="b"/>
                <a:pathLst>
                  <a:path w="1474" h="244">
                    <a:moveTo>
                      <a:pt x="0" y="0"/>
                    </a:moveTo>
                    <a:lnTo>
                      <a:pt x="108" y="59"/>
                    </a:lnTo>
                    <a:lnTo>
                      <a:pt x="272" y="120"/>
                    </a:lnTo>
                    <a:lnTo>
                      <a:pt x="355" y="136"/>
                    </a:lnTo>
                    <a:lnTo>
                      <a:pt x="395" y="140"/>
                    </a:lnTo>
                    <a:lnTo>
                      <a:pt x="429" y="140"/>
                    </a:lnTo>
                    <a:lnTo>
                      <a:pt x="819" y="164"/>
                    </a:lnTo>
                    <a:lnTo>
                      <a:pt x="1227" y="171"/>
                    </a:lnTo>
                    <a:lnTo>
                      <a:pt x="1401" y="192"/>
                    </a:lnTo>
                    <a:lnTo>
                      <a:pt x="1435" y="200"/>
                    </a:lnTo>
                    <a:lnTo>
                      <a:pt x="1466" y="204"/>
                    </a:lnTo>
                    <a:lnTo>
                      <a:pt x="1474" y="212"/>
                    </a:lnTo>
                    <a:lnTo>
                      <a:pt x="1253" y="224"/>
                    </a:lnTo>
                    <a:lnTo>
                      <a:pt x="915" y="228"/>
                    </a:lnTo>
                    <a:lnTo>
                      <a:pt x="551" y="244"/>
                    </a:lnTo>
                    <a:lnTo>
                      <a:pt x="395" y="236"/>
                    </a:lnTo>
                    <a:lnTo>
                      <a:pt x="316" y="232"/>
                    </a:lnTo>
                    <a:lnTo>
                      <a:pt x="277" y="232"/>
                    </a:lnTo>
                    <a:lnTo>
                      <a:pt x="255" y="220"/>
                    </a:lnTo>
                    <a:lnTo>
                      <a:pt x="181" y="184"/>
                    </a:lnTo>
                    <a:lnTo>
                      <a:pt x="108" y="132"/>
                    </a:lnTo>
                    <a:lnTo>
                      <a:pt x="25" y="51"/>
                    </a:lnTo>
                    <a:lnTo>
                      <a:pt x="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529000" y="995400"/>
                <a:ext cx="290880" cy="717840"/>
              </a:xfrm>
              <a:custGeom>
                <a:avLst/>
                <a:gdLst/>
                <a:ahLst/>
                <a:rect l="0" t="0" r="r" b="b"/>
                <a:pathLst>
                  <a:path w="808" h="1994">
                    <a:moveTo>
                      <a:pt x="4" y="1994"/>
                    </a:moveTo>
                    <a:lnTo>
                      <a:pt x="119" y="857"/>
                    </a:lnTo>
                    <a:lnTo>
                      <a:pt x="166" y="552"/>
                    </a:lnTo>
                    <a:lnTo>
                      <a:pt x="496" y="256"/>
                    </a:lnTo>
                    <a:lnTo>
                      <a:pt x="808" y="252"/>
                    </a:lnTo>
                    <a:lnTo>
                      <a:pt x="470" y="0"/>
                    </a:lnTo>
                    <a:lnTo>
                      <a:pt x="85" y="95"/>
                    </a:lnTo>
                    <a:lnTo>
                      <a:pt x="102" y="374"/>
                    </a:lnTo>
                    <a:lnTo>
                      <a:pt x="76" y="761"/>
                    </a:lnTo>
                    <a:lnTo>
                      <a:pt x="76" y="1136"/>
                    </a:lnTo>
                    <a:lnTo>
                      <a:pt x="0" y="1963"/>
                    </a:lnTo>
                    <a:lnTo>
                      <a:pt x="4" y="199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425680" y="1766880"/>
                <a:ext cx="105120" cy="403560"/>
              </a:xfrm>
              <a:custGeom>
                <a:avLst/>
                <a:gdLst/>
                <a:ahLst/>
                <a:rect l="0" t="0" r="r" b="b"/>
                <a:pathLst>
                  <a:path w="292" h="1121">
                    <a:moveTo>
                      <a:pt x="0" y="1090"/>
                    </a:moveTo>
                    <a:lnTo>
                      <a:pt x="68" y="983"/>
                    </a:lnTo>
                    <a:lnTo>
                      <a:pt x="186" y="810"/>
                    </a:lnTo>
                    <a:lnTo>
                      <a:pt x="211" y="694"/>
                    </a:lnTo>
                    <a:lnTo>
                      <a:pt x="227" y="612"/>
                    </a:lnTo>
                    <a:lnTo>
                      <a:pt x="235" y="573"/>
                    </a:lnTo>
                    <a:lnTo>
                      <a:pt x="239" y="555"/>
                    </a:lnTo>
                    <a:lnTo>
                      <a:pt x="243" y="542"/>
                    </a:lnTo>
                    <a:lnTo>
                      <a:pt x="243" y="516"/>
                    </a:lnTo>
                    <a:lnTo>
                      <a:pt x="243" y="495"/>
                    </a:lnTo>
                    <a:lnTo>
                      <a:pt x="243" y="430"/>
                    </a:lnTo>
                    <a:lnTo>
                      <a:pt x="243" y="327"/>
                    </a:lnTo>
                    <a:lnTo>
                      <a:pt x="251" y="297"/>
                    </a:lnTo>
                    <a:lnTo>
                      <a:pt x="251" y="271"/>
                    </a:lnTo>
                    <a:lnTo>
                      <a:pt x="259" y="211"/>
                    </a:lnTo>
                    <a:lnTo>
                      <a:pt x="263" y="189"/>
                    </a:lnTo>
                    <a:lnTo>
                      <a:pt x="267" y="155"/>
                    </a:lnTo>
                    <a:lnTo>
                      <a:pt x="263" y="94"/>
                    </a:lnTo>
                    <a:lnTo>
                      <a:pt x="283" y="0"/>
                    </a:lnTo>
                    <a:lnTo>
                      <a:pt x="292" y="245"/>
                    </a:lnTo>
                    <a:lnTo>
                      <a:pt x="287" y="370"/>
                    </a:lnTo>
                    <a:lnTo>
                      <a:pt x="292" y="542"/>
                    </a:lnTo>
                    <a:lnTo>
                      <a:pt x="283" y="698"/>
                    </a:lnTo>
                    <a:lnTo>
                      <a:pt x="275" y="737"/>
                    </a:lnTo>
                    <a:lnTo>
                      <a:pt x="267" y="759"/>
                    </a:lnTo>
                    <a:lnTo>
                      <a:pt x="271" y="789"/>
                    </a:lnTo>
                    <a:lnTo>
                      <a:pt x="243" y="845"/>
                    </a:lnTo>
                    <a:lnTo>
                      <a:pt x="231" y="918"/>
                    </a:lnTo>
                    <a:lnTo>
                      <a:pt x="227" y="974"/>
                    </a:lnTo>
                    <a:lnTo>
                      <a:pt x="227" y="987"/>
                    </a:lnTo>
                    <a:lnTo>
                      <a:pt x="215" y="1013"/>
                    </a:lnTo>
                    <a:lnTo>
                      <a:pt x="211" y="1121"/>
                    </a:lnTo>
                    <a:lnTo>
                      <a:pt x="72" y="1116"/>
                    </a:lnTo>
                    <a:lnTo>
                      <a:pt x="52" y="1112"/>
                    </a:lnTo>
                    <a:lnTo>
                      <a:pt x="28" y="1112"/>
                    </a:lnTo>
                    <a:lnTo>
                      <a:pt x="0" y="1090"/>
                    </a:lnTo>
                    <a:close/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637000" y="1946160"/>
                <a:ext cx="105120" cy="316440"/>
              </a:xfrm>
              <a:custGeom>
                <a:avLst/>
                <a:gdLst/>
                <a:ahLst/>
                <a:rect l="0" t="0" r="r" b="b"/>
                <a:pathLst>
                  <a:path w="292" h="879">
                    <a:moveTo>
                      <a:pt x="235" y="879"/>
                    </a:moveTo>
                    <a:lnTo>
                      <a:pt x="239" y="785"/>
                    </a:lnTo>
                    <a:lnTo>
                      <a:pt x="243" y="708"/>
                    </a:lnTo>
                    <a:lnTo>
                      <a:pt x="247" y="655"/>
                    </a:lnTo>
                    <a:lnTo>
                      <a:pt x="251" y="621"/>
                    </a:lnTo>
                    <a:lnTo>
                      <a:pt x="255" y="604"/>
                    </a:lnTo>
                    <a:lnTo>
                      <a:pt x="259" y="574"/>
                    </a:lnTo>
                    <a:lnTo>
                      <a:pt x="275" y="463"/>
                    </a:lnTo>
                    <a:lnTo>
                      <a:pt x="287" y="356"/>
                    </a:lnTo>
                    <a:lnTo>
                      <a:pt x="292" y="304"/>
                    </a:lnTo>
                    <a:lnTo>
                      <a:pt x="292" y="274"/>
                    </a:lnTo>
                    <a:lnTo>
                      <a:pt x="287" y="132"/>
                    </a:lnTo>
                    <a:lnTo>
                      <a:pt x="259" y="0"/>
                    </a:lnTo>
                    <a:lnTo>
                      <a:pt x="178" y="196"/>
                    </a:lnTo>
                    <a:lnTo>
                      <a:pt x="105" y="399"/>
                    </a:lnTo>
                    <a:lnTo>
                      <a:pt x="101" y="429"/>
                    </a:lnTo>
                    <a:lnTo>
                      <a:pt x="97" y="450"/>
                    </a:lnTo>
                    <a:lnTo>
                      <a:pt x="101" y="476"/>
                    </a:lnTo>
                    <a:lnTo>
                      <a:pt x="105" y="493"/>
                    </a:lnTo>
                    <a:lnTo>
                      <a:pt x="101" y="506"/>
                    </a:lnTo>
                    <a:lnTo>
                      <a:pt x="88" y="553"/>
                    </a:lnTo>
                    <a:lnTo>
                      <a:pt x="0" y="768"/>
                    </a:lnTo>
                    <a:lnTo>
                      <a:pt x="109" y="819"/>
                    </a:lnTo>
                    <a:lnTo>
                      <a:pt x="235" y="879"/>
                    </a:lnTo>
                    <a:close/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343240" y="1876320"/>
                <a:ext cx="97200" cy="252720"/>
              </a:xfrm>
              <a:custGeom>
                <a:avLst/>
                <a:gdLst/>
                <a:ahLst/>
                <a:rect l="0" t="0" r="r" b="b"/>
                <a:pathLst>
                  <a:path fill="none" w="270" h="702">
                    <a:moveTo>
                      <a:pt x="157" y="0"/>
                    </a:moveTo>
                    <a:lnTo>
                      <a:pt x="250" y="357"/>
                    </a:lnTo>
                    <a:lnTo>
                      <a:pt x="270" y="425"/>
                    </a:lnTo>
                    <a:lnTo>
                      <a:pt x="266" y="451"/>
                    </a:lnTo>
                    <a:lnTo>
                      <a:pt x="262" y="464"/>
                    </a:lnTo>
                    <a:lnTo>
                      <a:pt x="250" y="468"/>
                    </a:lnTo>
                    <a:lnTo>
                      <a:pt x="181" y="434"/>
                    </a:lnTo>
                    <a:lnTo>
                      <a:pt x="145" y="425"/>
                    </a:lnTo>
                    <a:lnTo>
                      <a:pt x="125" y="421"/>
                    </a:lnTo>
                    <a:lnTo>
                      <a:pt x="101" y="417"/>
                    </a:lnTo>
                    <a:lnTo>
                      <a:pt x="0" y="408"/>
                    </a:lnTo>
                    <a:lnTo>
                      <a:pt x="161" y="583"/>
                    </a:lnTo>
                    <a:lnTo>
                      <a:pt x="161" y="595"/>
                    </a:lnTo>
                    <a:lnTo>
                      <a:pt x="157" y="608"/>
                    </a:lnTo>
                    <a:lnTo>
                      <a:pt x="105" y="646"/>
                    </a:lnTo>
                    <a:lnTo>
                      <a:pt x="24" y="70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238480" y="2023920"/>
                <a:ext cx="197280" cy="51120"/>
              </a:xfrm>
              <a:custGeom>
                <a:avLst/>
                <a:gdLst/>
                <a:ahLst/>
                <a:rect l="0" t="0" r="r" b="b"/>
                <a:pathLst>
                  <a:path w="548" h="142">
                    <a:moveTo>
                      <a:pt x="519" y="55"/>
                    </a:moveTo>
                    <a:lnTo>
                      <a:pt x="456" y="44"/>
                    </a:lnTo>
                    <a:lnTo>
                      <a:pt x="409" y="29"/>
                    </a:lnTo>
                    <a:lnTo>
                      <a:pt x="383" y="25"/>
                    </a:lnTo>
                    <a:lnTo>
                      <a:pt x="371" y="25"/>
                    </a:lnTo>
                    <a:lnTo>
                      <a:pt x="295" y="11"/>
                    </a:lnTo>
                    <a:lnTo>
                      <a:pt x="261" y="7"/>
                    </a:lnTo>
                    <a:lnTo>
                      <a:pt x="244" y="0"/>
                    </a:lnTo>
                    <a:lnTo>
                      <a:pt x="223" y="0"/>
                    </a:lnTo>
                    <a:lnTo>
                      <a:pt x="152" y="7"/>
                    </a:lnTo>
                    <a:lnTo>
                      <a:pt x="79" y="40"/>
                    </a:lnTo>
                    <a:lnTo>
                      <a:pt x="12" y="86"/>
                    </a:lnTo>
                    <a:lnTo>
                      <a:pt x="0" y="130"/>
                    </a:lnTo>
                    <a:lnTo>
                      <a:pt x="109" y="134"/>
                    </a:lnTo>
                    <a:lnTo>
                      <a:pt x="244" y="138"/>
                    </a:lnTo>
                    <a:lnTo>
                      <a:pt x="329" y="142"/>
                    </a:lnTo>
                    <a:lnTo>
                      <a:pt x="439" y="127"/>
                    </a:lnTo>
                    <a:lnTo>
                      <a:pt x="481" y="119"/>
                    </a:lnTo>
                    <a:lnTo>
                      <a:pt x="548" y="82"/>
                    </a:lnTo>
                    <a:lnTo>
                      <a:pt x="519" y="5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370160" y="768240"/>
                <a:ext cx="373320" cy="483120"/>
              </a:xfrm>
              <a:custGeom>
                <a:avLst/>
                <a:gdLst/>
                <a:ahLst/>
                <a:rect l="0" t="0" r="r" b="b"/>
                <a:pathLst>
                  <a:path w="1037" h="1342">
                    <a:moveTo>
                      <a:pt x="792" y="1243"/>
                    </a:moveTo>
                    <a:lnTo>
                      <a:pt x="490" y="1078"/>
                    </a:lnTo>
                    <a:lnTo>
                      <a:pt x="481" y="662"/>
                    </a:lnTo>
                    <a:lnTo>
                      <a:pt x="442" y="416"/>
                    </a:lnTo>
                    <a:lnTo>
                      <a:pt x="369" y="203"/>
                    </a:lnTo>
                    <a:lnTo>
                      <a:pt x="270" y="116"/>
                    </a:lnTo>
                    <a:lnTo>
                      <a:pt x="0" y="0"/>
                    </a:lnTo>
                    <a:lnTo>
                      <a:pt x="429" y="151"/>
                    </a:lnTo>
                    <a:lnTo>
                      <a:pt x="555" y="255"/>
                    </a:lnTo>
                    <a:lnTo>
                      <a:pt x="891" y="874"/>
                    </a:lnTo>
                    <a:lnTo>
                      <a:pt x="1037" y="1342"/>
                    </a:lnTo>
                    <a:lnTo>
                      <a:pt x="792" y="124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547640" y="1154160"/>
                <a:ext cx="365400" cy="435240"/>
              </a:xfrm>
              <a:custGeom>
                <a:avLst/>
                <a:gdLst/>
                <a:ahLst/>
                <a:rect l="0" t="0" r="r" b="b"/>
                <a:pathLst>
                  <a:path w="1015" h="1209">
                    <a:moveTo>
                      <a:pt x="572" y="228"/>
                    </a:moveTo>
                    <a:lnTo>
                      <a:pt x="1015" y="1140"/>
                    </a:lnTo>
                    <a:lnTo>
                      <a:pt x="873" y="1209"/>
                    </a:lnTo>
                    <a:lnTo>
                      <a:pt x="0" y="0"/>
                    </a:lnTo>
                    <a:lnTo>
                      <a:pt x="572" y="228"/>
                    </a:lnTo>
                    <a:close/>
                  </a:path>
                </a:pathLst>
              </a:custGeom>
              <a:solidFill>
                <a:srgbClr val="60001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09680" y="946080"/>
                <a:ext cx="227520" cy="1105200"/>
              </a:xfrm>
              <a:custGeom>
                <a:avLst/>
                <a:gdLst/>
                <a:ahLst/>
                <a:rect l="0" t="0" r="r" b="b"/>
                <a:pathLst>
                  <a:path w="632" h="3070">
                    <a:moveTo>
                      <a:pt x="590" y="3008"/>
                    </a:moveTo>
                    <a:lnTo>
                      <a:pt x="628" y="3070"/>
                    </a:lnTo>
                    <a:lnTo>
                      <a:pt x="632" y="3035"/>
                    </a:lnTo>
                    <a:lnTo>
                      <a:pt x="611" y="2869"/>
                    </a:lnTo>
                    <a:lnTo>
                      <a:pt x="415" y="1762"/>
                    </a:lnTo>
                    <a:lnTo>
                      <a:pt x="271" y="1014"/>
                    </a:lnTo>
                    <a:lnTo>
                      <a:pt x="267" y="874"/>
                    </a:lnTo>
                    <a:lnTo>
                      <a:pt x="288" y="738"/>
                    </a:lnTo>
                    <a:lnTo>
                      <a:pt x="343" y="472"/>
                    </a:lnTo>
                    <a:lnTo>
                      <a:pt x="449" y="209"/>
                    </a:lnTo>
                    <a:lnTo>
                      <a:pt x="564" y="214"/>
                    </a:lnTo>
                    <a:lnTo>
                      <a:pt x="373" y="196"/>
                    </a:lnTo>
                    <a:lnTo>
                      <a:pt x="348" y="284"/>
                    </a:lnTo>
                    <a:lnTo>
                      <a:pt x="267" y="402"/>
                    </a:lnTo>
                    <a:lnTo>
                      <a:pt x="204" y="419"/>
                    </a:lnTo>
                    <a:lnTo>
                      <a:pt x="178" y="371"/>
                    </a:lnTo>
                    <a:lnTo>
                      <a:pt x="166" y="349"/>
                    </a:lnTo>
                    <a:lnTo>
                      <a:pt x="84" y="122"/>
                    </a:lnTo>
                    <a:lnTo>
                      <a:pt x="29" y="8"/>
                    </a:lnTo>
                    <a:lnTo>
                      <a:pt x="21" y="0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0" y="52"/>
                    </a:lnTo>
                    <a:lnTo>
                      <a:pt x="25" y="292"/>
                    </a:lnTo>
                    <a:lnTo>
                      <a:pt x="80" y="550"/>
                    </a:lnTo>
                    <a:lnTo>
                      <a:pt x="263" y="1342"/>
                    </a:lnTo>
                    <a:lnTo>
                      <a:pt x="314" y="1592"/>
                    </a:lnTo>
                    <a:lnTo>
                      <a:pt x="377" y="1959"/>
                    </a:lnTo>
                    <a:lnTo>
                      <a:pt x="480" y="2449"/>
                    </a:lnTo>
                    <a:lnTo>
                      <a:pt x="590" y="3008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7440" y="1366920"/>
                <a:ext cx="52920" cy="186120"/>
              </a:xfrm>
              <a:custGeom>
                <a:avLst/>
                <a:gdLst/>
                <a:ahLst/>
                <a:rect l="0" t="0" r="r" b="b"/>
                <a:pathLst>
                  <a:path w="147" h="517">
                    <a:moveTo>
                      <a:pt x="0" y="0"/>
                    </a:moveTo>
                    <a:lnTo>
                      <a:pt x="101" y="517"/>
                    </a:lnTo>
                    <a:lnTo>
                      <a:pt x="147" y="386"/>
                    </a:lnTo>
                    <a:lnTo>
                      <a:pt x="86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001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071720" y="1433520"/>
                <a:ext cx="282960" cy="483120"/>
              </a:xfrm>
              <a:custGeom>
                <a:avLst/>
                <a:gdLst/>
                <a:ahLst/>
                <a:rect l="0" t="0" r="r" b="b"/>
                <a:pathLst>
                  <a:path w="786" h="1342">
                    <a:moveTo>
                      <a:pt x="474" y="1290"/>
                    </a:moveTo>
                    <a:lnTo>
                      <a:pt x="521" y="1277"/>
                    </a:lnTo>
                    <a:lnTo>
                      <a:pt x="576" y="1264"/>
                    </a:lnTo>
                    <a:lnTo>
                      <a:pt x="620" y="1269"/>
                    </a:lnTo>
                    <a:lnTo>
                      <a:pt x="641" y="1273"/>
                    </a:lnTo>
                    <a:lnTo>
                      <a:pt x="654" y="1277"/>
                    </a:lnTo>
                    <a:lnTo>
                      <a:pt x="718" y="1290"/>
                    </a:lnTo>
                    <a:lnTo>
                      <a:pt x="786" y="1320"/>
                    </a:lnTo>
                    <a:lnTo>
                      <a:pt x="620" y="1048"/>
                    </a:lnTo>
                    <a:lnTo>
                      <a:pt x="410" y="558"/>
                    </a:lnTo>
                    <a:lnTo>
                      <a:pt x="153" y="25"/>
                    </a:lnTo>
                    <a:lnTo>
                      <a:pt x="149" y="0"/>
                    </a:lnTo>
                    <a:lnTo>
                      <a:pt x="0" y="4"/>
                    </a:lnTo>
                    <a:lnTo>
                      <a:pt x="205" y="481"/>
                    </a:lnTo>
                    <a:lnTo>
                      <a:pt x="244" y="606"/>
                    </a:lnTo>
                    <a:lnTo>
                      <a:pt x="265" y="1048"/>
                    </a:lnTo>
                    <a:lnTo>
                      <a:pt x="187" y="1186"/>
                    </a:lnTo>
                    <a:lnTo>
                      <a:pt x="123" y="1342"/>
                    </a:lnTo>
                    <a:lnTo>
                      <a:pt x="474" y="1290"/>
                    </a:lnTo>
                    <a:close/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684440" y="893880"/>
                <a:ext cx="663840" cy="93960"/>
              </a:xfrm>
              <a:custGeom>
                <a:avLst/>
                <a:gdLst/>
                <a:ahLst/>
                <a:rect l="0" t="0" r="r" b="b"/>
                <a:pathLst>
                  <a:path w="1844" h="261">
                    <a:moveTo>
                      <a:pt x="1361" y="88"/>
                    </a:moveTo>
                    <a:lnTo>
                      <a:pt x="1279" y="72"/>
                    </a:lnTo>
                    <a:lnTo>
                      <a:pt x="1213" y="48"/>
                    </a:lnTo>
                    <a:lnTo>
                      <a:pt x="1044" y="24"/>
                    </a:lnTo>
                    <a:lnTo>
                      <a:pt x="996" y="12"/>
                    </a:lnTo>
                    <a:lnTo>
                      <a:pt x="791" y="0"/>
                    </a:lnTo>
                    <a:lnTo>
                      <a:pt x="378" y="16"/>
                    </a:lnTo>
                    <a:lnTo>
                      <a:pt x="0" y="8"/>
                    </a:lnTo>
                    <a:lnTo>
                      <a:pt x="365" y="52"/>
                    </a:lnTo>
                    <a:lnTo>
                      <a:pt x="539" y="48"/>
                    </a:lnTo>
                    <a:lnTo>
                      <a:pt x="847" y="36"/>
                    </a:lnTo>
                    <a:lnTo>
                      <a:pt x="1087" y="64"/>
                    </a:lnTo>
                    <a:lnTo>
                      <a:pt x="1270" y="88"/>
                    </a:lnTo>
                    <a:lnTo>
                      <a:pt x="1348" y="112"/>
                    </a:lnTo>
                    <a:lnTo>
                      <a:pt x="1570" y="205"/>
                    </a:lnTo>
                    <a:lnTo>
                      <a:pt x="1844" y="261"/>
                    </a:lnTo>
                    <a:lnTo>
                      <a:pt x="1609" y="169"/>
                    </a:lnTo>
                    <a:lnTo>
                      <a:pt x="1361" y="88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09520" y="1874880"/>
                <a:ext cx="287640" cy="46440"/>
              </a:xfrm>
              <a:custGeom>
                <a:avLst/>
                <a:gdLst/>
                <a:ahLst/>
                <a:rect l="0" t="0" r="r" b="b"/>
                <a:pathLst>
                  <a:path w="799" h="129">
                    <a:moveTo>
                      <a:pt x="427" y="25"/>
                    </a:moveTo>
                    <a:lnTo>
                      <a:pt x="517" y="0"/>
                    </a:lnTo>
                    <a:lnTo>
                      <a:pt x="590" y="3"/>
                    </a:lnTo>
                    <a:lnTo>
                      <a:pt x="628" y="25"/>
                    </a:lnTo>
                    <a:lnTo>
                      <a:pt x="709" y="63"/>
                    </a:lnTo>
                    <a:lnTo>
                      <a:pt x="799" y="126"/>
                    </a:lnTo>
                    <a:lnTo>
                      <a:pt x="696" y="107"/>
                    </a:lnTo>
                    <a:lnTo>
                      <a:pt x="572" y="63"/>
                    </a:lnTo>
                    <a:lnTo>
                      <a:pt x="449" y="74"/>
                    </a:lnTo>
                    <a:lnTo>
                      <a:pt x="362" y="81"/>
                    </a:lnTo>
                    <a:lnTo>
                      <a:pt x="320" y="104"/>
                    </a:lnTo>
                    <a:lnTo>
                      <a:pt x="247" y="129"/>
                    </a:lnTo>
                    <a:lnTo>
                      <a:pt x="166" y="129"/>
                    </a:lnTo>
                    <a:lnTo>
                      <a:pt x="0" y="129"/>
                    </a:lnTo>
                    <a:lnTo>
                      <a:pt x="162" y="107"/>
                    </a:lnTo>
                    <a:lnTo>
                      <a:pt x="294" y="81"/>
                    </a:lnTo>
                    <a:lnTo>
                      <a:pt x="427" y="2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874880" y="1582560"/>
                <a:ext cx="263880" cy="430560"/>
              </a:xfrm>
              <a:custGeom>
                <a:avLst/>
                <a:gdLst/>
                <a:ahLst/>
                <a:rect l="0" t="0" r="r" b="b"/>
                <a:pathLst>
                  <a:path w="733" h="1196">
                    <a:moveTo>
                      <a:pt x="0" y="34"/>
                    </a:moveTo>
                    <a:lnTo>
                      <a:pt x="25" y="146"/>
                    </a:lnTo>
                    <a:lnTo>
                      <a:pt x="119" y="635"/>
                    </a:lnTo>
                    <a:lnTo>
                      <a:pt x="306" y="1135"/>
                    </a:lnTo>
                    <a:lnTo>
                      <a:pt x="524" y="1196"/>
                    </a:lnTo>
                    <a:lnTo>
                      <a:pt x="733" y="1135"/>
                    </a:lnTo>
                    <a:lnTo>
                      <a:pt x="161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85960" y="1098720"/>
                <a:ext cx="235440" cy="327240"/>
              </a:xfrm>
              <a:custGeom>
                <a:avLst/>
                <a:gdLst/>
                <a:ahLst/>
                <a:rect l="0" t="0" r="r" b="b"/>
                <a:pathLst>
                  <a:path w="654" h="909">
                    <a:moveTo>
                      <a:pt x="654" y="905"/>
                    </a:moveTo>
                    <a:lnTo>
                      <a:pt x="429" y="532"/>
                    </a:lnTo>
                    <a:lnTo>
                      <a:pt x="280" y="222"/>
                    </a:lnTo>
                    <a:lnTo>
                      <a:pt x="127" y="12"/>
                    </a:lnTo>
                    <a:lnTo>
                      <a:pt x="0" y="0"/>
                    </a:lnTo>
                    <a:lnTo>
                      <a:pt x="217" y="385"/>
                    </a:lnTo>
                    <a:lnTo>
                      <a:pt x="471" y="909"/>
                    </a:lnTo>
                    <a:lnTo>
                      <a:pt x="654" y="905"/>
                    </a:lnTo>
                    <a:close/>
                  </a:path>
                </a:pathLst>
              </a:custGeom>
              <a:solidFill>
                <a:srgbClr val="60001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38080" y="849240"/>
                <a:ext cx="90720" cy="244800"/>
              </a:xfrm>
              <a:custGeom>
                <a:avLst/>
                <a:gdLst/>
                <a:ahLst/>
                <a:rect l="0" t="0" r="r" b="b"/>
                <a:pathLst>
                  <a:path w="252" h="680">
                    <a:moveTo>
                      <a:pt x="252" y="680"/>
                    </a:moveTo>
                    <a:lnTo>
                      <a:pt x="144" y="667"/>
                    </a:lnTo>
                    <a:lnTo>
                      <a:pt x="0" y="212"/>
                    </a:lnTo>
                    <a:lnTo>
                      <a:pt x="35" y="0"/>
                    </a:lnTo>
                    <a:lnTo>
                      <a:pt x="71" y="169"/>
                    </a:lnTo>
                    <a:lnTo>
                      <a:pt x="252" y="68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14440" y="4190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