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30320" y="4067280"/>
            <a:ext cx="9984240" cy="2789640"/>
            <a:chOff x="-130320" y="4067280"/>
            <a:chExt cx="9984240" cy="2789640"/>
          </a:xfrm>
        </p:grpSpPr>
        <p:sp>
          <p:nvSpPr>
            <p:cNvPr id="1" name=""/>
            <p:cNvSpPr/>
            <p:nvPr/>
          </p:nvSpPr>
          <p:spPr>
            <a:xfrm>
              <a:off x="5607000" y="5433840"/>
              <a:ext cx="106560" cy="128880"/>
            </a:xfrm>
            <a:custGeom>
              <a:avLst/>
              <a:gdLst/>
              <a:ahLst/>
              <a:rect l="0" t="0" r="r" b="b"/>
              <a:pathLst>
                <a:path w="296" h="358">
                  <a:moveTo>
                    <a:pt x="0" y="106"/>
                  </a:moveTo>
                  <a:lnTo>
                    <a:pt x="0" y="358"/>
                  </a:lnTo>
                  <a:lnTo>
                    <a:pt x="296" y="226"/>
                  </a:lnTo>
                  <a:lnTo>
                    <a:pt x="296" y="0"/>
                  </a:lnTo>
                  <a:lnTo>
                    <a:pt x="0" y="106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23120" y="5141880"/>
              <a:ext cx="1494360" cy="76680"/>
            </a:xfrm>
            <a:custGeom>
              <a:avLst/>
              <a:gdLst/>
              <a:ahLst/>
              <a:rect l="0" t="0" r="r" b="b"/>
              <a:pathLst>
                <a:path w="4151" h="213">
                  <a:moveTo>
                    <a:pt x="0" y="0"/>
                  </a:moveTo>
                  <a:lnTo>
                    <a:pt x="4151" y="0"/>
                  </a:lnTo>
                  <a:lnTo>
                    <a:pt x="4151" y="213"/>
                  </a:lnTo>
                  <a:lnTo>
                    <a:pt x="0" y="2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85080" y="5923080"/>
              <a:ext cx="0" cy="46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4880" y="6041880"/>
              <a:ext cx="0" cy="35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8785080" y="5735520"/>
              <a:ext cx="5040" cy="10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10160" y="5384880"/>
              <a:ext cx="1506960" cy="79560"/>
            </a:xfrm>
            <a:custGeom>
              <a:avLst/>
              <a:gdLst/>
              <a:ahLst/>
              <a:rect l="0" t="0" r="r" b="b"/>
              <a:pathLst>
                <a:path w="4186" h="221">
                  <a:moveTo>
                    <a:pt x="4" y="7"/>
                  </a:moveTo>
                  <a:lnTo>
                    <a:pt x="4186" y="0"/>
                  </a:lnTo>
                  <a:lnTo>
                    <a:pt x="4186" y="221"/>
                  </a:lnTo>
                  <a:lnTo>
                    <a:pt x="0" y="221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607000" y="5624640"/>
              <a:ext cx="106560" cy="132120"/>
            </a:xfrm>
            <a:custGeom>
              <a:avLst/>
              <a:gdLst/>
              <a:ahLst/>
              <a:rect l="0" t="0" r="r" b="b"/>
              <a:pathLst>
                <a:path w="296" h="367">
                  <a:moveTo>
                    <a:pt x="0" y="119"/>
                  </a:moveTo>
                  <a:lnTo>
                    <a:pt x="0" y="367"/>
                  </a:lnTo>
                  <a:lnTo>
                    <a:pt x="296" y="231"/>
                  </a:lnTo>
                  <a:lnTo>
                    <a:pt x="296" y="0"/>
                  </a:lnTo>
                  <a:lnTo>
                    <a:pt x="0" y="119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15320" y="5970600"/>
              <a:ext cx="0" cy="47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23320" y="6091200"/>
              <a:ext cx="0" cy="363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40720" y="5448240"/>
              <a:ext cx="1213200" cy="922680"/>
            </a:xfrm>
            <a:custGeom>
              <a:avLst/>
              <a:gdLst/>
              <a:ahLst/>
              <a:rect l="0" t="0" r="r" b="b"/>
              <a:pathLst>
                <a:path w="3370" h="2563">
                  <a:moveTo>
                    <a:pt x="0" y="0"/>
                  </a:moveTo>
                  <a:lnTo>
                    <a:pt x="39" y="78"/>
                  </a:lnTo>
                  <a:lnTo>
                    <a:pt x="39" y="462"/>
                  </a:lnTo>
                  <a:lnTo>
                    <a:pt x="3111" y="2563"/>
                  </a:lnTo>
                  <a:lnTo>
                    <a:pt x="3370" y="2532"/>
                  </a:lnTo>
                  <a:lnTo>
                    <a:pt x="923" y="886"/>
                  </a:lnTo>
                  <a:lnTo>
                    <a:pt x="354" y="462"/>
                  </a:lnTo>
                  <a:lnTo>
                    <a:pt x="5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6560" y="5719680"/>
              <a:ext cx="873360" cy="702000"/>
            </a:xfrm>
            <a:custGeom>
              <a:avLst/>
              <a:gdLst/>
              <a:ahLst/>
              <a:rect l="0" t="0" r="r" b="b"/>
              <a:pathLst>
                <a:path w="2426" h="1950">
                  <a:moveTo>
                    <a:pt x="0" y="0"/>
                  </a:moveTo>
                  <a:lnTo>
                    <a:pt x="0" y="274"/>
                  </a:lnTo>
                  <a:lnTo>
                    <a:pt x="2304" y="1950"/>
                  </a:lnTo>
                  <a:lnTo>
                    <a:pt x="2426" y="1897"/>
                  </a:lnTo>
                  <a:lnTo>
                    <a:pt x="1164" y="900"/>
                  </a:lnTo>
                  <a:lnTo>
                    <a:pt x="61" y="126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815320" y="5781600"/>
              <a:ext cx="3240" cy="101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850240" y="5781600"/>
              <a:ext cx="3240" cy="101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130320" y="4067280"/>
              <a:ext cx="9968400" cy="2789640"/>
            </a:xfrm>
            <a:custGeom>
              <a:avLst/>
              <a:gdLst/>
              <a:ahLst/>
              <a:rect l="0" t="0" r="r" b="b"/>
              <a:pathLst>
                <a:path w="27690" h="7749">
                  <a:moveTo>
                    <a:pt x="0" y="7749"/>
                  </a:moveTo>
                  <a:lnTo>
                    <a:pt x="8" y="5595"/>
                  </a:lnTo>
                  <a:lnTo>
                    <a:pt x="3211" y="5582"/>
                  </a:lnTo>
                  <a:lnTo>
                    <a:pt x="3339" y="5248"/>
                  </a:lnTo>
                  <a:lnTo>
                    <a:pt x="3462" y="5582"/>
                  </a:lnTo>
                  <a:lnTo>
                    <a:pt x="3542" y="5226"/>
                  </a:lnTo>
                  <a:lnTo>
                    <a:pt x="3652" y="5582"/>
                  </a:lnTo>
                  <a:lnTo>
                    <a:pt x="3771" y="5226"/>
                  </a:lnTo>
                  <a:lnTo>
                    <a:pt x="3894" y="5582"/>
                  </a:lnTo>
                  <a:lnTo>
                    <a:pt x="3894" y="3828"/>
                  </a:lnTo>
                  <a:lnTo>
                    <a:pt x="3823" y="3828"/>
                  </a:lnTo>
                  <a:lnTo>
                    <a:pt x="3823" y="2624"/>
                  </a:lnTo>
                  <a:lnTo>
                    <a:pt x="3894" y="2624"/>
                  </a:lnTo>
                  <a:lnTo>
                    <a:pt x="3991" y="2053"/>
                  </a:lnTo>
                  <a:lnTo>
                    <a:pt x="4061" y="2330"/>
                  </a:lnTo>
                  <a:lnTo>
                    <a:pt x="4194" y="1872"/>
                  </a:lnTo>
                  <a:lnTo>
                    <a:pt x="4304" y="1419"/>
                  </a:lnTo>
                  <a:lnTo>
                    <a:pt x="4387" y="1590"/>
                  </a:lnTo>
                  <a:lnTo>
                    <a:pt x="4511" y="1023"/>
                  </a:lnTo>
                  <a:lnTo>
                    <a:pt x="4511" y="852"/>
                  </a:lnTo>
                  <a:lnTo>
                    <a:pt x="4511" y="931"/>
                  </a:lnTo>
                  <a:lnTo>
                    <a:pt x="4511" y="1023"/>
                  </a:lnTo>
                  <a:lnTo>
                    <a:pt x="4705" y="1590"/>
                  </a:lnTo>
                  <a:lnTo>
                    <a:pt x="4779" y="1419"/>
                  </a:lnTo>
                  <a:lnTo>
                    <a:pt x="4832" y="1590"/>
                  </a:lnTo>
                  <a:lnTo>
                    <a:pt x="4947" y="2013"/>
                  </a:lnTo>
                  <a:lnTo>
                    <a:pt x="5035" y="2330"/>
                  </a:lnTo>
                  <a:lnTo>
                    <a:pt x="5097" y="2053"/>
                  </a:lnTo>
                  <a:lnTo>
                    <a:pt x="5123" y="2171"/>
                  </a:lnTo>
                  <a:lnTo>
                    <a:pt x="5180" y="2330"/>
                  </a:lnTo>
                  <a:lnTo>
                    <a:pt x="5180" y="2624"/>
                  </a:lnTo>
                  <a:lnTo>
                    <a:pt x="5242" y="2624"/>
                  </a:lnTo>
                  <a:lnTo>
                    <a:pt x="5242" y="3815"/>
                  </a:lnTo>
                  <a:lnTo>
                    <a:pt x="5180" y="3815"/>
                  </a:lnTo>
                  <a:lnTo>
                    <a:pt x="5180" y="4474"/>
                  </a:lnTo>
                  <a:lnTo>
                    <a:pt x="5242" y="4382"/>
                  </a:lnTo>
                  <a:lnTo>
                    <a:pt x="5357" y="4756"/>
                  </a:lnTo>
                  <a:lnTo>
                    <a:pt x="5357" y="5309"/>
                  </a:lnTo>
                  <a:lnTo>
                    <a:pt x="5427" y="5309"/>
                  </a:lnTo>
                  <a:lnTo>
                    <a:pt x="5427" y="4663"/>
                  </a:lnTo>
                  <a:lnTo>
                    <a:pt x="5533" y="4457"/>
                  </a:lnTo>
                  <a:lnTo>
                    <a:pt x="5612" y="4725"/>
                  </a:lnTo>
                  <a:lnTo>
                    <a:pt x="5696" y="4580"/>
                  </a:lnTo>
                  <a:lnTo>
                    <a:pt x="5784" y="4725"/>
                  </a:lnTo>
                  <a:lnTo>
                    <a:pt x="5832" y="4580"/>
                  </a:lnTo>
                  <a:lnTo>
                    <a:pt x="5894" y="4725"/>
                  </a:lnTo>
                  <a:lnTo>
                    <a:pt x="5987" y="4457"/>
                  </a:lnTo>
                  <a:lnTo>
                    <a:pt x="6101" y="4703"/>
                  </a:lnTo>
                  <a:lnTo>
                    <a:pt x="6101" y="5393"/>
                  </a:lnTo>
                  <a:lnTo>
                    <a:pt x="6163" y="5393"/>
                  </a:lnTo>
                  <a:lnTo>
                    <a:pt x="6163" y="5309"/>
                  </a:lnTo>
                  <a:lnTo>
                    <a:pt x="6224" y="5309"/>
                  </a:lnTo>
                  <a:lnTo>
                    <a:pt x="6286" y="5226"/>
                  </a:lnTo>
                  <a:lnTo>
                    <a:pt x="6476" y="5226"/>
                  </a:lnTo>
                  <a:lnTo>
                    <a:pt x="6476" y="5582"/>
                  </a:lnTo>
                  <a:lnTo>
                    <a:pt x="6780" y="5582"/>
                  </a:lnTo>
                  <a:lnTo>
                    <a:pt x="6899" y="5226"/>
                  </a:lnTo>
                  <a:lnTo>
                    <a:pt x="6824" y="5116"/>
                  </a:lnTo>
                  <a:lnTo>
                    <a:pt x="6868" y="4936"/>
                  </a:lnTo>
                  <a:lnTo>
                    <a:pt x="6899" y="4927"/>
                  </a:lnTo>
                  <a:lnTo>
                    <a:pt x="7455" y="4927"/>
                  </a:lnTo>
                  <a:lnTo>
                    <a:pt x="7455" y="4791"/>
                  </a:lnTo>
                  <a:lnTo>
                    <a:pt x="7318" y="4703"/>
                  </a:lnTo>
                  <a:lnTo>
                    <a:pt x="7455" y="4703"/>
                  </a:lnTo>
                  <a:lnTo>
                    <a:pt x="7538" y="4703"/>
                  </a:lnTo>
                  <a:lnTo>
                    <a:pt x="7706" y="4457"/>
                  </a:lnTo>
                  <a:lnTo>
                    <a:pt x="7538" y="4426"/>
                  </a:lnTo>
                  <a:lnTo>
                    <a:pt x="7521" y="4290"/>
                  </a:lnTo>
                  <a:lnTo>
                    <a:pt x="7565" y="4180"/>
                  </a:lnTo>
                  <a:lnTo>
                    <a:pt x="7706" y="4180"/>
                  </a:lnTo>
                  <a:lnTo>
                    <a:pt x="7706" y="4092"/>
                  </a:lnTo>
                  <a:lnTo>
                    <a:pt x="7706" y="4013"/>
                  </a:lnTo>
                  <a:lnTo>
                    <a:pt x="7798" y="4013"/>
                  </a:lnTo>
                  <a:lnTo>
                    <a:pt x="7891" y="3828"/>
                  </a:lnTo>
                  <a:lnTo>
                    <a:pt x="7706" y="3815"/>
                  </a:lnTo>
                  <a:lnTo>
                    <a:pt x="7662" y="3740"/>
                  </a:lnTo>
                  <a:lnTo>
                    <a:pt x="7631" y="3635"/>
                  </a:lnTo>
                  <a:lnTo>
                    <a:pt x="7679" y="3547"/>
                  </a:lnTo>
                  <a:lnTo>
                    <a:pt x="7820" y="3543"/>
                  </a:lnTo>
                  <a:lnTo>
                    <a:pt x="7882" y="3543"/>
                  </a:lnTo>
                  <a:lnTo>
                    <a:pt x="7882" y="3455"/>
                  </a:lnTo>
                  <a:lnTo>
                    <a:pt x="7820" y="3455"/>
                  </a:lnTo>
                  <a:lnTo>
                    <a:pt x="7882" y="3428"/>
                  </a:lnTo>
                  <a:lnTo>
                    <a:pt x="7772" y="3428"/>
                  </a:lnTo>
                  <a:lnTo>
                    <a:pt x="7772" y="3283"/>
                  </a:lnTo>
                  <a:lnTo>
                    <a:pt x="7860" y="3064"/>
                  </a:lnTo>
                  <a:lnTo>
                    <a:pt x="7939" y="3081"/>
                  </a:lnTo>
                  <a:lnTo>
                    <a:pt x="7834" y="2976"/>
                  </a:lnTo>
                  <a:lnTo>
                    <a:pt x="7834" y="2800"/>
                  </a:lnTo>
                  <a:lnTo>
                    <a:pt x="7944" y="2800"/>
                  </a:lnTo>
                  <a:lnTo>
                    <a:pt x="7882" y="2686"/>
                  </a:lnTo>
                  <a:lnTo>
                    <a:pt x="7957" y="2624"/>
                  </a:lnTo>
                  <a:lnTo>
                    <a:pt x="7957" y="2549"/>
                  </a:lnTo>
                  <a:lnTo>
                    <a:pt x="8005" y="2431"/>
                  </a:lnTo>
                  <a:lnTo>
                    <a:pt x="8058" y="2330"/>
                  </a:lnTo>
                  <a:lnTo>
                    <a:pt x="8005" y="2150"/>
                  </a:lnTo>
                  <a:lnTo>
                    <a:pt x="8036" y="2053"/>
                  </a:lnTo>
                  <a:lnTo>
                    <a:pt x="8005" y="1956"/>
                  </a:lnTo>
                  <a:lnTo>
                    <a:pt x="7882" y="1956"/>
                  </a:lnTo>
                  <a:lnTo>
                    <a:pt x="7834" y="1978"/>
                  </a:lnTo>
                  <a:lnTo>
                    <a:pt x="7679" y="1933"/>
                  </a:lnTo>
                  <a:lnTo>
                    <a:pt x="7521" y="1956"/>
                  </a:lnTo>
                  <a:lnTo>
                    <a:pt x="7507" y="1872"/>
                  </a:lnTo>
                  <a:lnTo>
                    <a:pt x="7662" y="1779"/>
                  </a:lnTo>
                  <a:lnTo>
                    <a:pt x="7754" y="1872"/>
                  </a:lnTo>
                  <a:lnTo>
                    <a:pt x="7939" y="1872"/>
                  </a:lnTo>
                  <a:lnTo>
                    <a:pt x="8058" y="1779"/>
                  </a:lnTo>
                  <a:lnTo>
                    <a:pt x="8133" y="1753"/>
                  </a:lnTo>
                  <a:lnTo>
                    <a:pt x="8058" y="1656"/>
                  </a:lnTo>
                  <a:lnTo>
                    <a:pt x="8005" y="1590"/>
                  </a:lnTo>
                  <a:lnTo>
                    <a:pt x="7944" y="1538"/>
                  </a:lnTo>
                  <a:lnTo>
                    <a:pt x="8058" y="1481"/>
                  </a:lnTo>
                  <a:lnTo>
                    <a:pt x="8005" y="1415"/>
                  </a:lnTo>
                  <a:lnTo>
                    <a:pt x="8058" y="1226"/>
                  </a:lnTo>
                  <a:lnTo>
                    <a:pt x="8005" y="1116"/>
                  </a:lnTo>
                  <a:lnTo>
                    <a:pt x="8058" y="944"/>
                  </a:lnTo>
                  <a:lnTo>
                    <a:pt x="8005" y="747"/>
                  </a:lnTo>
                  <a:lnTo>
                    <a:pt x="8058" y="597"/>
                  </a:lnTo>
                  <a:lnTo>
                    <a:pt x="8023" y="492"/>
                  </a:lnTo>
                  <a:lnTo>
                    <a:pt x="8252" y="654"/>
                  </a:lnTo>
                  <a:lnTo>
                    <a:pt x="8323" y="852"/>
                  </a:lnTo>
                  <a:lnTo>
                    <a:pt x="8371" y="1116"/>
                  </a:lnTo>
                  <a:lnTo>
                    <a:pt x="8371" y="1415"/>
                  </a:lnTo>
                  <a:lnTo>
                    <a:pt x="8477" y="1507"/>
                  </a:lnTo>
                  <a:lnTo>
                    <a:pt x="8591" y="1419"/>
                  </a:lnTo>
                  <a:lnTo>
                    <a:pt x="8666" y="1415"/>
                  </a:lnTo>
                  <a:lnTo>
                    <a:pt x="8851" y="1406"/>
                  </a:lnTo>
                  <a:lnTo>
                    <a:pt x="8975" y="1322"/>
                  </a:lnTo>
                  <a:lnTo>
                    <a:pt x="9146" y="1296"/>
                  </a:lnTo>
                  <a:lnTo>
                    <a:pt x="9362" y="1450"/>
                  </a:lnTo>
                  <a:lnTo>
                    <a:pt x="9230" y="1419"/>
                  </a:lnTo>
                  <a:lnTo>
                    <a:pt x="9093" y="1450"/>
                  </a:lnTo>
                  <a:lnTo>
                    <a:pt x="8975" y="1498"/>
                  </a:lnTo>
                  <a:lnTo>
                    <a:pt x="8794" y="1590"/>
                  </a:lnTo>
                  <a:lnTo>
                    <a:pt x="8644" y="1626"/>
                  </a:lnTo>
                  <a:lnTo>
                    <a:pt x="8693" y="1691"/>
                  </a:lnTo>
                  <a:lnTo>
                    <a:pt x="8679" y="1753"/>
                  </a:lnTo>
                  <a:lnTo>
                    <a:pt x="8644" y="1872"/>
                  </a:lnTo>
                  <a:lnTo>
                    <a:pt x="8741" y="1872"/>
                  </a:lnTo>
                  <a:lnTo>
                    <a:pt x="8794" y="1872"/>
                  </a:lnTo>
                  <a:lnTo>
                    <a:pt x="8794" y="1779"/>
                  </a:lnTo>
                  <a:lnTo>
                    <a:pt x="8864" y="1683"/>
                  </a:lnTo>
                  <a:lnTo>
                    <a:pt x="8908" y="1590"/>
                  </a:lnTo>
                  <a:lnTo>
                    <a:pt x="8908" y="1683"/>
                  </a:lnTo>
                  <a:lnTo>
                    <a:pt x="8864" y="1872"/>
                  </a:lnTo>
                  <a:lnTo>
                    <a:pt x="8794" y="1956"/>
                  </a:lnTo>
                  <a:lnTo>
                    <a:pt x="8794" y="2053"/>
                  </a:lnTo>
                  <a:lnTo>
                    <a:pt x="8741" y="2053"/>
                  </a:lnTo>
                  <a:lnTo>
                    <a:pt x="8666" y="2150"/>
                  </a:lnTo>
                  <a:lnTo>
                    <a:pt x="8560" y="2207"/>
                  </a:lnTo>
                  <a:lnTo>
                    <a:pt x="8463" y="2237"/>
                  </a:lnTo>
                  <a:lnTo>
                    <a:pt x="8481" y="2150"/>
                  </a:lnTo>
                  <a:lnTo>
                    <a:pt x="8741" y="1956"/>
                  </a:lnTo>
                  <a:lnTo>
                    <a:pt x="8613" y="1956"/>
                  </a:lnTo>
                  <a:lnTo>
                    <a:pt x="8481" y="1779"/>
                  </a:lnTo>
                  <a:lnTo>
                    <a:pt x="8190" y="1956"/>
                  </a:lnTo>
                  <a:lnTo>
                    <a:pt x="8190" y="2053"/>
                  </a:lnTo>
                  <a:lnTo>
                    <a:pt x="8190" y="2246"/>
                  </a:lnTo>
                  <a:lnTo>
                    <a:pt x="8133" y="2431"/>
                  </a:lnTo>
                  <a:lnTo>
                    <a:pt x="8133" y="2514"/>
                  </a:lnTo>
                  <a:lnTo>
                    <a:pt x="8133" y="2593"/>
                  </a:lnTo>
                  <a:lnTo>
                    <a:pt x="8190" y="2686"/>
                  </a:lnTo>
                  <a:lnTo>
                    <a:pt x="8133" y="2800"/>
                  </a:lnTo>
                  <a:lnTo>
                    <a:pt x="8252" y="2800"/>
                  </a:lnTo>
                  <a:lnTo>
                    <a:pt x="8243" y="2976"/>
                  </a:lnTo>
                  <a:lnTo>
                    <a:pt x="8190" y="3064"/>
                  </a:lnTo>
                  <a:lnTo>
                    <a:pt x="8252" y="3081"/>
                  </a:lnTo>
                  <a:lnTo>
                    <a:pt x="8278" y="3178"/>
                  </a:lnTo>
                  <a:lnTo>
                    <a:pt x="8323" y="3248"/>
                  </a:lnTo>
                  <a:lnTo>
                    <a:pt x="8340" y="3248"/>
                  </a:lnTo>
                  <a:lnTo>
                    <a:pt x="8371" y="3358"/>
                  </a:lnTo>
                  <a:lnTo>
                    <a:pt x="8371" y="3455"/>
                  </a:lnTo>
                  <a:lnTo>
                    <a:pt x="8323" y="3455"/>
                  </a:lnTo>
                  <a:lnTo>
                    <a:pt x="8323" y="3543"/>
                  </a:lnTo>
                  <a:lnTo>
                    <a:pt x="8424" y="3547"/>
                  </a:lnTo>
                  <a:lnTo>
                    <a:pt x="8521" y="3670"/>
                  </a:lnTo>
                  <a:lnTo>
                    <a:pt x="8521" y="3740"/>
                  </a:lnTo>
                  <a:lnTo>
                    <a:pt x="8463" y="3828"/>
                  </a:lnTo>
                  <a:lnTo>
                    <a:pt x="8270" y="3828"/>
                  </a:lnTo>
                  <a:lnTo>
                    <a:pt x="8340" y="4013"/>
                  </a:lnTo>
                  <a:lnTo>
                    <a:pt x="8371" y="4013"/>
                  </a:lnTo>
                  <a:lnTo>
                    <a:pt x="8433" y="4013"/>
                  </a:lnTo>
                  <a:lnTo>
                    <a:pt x="8424" y="4013"/>
                  </a:lnTo>
                  <a:lnTo>
                    <a:pt x="8433" y="4092"/>
                  </a:lnTo>
                  <a:lnTo>
                    <a:pt x="8433" y="4180"/>
                  </a:lnTo>
                  <a:lnTo>
                    <a:pt x="8481" y="4180"/>
                  </a:lnTo>
                  <a:lnTo>
                    <a:pt x="8560" y="4215"/>
                  </a:lnTo>
                  <a:lnTo>
                    <a:pt x="8587" y="4290"/>
                  </a:lnTo>
                  <a:lnTo>
                    <a:pt x="8560" y="4382"/>
                  </a:lnTo>
                  <a:lnTo>
                    <a:pt x="8463" y="4457"/>
                  </a:lnTo>
                  <a:lnTo>
                    <a:pt x="8591" y="4703"/>
                  </a:lnTo>
                  <a:lnTo>
                    <a:pt x="8812" y="4703"/>
                  </a:lnTo>
                  <a:lnTo>
                    <a:pt x="8741" y="4791"/>
                  </a:lnTo>
                  <a:lnTo>
                    <a:pt x="8741" y="4927"/>
                  </a:lnTo>
                  <a:lnTo>
                    <a:pt x="8723" y="4936"/>
                  </a:lnTo>
                  <a:lnTo>
                    <a:pt x="9226" y="4927"/>
                  </a:lnTo>
                  <a:lnTo>
                    <a:pt x="9173" y="5116"/>
                  </a:lnTo>
                  <a:lnTo>
                    <a:pt x="9173" y="5582"/>
                  </a:lnTo>
                  <a:lnTo>
                    <a:pt x="9173" y="5696"/>
                  </a:lnTo>
                  <a:lnTo>
                    <a:pt x="9415" y="5696"/>
                  </a:lnTo>
                  <a:lnTo>
                    <a:pt x="9402" y="5309"/>
                  </a:lnTo>
                  <a:lnTo>
                    <a:pt x="9719" y="5309"/>
                  </a:lnTo>
                  <a:lnTo>
                    <a:pt x="9719" y="4663"/>
                  </a:lnTo>
                  <a:lnTo>
                    <a:pt x="9891" y="4663"/>
                  </a:lnTo>
                  <a:lnTo>
                    <a:pt x="10014" y="4369"/>
                  </a:lnTo>
                  <a:lnTo>
                    <a:pt x="10146" y="4663"/>
                  </a:lnTo>
                  <a:lnTo>
                    <a:pt x="10508" y="4663"/>
                  </a:lnTo>
                  <a:lnTo>
                    <a:pt x="10508" y="4180"/>
                  </a:lnTo>
                  <a:lnTo>
                    <a:pt x="10697" y="3595"/>
                  </a:lnTo>
                  <a:lnTo>
                    <a:pt x="10829" y="3925"/>
                  </a:lnTo>
                  <a:lnTo>
                    <a:pt x="10882" y="3718"/>
                  </a:lnTo>
                  <a:lnTo>
                    <a:pt x="11014" y="3718"/>
                  </a:lnTo>
                  <a:lnTo>
                    <a:pt x="11186" y="3358"/>
                  </a:lnTo>
                  <a:lnTo>
                    <a:pt x="11420" y="3718"/>
                  </a:lnTo>
                  <a:lnTo>
                    <a:pt x="11420" y="3266"/>
                  </a:lnTo>
                  <a:lnTo>
                    <a:pt x="11309" y="3156"/>
                  </a:lnTo>
                  <a:lnTo>
                    <a:pt x="11292" y="2998"/>
                  </a:lnTo>
                  <a:lnTo>
                    <a:pt x="11309" y="2870"/>
                  </a:lnTo>
                  <a:lnTo>
                    <a:pt x="11349" y="2769"/>
                  </a:lnTo>
                  <a:lnTo>
                    <a:pt x="11450" y="2576"/>
                  </a:lnTo>
                  <a:lnTo>
                    <a:pt x="11530" y="2514"/>
                  </a:lnTo>
                  <a:lnTo>
                    <a:pt x="11662" y="2431"/>
                  </a:lnTo>
                  <a:lnTo>
                    <a:pt x="11530" y="2431"/>
                  </a:lnTo>
                  <a:lnTo>
                    <a:pt x="11530" y="2246"/>
                  </a:lnTo>
                  <a:lnTo>
                    <a:pt x="11530" y="2150"/>
                  </a:lnTo>
                  <a:lnTo>
                    <a:pt x="11697" y="2150"/>
                  </a:lnTo>
                  <a:lnTo>
                    <a:pt x="11732" y="1854"/>
                  </a:lnTo>
                  <a:lnTo>
                    <a:pt x="11847" y="1586"/>
                  </a:lnTo>
                  <a:lnTo>
                    <a:pt x="11944" y="1428"/>
                  </a:lnTo>
                  <a:lnTo>
                    <a:pt x="12050" y="1322"/>
                  </a:lnTo>
                  <a:lnTo>
                    <a:pt x="12283" y="1173"/>
                  </a:lnTo>
                  <a:lnTo>
                    <a:pt x="12283" y="1032"/>
                  </a:lnTo>
                  <a:lnTo>
                    <a:pt x="12415" y="1032"/>
                  </a:lnTo>
                  <a:lnTo>
                    <a:pt x="12415" y="654"/>
                  </a:lnTo>
                  <a:lnTo>
                    <a:pt x="12367" y="654"/>
                  </a:lnTo>
                  <a:lnTo>
                    <a:pt x="12367" y="500"/>
                  </a:lnTo>
                  <a:lnTo>
                    <a:pt x="12486" y="492"/>
                  </a:lnTo>
                  <a:lnTo>
                    <a:pt x="12547" y="298"/>
                  </a:lnTo>
                  <a:lnTo>
                    <a:pt x="12415" y="298"/>
                  </a:lnTo>
                  <a:lnTo>
                    <a:pt x="12415" y="180"/>
                  </a:lnTo>
                  <a:lnTo>
                    <a:pt x="12569" y="180"/>
                  </a:lnTo>
                  <a:lnTo>
                    <a:pt x="12569" y="0"/>
                  </a:lnTo>
                  <a:lnTo>
                    <a:pt x="12702" y="0"/>
                  </a:lnTo>
                  <a:lnTo>
                    <a:pt x="12702" y="114"/>
                  </a:lnTo>
                  <a:lnTo>
                    <a:pt x="12702" y="180"/>
                  </a:lnTo>
                  <a:lnTo>
                    <a:pt x="12847" y="180"/>
                  </a:lnTo>
                  <a:lnTo>
                    <a:pt x="12847" y="298"/>
                  </a:lnTo>
                  <a:lnTo>
                    <a:pt x="12737" y="290"/>
                  </a:lnTo>
                  <a:lnTo>
                    <a:pt x="12807" y="500"/>
                  </a:lnTo>
                  <a:lnTo>
                    <a:pt x="12882" y="500"/>
                  </a:lnTo>
                  <a:lnTo>
                    <a:pt x="12882" y="654"/>
                  </a:lnTo>
                  <a:lnTo>
                    <a:pt x="12847" y="654"/>
                  </a:lnTo>
                  <a:lnTo>
                    <a:pt x="12847" y="1032"/>
                  </a:lnTo>
                  <a:lnTo>
                    <a:pt x="12966" y="1032"/>
                  </a:lnTo>
                  <a:lnTo>
                    <a:pt x="12966" y="1173"/>
                  </a:lnTo>
                  <a:lnTo>
                    <a:pt x="13094" y="1226"/>
                  </a:lnTo>
                  <a:lnTo>
                    <a:pt x="13252" y="1415"/>
                  </a:lnTo>
                  <a:lnTo>
                    <a:pt x="13336" y="1590"/>
                  </a:lnTo>
                  <a:lnTo>
                    <a:pt x="13446" y="1771"/>
                  </a:lnTo>
                  <a:lnTo>
                    <a:pt x="13525" y="2150"/>
                  </a:lnTo>
                  <a:lnTo>
                    <a:pt x="13640" y="2150"/>
                  </a:lnTo>
                  <a:lnTo>
                    <a:pt x="13640" y="2330"/>
                  </a:lnTo>
                  <a:lnTo>
                    <a:pt x="13640" y="2431"/>
                  </a:lnTo>
                  <a:lnTo>
                    <a:pt x="13578" y="2431"/>
                  </a:lnTo>
                  <a:lnTo>
                    <a:pt x="13759" y="2646"/>
                  </a:lnTo>
                  <a:lnTo>
                    <a:pt x="13838" y="2787"/>
                  </a:lnTo>
                  <a:lnTo>
                    <a:pt x="13860" y="2976"/>
                  </a:lnTo>
                  <a:lnTo>
                    <a:pt x="13838" y="3178"/>
                  </a:lnTo>
                  <a:lnTo>
                    <a:pt x="13746" y="3266"/>
                  </a:lnTo>
                  <a:lnTo>
                    <a:pt x="13746" y="3367"/>
                  </a:lnTo>
                  <a:lnTo>
                    <a:pt x="13746" y="3718"/>
                  </a:lnTo>
                  <a:lnTo>
                    <a:pt x="14750" y="3543"/>
                  </a:lnTo>
                  <a:lnTo>
                    <a:pt x="14741" y="2787"/>
                  </a:lnTo>
                  <a:lnTo>
                    <a:pt x="14856" y="2787"/>
                  </a:lnTo>
                  <a:lnTo>
                    <a:pt x="15098" y="1683"/>
                  </a:lnTo>
                  <a:lnTo>
                    <a:pt x="15296" y="2800"/>
                  </a:lnTo>
                  <a:lnTo>
                    <a:pt x="15398" y="2787"/>
                  </a:lnTo>
                  <a:lnTo>
                    <a:pt x="15398" y="3512"/>
                  </a:lnTo>
                  <a:lnTo>
                    <a:pt x="15614" y="3512"/>
                  </a:lnTo>
                  <a:lnTo>
                    <a:pt x="15671" y="3543"/>
                  </a:lnTo>
                  <a:lnTo>
                    <a:pt x="15671" y="3626"/>
                  </a:lnTo>
                  <a:lnTo>
                    <a:pt x="15922" y="3626"/>
                  </a:lnTo>
                  <a:lnTo>
                    <a:pt x="15922" y="5696"/>
                  </a:lnTo>
                  <a:lnTo>
                    <a:pt x="16244" y="5696"/>
                  </a:lnTo>
                  <a:lnTo>
                    <a:pt x="16244" y="3543"/>
                  </a:lnTo>
                  <a:lnTo>
                    <a:pt x="16173" y="3512"/>
                  </a:lnTo>
                  <a:lnTo>
                    <a:pt x="16173" y="2615"/>
                  </a:lnTo>
                  <a:lnTo>
                    <a:pt x="16345" y="2053"/>
                  </a:lnTo>
                  <a:lnTo>
                    <a:pt x="16345" y="1740"/>
                  </a:lnTo>
                  <a:lnTo>
                    <a:pt x="16345" y="2066"/>
                  </a:lnTo>
                  <a:lnTo>
                    <a:pt x="16574" y="2615"/>
                  </a:lnTo>
                  <a:lnTo>
                    <a:pt x="17138" y="1107"/>
                  </a:lnTo>
                  <a:lnTo>
                    <a:pt x="17138" y="747"/>
                  </a:lnTo>
                  <a:lnTo>
                    <a:pt x="17138" y="1032"/>
                  </a:lnTo>
                  <a:lnTo>
                    <a:pt x="17768" y="2615"/>
                  </a:lnTo>
                  <a:lnTo>
                    <a:pt x="17935" y="2026"/>
                  </a:lnTo>
                  <a:lnTo>
                    <a:pt x="17957" y="1779"/>
                  </a:lnTo>
                  <a:lnTo>
                    <a:pt x="17935" y="2026"/>
                  </a:lnTo>
                  <a:lnTo>
                    <a:pt x="18094" y="2615"/>
                  </a:lnTo>
                  <a:lnTo>
                    <a:pt x="18186" y="2624"/>
                  </a:lnTo>
                  <a:lnTo>
                    <a:pt x="18186" y="2976"/>
                  </a:lnTo>
                  <a:lnTo>
                    <a:pt x="18129" y="4180"/>
                  </a:lnTo>
                  <a:lnTo>
                    <a:pt x="18116" y="6044"/>
                  </a:lnTo>
                  <a:lnTo>
                    <a:pt x="18490" y="6044"/>
                  </a:lnTo>
                  <a:lnTo>
                    <a:pt x="18490" y="6233"/>
                  </a:lnTo>
                  <a:lnTo>
                    <a:pt x="18482" y="6492"/>
                  </a:lnTo>
                  <a:lnTo>
                    <a:pt x="21915" y="6492"/>
                  </a:lnTo>
                  <a:lnTo>
                    <a:pt x="21866" y="6791"/>
                  </a:lnTo>
                  <a:lnTo>
                    <a:pt x="21866" y="6062"/>
                  </a:lnTo>
                  <a:lnTo>
                    <a:pt x="22359" y="6062"/>
                  </a:lnTo>
                  <a:lnTo>
                    <a:pt x="22359" y="2624"/>
                  </a:lnTo>
                  <a:lnTo>
                    <a:pt x="22285" y="2615"/>
                  </a:lnTo>
                  <a:lnTo>
                    <a:pt x="22298" y="2066"/>
                  </a:lnTo>
                  <a:lnTo>
                    <a:pt x="22421" y="2053"/>
                  </a:lnTo>
                  <a:lnTo>
                    <a:pt x="22637" y="1415"/>
                  </a:lnTo>
                  <a:lnTo>
                    <a:pt x="22637" y="1186"/>
                  </a:lnTo>
                  <a:lnTo>
                    <a:pt x="22637" y="1415"/>
                  </a:lnTo>
                  <a:lnTo>
                    <a:pt x="22915" y="1956"/>
                  </a:lnTo>
                  <a:lnTo>
                    <a:pt x="23324" y="571"/>
                  </a:lnTo>
                  <a:lnTo>
                    <a:pt x="23324" y="290"/>
                  </a:lnTo>
                  <a:lnTo>
                    <a:pt x="23324" y="654"/>
                  </a:lnTo>
                  <a:lnTo>
                    <a:pt x="23818" y="1974"/>
                  </a:lnTo>
                  <a:lnTo>
                    <a:pt x="23871" y="1974"/>
                  </a:lnTo>
                  <a:lnTo>
                    <a:pt x="24078" y="1415"/>
                  </a:lnTo>
                  <a:lnTo>
                    <a:pt x="24078" y="1226"/>
                  </a:lnTo>
                  <a:lnTo>
                    <a:pt x="24078" y="1415"/>
                  </a:lnTo>
                  <a:lnTo>
                    <a:pt x="24249" y="1974"/>
                  </a:lnTo>
                  <a:lnTo>
                    <a:pt x="24386" y="1956"/>
                  </a:lnTo>
                  <a:lnTo>
                    <a:pt x="24386" y="2624"/>
                  </a:lnTo>
                  <a:lnTo>
                    <a:pt x="24307" y="2624"/>
                  </a:lnTo>
                  <a:lnTo>
                    <a:pt x="24324" y="6044"/>
                  </a:lnTo>
                  <a:lnTo>
                    <a:pt x="24571" y="6044"/>
                  </a:lnTo>
                  <a:lnTo>
                    <a:pt x="24571" y="6435"/>
                  </a:lnTo>
                  <a:lnTo>
                    <a:pt x="27690" y="6312"/>
                  </a:lnTo>
                  <a:lnTo>
                    <a:pt x="26382" y="7688"/>
                  </a:lnTo>
                  <a:lnTo>
                    <a:pt x="0" y="7749"/>
                  </a:lnTo>
                  <a:close/>
                </a:path>
              </a:pathLst>
            </a:custGeom>
            <a:gradFill rotWithShape="0">
              <a:gsLst>
                <a:gs pos="0">
                  <a:srgbClr val="1083e3"/>
                </a:gs>
                <a:gs pos="100000">
                  <a:srgbClr val="6fb4e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2075040" y="1444680"/>
            <a:ext cx="9150480" cy="249120"/>
            <a:chOff x="2075040" y="1444680"/>
            <a:chExt cx="9150480" cy="249120"/>
          </a:xfrm>
        </p:grpSpPr>
        <p:sp>
          <p:nvSpPr>
            <p:cNvPr id="16" name=""/>
            <p:cNvSpPr/>
            <p:nvPr/>
          </p:nvSpPr>
          <p:spPr>
            <a:xfrm>
              <a:off x="2075040" y="1444680"/>
              <a:ext cx="9150480" cy="58680"/>
            </a:xfrm>
            <a:prstGeom prst="rect">
              <a:avLst/>
            </a:prstGeom>
            <a:gradFill rotWithShape="0">
              <a:gsLst>
                <a:gs pos="0">
                  <a:srgbClr val="084477"/>
                </a:gs>
                <a:gs pos="100000">
                  <a:srgbClr val="6a8ead"/>
                </a:gs>
              </a:gsLst>
              <a:lin ang="0"/>
            </a:gradFill>
            <a:ln w="0">
              <a:noFill/>
            </a:ln>
          </p:spPr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075040" y="1635120"/>
              <a:ext cx="9150480" cy="58680"/>
            </a:xfrm>
            <a:prstGeom prst="rect">
              <a:avLst/>
            </a:prstGeom>
            <a:gradFill rotWithShape="0">
              <a:gsLst>
                <a:gs pos="0">
                  <a:srgbClr val="084477"/>
                </a:gs>
                <a:gs pos="100000">
                  <a:srgbClr val="6a8ead"/>
                </a:gs>
              </a:gsLst>
              <a:lin ang="0"/>
            </a:gradFill>
            <a:ln w="0">
              <a:noFill/>
            </a:ln>
          </p:spPr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d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ke Kolbe</cp:lastModifiedBy>
  <cp:revision>0</cp:revision>
  <dc:subject/>
  <dc:title/>
</cp:coreProperties>
</file>